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D47-3054-49DA-BD0F-674CBF20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BA9-2113-4AE1-9C66-39115082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47F-B279-4FB6-8F7B-3D59D9A0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9C8-2F35-4F74-8848-0B1D01F5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1DC8-1B64-47E3-A624-EA0C5797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FC45-3FCE-49DA-AC9A-85CF8439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4EC-F372-41C6-8C76-05B45F01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EA0-80DA-4A61-93A0-43B52530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B99-44C2-4AF3-9347-5814B430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020F-EFED-4DC3-965E-E9C93688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712-1C25-4BD1-8E74-1E6430CB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B36D-8D51-4D41-BC7F-3173196C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145D-1FA9-4AB6-AC8C-5636F8F0D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jor conflicts are presently occurring in South A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are between religious groups, over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Kashm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ri La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– Copy this chart in your note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it Kashmir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7920" y="2133720"/>
          <a:ext cx="6095880" cy="4064040"/>
        </p:xfrm>
        <a:graphic>
          <a:graphicData uri="http://schemas.openxmlformats.org/drawingml/2006/table">
            <a:tbl>
              <a:tblPr/>
              <a:tblGrid>
                <a:gridCol w="1523880"/>
                <a:gridCol w="45720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Moonland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shm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: Kashmi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ertile river valley between 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: Major water source provided by melting glac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: A violent conflict involving random attacks, kidnappings, and military viol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Photo: Men setting of artillery in the Karakoram Mountain Ran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6248520"/>
            <a:ext cx="4419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Troops along the Saichen Glac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5105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en: Conflict resulted from the Partition of Indi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oth sides wanted control of th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Photo: Indian soldier emerges from an armored truck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8120" y="-360"/>
            <a:ext cx="3124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hm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320040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: Terrorism is used by both s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ities are militar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51814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6248520"/>
            <a:ext cx="4724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security in the border town Srina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27084" t="8334" r="0" b="13891"/>
          <a:stretch/>
        </p:blipFill>
        <p:spPr>
          <a:xfrm>
            <a:off x="0" y="31680"/>
            <a:ext cx="8534520" cy="6826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38680" y="457200"/>
            <a:ext cx="32004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hm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38680" y="990720"/>
            <a:ext cx="32767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 Kashmir, on the border of India and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: Muslim vs. Hindu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: Both sides use terrorism, ethnic clean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52280"/>
            <a:ext cx="2743200" cy="1981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2209680"/>
            <a:ext cx="2181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kist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38280" y="3962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8120" y="762120"/>
            <a:ext cx="207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ash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India's Prithvi missiles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4343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: Both Sides have Nuclear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638680"/>
            <a:ext cx="3581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f India’s strongest nuclear miss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099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29200" y="914400"/>
            <a:ext cx="3429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oes this conflict threaten the rest of the worl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should the US handle this situ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2:07:15Z</dcterms:created>
  <dc:creator>CFISD</dc:creator>
  <dc:description/>
  <dc:language>en-US</dc:language>
  <cp:lastModifiedBy>CFISD</cp:lastModifiedBy>
  <dcterms:modified xsi:type="dcterms:W3CDTF">2009-03-30T12:36:34Z</dcterms:modified>
  <cp:revision>7</cp:revision>
  <dc:subject/>
  <dc:title>Slide 1</dc:title>
</cp:coreProperties>
</file>