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7FB2-1305-4481-89A4-AD270EA1A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ED8D-F870-4297-9890-79AB3E12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8775-DA0E-466C-B547-400CF404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F225-7967-41CA-AF53-25E1B3A02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E073-A918-4296-A35C-92BE418E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A8A0-4716-4880-8AB0-3FE6628A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4AC4-6A92-4A13-863C-CEB57349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3830-43FC-4DC1-AF06-1A4D539B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8FD1-1D53-4E64-A3AD-0C80F095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4149-8834-46A9-BAD8-3A3679BA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59A9-B8D7-46E9-9B94-62C0C031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FBFF-F5B0-4CFB-BDAE-0B0B0FE2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B93F-B627-4B73-80D3-3E1260160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 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ajor conflicts are presently occurring in South As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are between religious groups, over l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Kashm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ri Lan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15228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 – Copy this chart in your noteboo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it Kashmir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47920" y="2133720"/>
          <a:ext cx="6095880" cy="4064040"/>
        </p:xfrm>
        <a:graphic>
          <a:graphicData uri="http://schemas.openxmlformats.org/drawingml/2006/table">
            <a:tbl>
              <a:tblPr/>
              <a:tblGrid>
                <a:gridCol w="1523880"/>
                <a:gridCol w="45720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Moonland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shm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200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: Kashmi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ertile river valley between mount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: Major water source provided by melting glac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: A violent conflict involving random attacks, kidnappings, and military viol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Photo: Men setting of artillery in the Karakoram Mountain Ran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05320" y="6248520"/>
            <a:ext cx="4419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 Troops along the Saichen Glac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51055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hen: Conflict resulted from the Partition of Indi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oth sides wanted control of the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Photo: Indian soldier emerges from an armored truck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8120" y="-360"/>
            <a:ext cx="3124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shm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3200400" cy="32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: Terrorism is used by both s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ities are militar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518148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6248520"/>
            <a:ext cx="4724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 security in the border town Srinag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27084" t="8334" r="0" b="13891"/>
          <a:stretch/>
        </p:blipFill>
        <p:spPr>
          <a:xfrm>
            <a:off x="0" y="31680"/>
            <a:ext cx="8534520" cy="68263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638680" y="457200"/>
            <a:ext cx="32004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shm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38680" y="990720"/>
            <a:ext cx="32767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: Kashmir, on the border of India and Paki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: Muslim vs. Hindu Vio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: Both sides use terrorism, ethnic clean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152280"/>
            <a:ext cx="2743200" cy="1981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4920" y="2209680"/>
            <a:ext cx="2181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kist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438280" y="3962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8120" y="762120"/>
            <a:ext cx="2076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ashmi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India's Prithvi missiles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4343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: Both Sides have Nuclear 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5638680"/>
            <a:ext cx="35812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of India’s strongest nuclear miss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099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029200" y="914400"/>
            <a:ext cx="34290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does this conflict threaten the rest of the worl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How should the US handle this situ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2:07:15Z</dcterms:created>
  <dc:creator>CFISD</dc:creator>
  <dc:description/>
  <dc:language>en-US</dc:language>
  <cp:lastModifiedBy>CFISD</cp:lastModifiedBy>
  <dcterms:modified xsi:type="dcterms:W3CDTF">2009-03-30T12:36:34Z</dcterms:modified>
  <cp:revision>7</cp:revision>
  <dc:subject/>
  <dc:title>Slide 1</dc:title>
</cp:coreProperties>
</file>