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B77A-DFB6-4321-A511-5C93EFE77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0F4C-22DF-423E-A4AD-D00D10D4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18A5-BE8F-48BE-A3A0-0ACC4365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0E6-D3A8-48A8-A47F-422AD9E4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1298-385A-4853-ABAF-C803C0A6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9E62-C958-4725-9311-E001599E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0F4E-7D4E-4669-AF81-DDF36C51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B317-29C8-4A67-B245-B6ADDB0E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A7B8-EF0E-4769-BDA3-D88859DF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0FB-E261-445F-9132-3C087253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F1C-07CC-41A6-8852-0FF63C27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2E2A-2F54-439D-A2AC-D9A5596E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8535-F21F-4F31-B39E-9EBC52035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ews.yahoo.com/fc/World/Northern_Ireland_Conflict/video/1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hankill_Butchers" TargetMode="External"/><Relationship Id="rId2" Type="http://schemas.openxmlformats.org/officeDocument/2006/relationships/hyperlink" Target="http://en.wikipedia.org/wiki/Shankill_Butchers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5334120" cy="400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62720" y="380880"/>
            <a:ext cx="335268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asked gunmen are standing in front of an Ulster Freedom Fighters bann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ey fire their guns in the air at a Loyalist ra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e group read a statement proclaiming that murdered loyalist volunteer force commander Billy Wright did not die in vain, before discharging a number of rounds into the a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114800"/>
            <a:ext cx="5334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yalist fight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44956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flict has led to the creation of paramilitary group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ilitary groups = civilian sold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amilitary Gro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 UVF – Ulster Volunteer Force, a Loyalist (Protestant) terrorist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p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does the UVF use terrorism in this confli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990720"/>
            <a:ext cx="85345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 - Terro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id-1970s, a subset of the UVF dubbed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hankil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Butch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 group of UVF from Belfast's Shankill Road) carried out a grisly series of murders of Catholic civil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 of the victims were abducted at random, then beaten and tortured before having their throats slas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01000" y="1522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dabl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Flap 1:  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inside flap write the answers to the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outside flap leave room for a pictu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ern Ireland – Foldable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ckground – ADD TO YOUR FOL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o is figh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 they are figh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lusion – ADD TO YOUR FOL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ow does nationalism contribute to th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ow does terrorism cause instability in this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this a religious conflict or a political conflict? Explain your ans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295280"/>
          <a:ext cx="8763120" cy="509904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Europe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 Revolution/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32004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40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7543800" y="0"/>
              <a:ext cx="16002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eat Brita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29000" y="685800"/>
              <a:ext cx="259092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thern 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95680" y="1905120"/>
              <a:ext cx="1295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91320" y="220968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19920" y="914400"/>
              <a:ext cx="83808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95720" y="838080"/>
              <a:ext cx="38124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so-called "troubles" began in 1968 when Catholics demanded equal voting rights from the Protestant controlled parlia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monstrations and protests beg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ater, the British army, originally brought in to keep the peace, became involved in the viol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ore than 3,700 people have died since the conflict beg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01000" y="1522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Who is fight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rish Nationalists vs. British Loya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rish = Catho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ritish = Prote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Nation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treme pride in one’s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28600" y="1828800"/>
          <a:ext cx="8686800" cy="44956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is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Definitio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extreme pride in one’s countr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Examples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rovide 2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US citizen bullies his student because he is from Canada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609480" y="0"/>
            <a:ext cx="822960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Nationalis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ding Analysis 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Answer the questions below using the Northern Ireland read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ding Analysis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 Why are they fighting? (What does each side wan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background of the confli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4876920" cy="3660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657600"/>
            <a:ext cx="487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holics marching to Dumcree Chu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59436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52880" y="3200400"/>
            <a:ext cx="4190760" cy="3450600"/>
            <a:chOff x="4952880" y="3200400"/>
            <a:chExt cx="4190760" cy="345060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4952880" y="3200400"/>
              <a:ext cx="4190760" cy="310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952880" y="6282720"/>
              <a:ext cx="4190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testants marching through Belfas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029200" y="0"/>
            <a:ext cx="4114800" cy="27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sides march through each others’ neighborhoo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5. How will these marches increase violence in the region?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660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9880" y="2286000"/>
            <a:ext cx="5334120" cy="3660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86200" y="556272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itish Army sprays Irish Nationalists (Catholics) who are protesting the ban on marches with fire ho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048120"/>
            <a:ext cx="36576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soldiers stand back after an Irish Nationalist protestor detonated a car bo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0"/>
            <a:ext cx="3886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gle Earth Tour Ques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How does art play a role in this confli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3:03:03Z</dcterms:created>
  <dc:creator>CFISD</dc:creator>
  <dc:description/>
  <dc:language>en-US</dc:language>
  <cp:lastModifiedBy>CFISD</cp:lastModifiedBy>
  <dcterms:modified xsi:type="dcterms:W3CDTF">2008-11-19T14:53:35Z</dcterms:modified>
  <cp:revision>15</cp:revision>
  <dc:subject/>
  <dc:title>Conflict</dc:title>
</cp:coreProperties>
</file>