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4ACE-C4C2-4CF9-A6DE-C497F598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4F98-DB48-498F-8ECE-F38C6444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0E3-A31D-41AE-89B8-49CDF1CC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0272-425C-48FA-B5A7-240D6B2A2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72D-24C0-4890-9BAF-847D3EF1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E7C2-E95E-407B-AEE3-F2F3228F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EE1-6A50-4443-944F-05A969A5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48DA-D3F3-4BB2-BE99-DE69AB60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1EE6-23CF-443F-A7C0-462435AE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6EC-9845-46AB-AFC7-FFE6E85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D93A-C238-4752-9FAD-48C09164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523C-D4CE-48BD-A553-22660C1A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BF52-CA73-4E4E-8644-7419A55B4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dentify economic, political, and social problems. (Individual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ith your partner compile a list of economic, political, and social problems. Explain each problem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Rank the problems in terms of their priority. Worst should be first priority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Identify solutions to the problems. (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Trade your conclusion (all parts) with your collaborative group.  Conduct a brief conference explaining each partnership’s proposed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tique your collaborative group’s plans and solution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 - Individ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2 economic, political, and social problems in E/SE 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se on your yellow packet in the first conclusion se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 &amp; 3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ile 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list to your partner’s to compile a list of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 each problem in order of priority;  worst being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 new slid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or summarize each problem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is on a slide at the end of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 –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ntify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solution for each economic, political, and social problem that has the highest prior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your solutions on a new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ill you implement 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sources will you ne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teps must be tak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5 – Collaborative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lution Identification/Explan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tnership take turns explaining your solutions to your collaborative group.  When you are finished provide them with your power point so they can create the critique slid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 6 - Part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ritiqu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slide critiquing the solutions for each economic, political, and social problem created by your collaborative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following questions to develop your critiqu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are positive aspects of their solutio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are potential pitfalls (problems that could develop) of their solu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2:05:32Z</dcterms:created>
  <dc:creator>CFISD</dc:creator>
  <dc:description/>
  <dc:language>en-US</dc:language>
  <cp:lastModifiedBy>CFISD</cp:lastModifiedBy>
  <dcterms:modified xsi:type="dcterms:W3CDTF">2009-04-24T12:41:11Z</dcterms:modified>
  <cp:revision>8</cp:revision>
  <dc:subject/>
  <dc:title>Conclusions</dc:title>
</cp:coreProperties>
</file>