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542-8CB5-4ED7-B7D3-2DB88701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F63-6DD3-443D-B65B-EB8270F1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04A-E92C-4E7A-957D-62679B73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622-2755-4A31-AA5B-0A3D660E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360-93E2-4748-A7E1-F4104698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F12-B35F-489B-A588-881D0B69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011-8071-4977-8AD0-5E3AA95A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80C-F2CB-4D15-8931-4AF14B34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974-2144-4C89-A918-78E8C90A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708-A83E-4C7C-8706-5B108254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C8B-8839-4F06-B24D-0BEA41C8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CB9-4592-4199-9067-43D49552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28E1-D97B-47D9-878D-49EF670E8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dentify economic, political, and social problems. (Individ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ith your partner compile a list of economic, political, and social problems. Explain each problem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nk the problems in terms of their priority. Worst should be first priority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dentify solutions to the problems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rade your conclusion (all parts) with your collaborative group.  Conduct a brief conference explaining each partnership’s proposed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ritique your collaborative group’s plans and solution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 - Individ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2 economic, political, and social problems in E/SE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se on your yellow packet in the first conclusion s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 &amp; 3 –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il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list to your partner’s to compile a list of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 each problem in order of priority;  worst being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new sl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or summarize each proble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is on a slide at the end of your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 –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y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solution for each economic, political, and social problem that has the highest prior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your solutions on a new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implement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sources will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eps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5 – Collaborative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 Identification/Expla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nership take turns explaining your solutions to your collaborative group.  When you are finished provide them with your power point so they can create the critique sli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6 - Part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itique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slide critiquing the solutions for each economic, political, and social problem created by your collaborativ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ollowing questions to develop your criti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are positive aspects of their solu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are potential pitfalls (problems that could develop) of their solu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2:05:32Z</dcterms:created>
  <dc:creator>CFISD</dc:creator>
  <dc:description/>
  <dc:language>en-US</dc:language>
  <cp:lastModifiedBy>CFISD</cp:lastModifiedBy>
  <dcterms:modified xsi:type="dcterms:W3CDTF">2009-04-24T12:41:11Z</dcterms:modified>
  <cp:revision>8</cp:revision>
  <dc:subject/>
  <dc:title>Conclusions</dc:title>
</cp:coreProperties>
</file>