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2F6-42CF-46CD-A59D-943B2BF4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DBF-3C9C-4E16-9761-31470F4F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106-B2F4-476A-A5B8-AB6DD6ED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249-56B6-4AD4-A891-494B094A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B06-C2C3-4408-A95C-F4129DAF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6ED-CDCC-45C7-919A-CEB05238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8B4-3F52-4293-B5F4-20FC65AB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C19-1779-4BC5-B550-8C944AB6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E2B-07C2-4173-BF4E-4C8B89F3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173-8E2D-4759-A745-756D1F97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0EB-0D68-47AF-8699-893AFF3C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FC2-DDB5-40BF-9642-BCAFD504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3816-EBEB-47AC-A0DA-BB19B10F9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dentify economic, political, and social problems. (Individ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ith your partner compile a list of economic, political, and social problems. Explain each problem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nk the problems in terms of their priority. Worst should be first priority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dentify solutions to the problems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rade your conclusion (all parts) with your collaborative group.  Conduct a brief conference explaining each partnership’s proposed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ritique your collaborative group’s plans and solution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 - Individ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2 economic, political, and social problems in E/SE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se on your yellow packet in the first conclusion s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 &amp; 3 –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il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list to your partner’s to compile a list of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 each problem in order of priority;  worst being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new sl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or summarize each proble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is on a slide at the end of your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 –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y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solution for each economic, political, and social problem that has the highest prior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your solutions on a new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implement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sources will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eps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5 – Collaborative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 Identification/Expla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nership take turns explaining your solutions to your collaborative group.  When you are finished provide them with your power point so they can create the critique sli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6 - Part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itique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slide critiquing the solutions for each economic, political, and social problem created by your collaborativ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ollowing questions to develop your criti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are positive aspects of their solu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are potential pitfalls (problems that could develop) of their solu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2:05:32Z</dcterms:created>
  <dc:creator>CFISD</dc:creator>
  <dc:description/>
  <dc:language>en-US</dc:language>
  <cp:lastModifiedBy>CFISD</cp:lastModifiedBy>
  <dcterms:modified xsi:type="dcterms:W3CDTF">2009-04-24T12:41:11Z</dcterms:modified>
  <cp:revision>8</cp:revision>
  <dc:subject/>
  <dc:title>Conclusions</dc:title>
</cp:coreProperties>
</file>