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21B3-7B60-4CA6-B93E-0C200E4C6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F64B-CEBF-4B5C-93F5-6B7860A7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0EC9-1A59-4347-B3F3-C715BF514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7D72-189B-405C-9F85-18EA3C78C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AC1F-C4DB-4923-8B2A-C4F45DA8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8166-0D6D-4752-B33C-CDC5F9CF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DE20-282F-4555-BA3A-245FD78E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0CE1-A00B-4175-802D-B76BA51B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DA42-26B9-4CC9-9483-FF01B26A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3423-CBF4-4AF7-9E0E-191222E9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75D1-86EE-4DE5-8AE6-59D784C4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4E3A-FAB8-4B1F-9A68-7BA2244E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DF1D-37FB-4194-84C7-4B3DD0C33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dentify economic, political, and social problems. (Individual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ith your partner compile a list of economic, political, and social problems. Explain each problem. (Partn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ank the problems in terms of their priority. Worst should be first priority. (Partn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dentify solutions to the problems. (Partn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rade your conclusion (all parts) with your collaborative group.  Conduct a brief conference explaining each partnership’s proposed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Critique your collaborative group’s plans and solutions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1 - Individ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2 economic, political, and social problems in E/SE A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se on your yellow packet in the first conclusion se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2 &amp; 3 – Par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pile 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list to your partner’s to compile a list of proble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k each problem in order of priority;  worst being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a new sli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or summarize each problem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is on a slide at the end of your power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4 – Par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dentify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 solution for each economic, political, and social problem that has the highest prior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your solutions on a new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you implement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resources will you ne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teps must be tak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5 – Collaborative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lution Identification/Expla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artnership take turns explaining your solutions to your collaborative group.  When you are finished provide them with your power point so they can create the critique slid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6 - Part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ritique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new slide critiquing the solutions for each economic, political, and social problem created by your collaborativ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following questions to develop your criti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are positive aspects of their solution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are potential pitfalls (problems that could develop) of their solu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12:05:32Z</dcterms:created>
  <dc:creator>CFISD</dc:creator>
  <dc:description/>
  <dc:language>en-US</dc:language>
  <cp:lastModifiedBy>CFISD</cp:lastModifiedBy>
  <dcterms:modified xsi:type="dcterms:W3CDTF">2009-04-24T12:41:11Z</dcterms:modified>
  <cp:revision>8</cp:revision>
  <dc:subject/>
  <dc:title>Conclusions</dc:title>
</cp:coreProperties>
</file>