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95A3-769B-4BD2-A40D-A3044C30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9F1-4C2F-416E-934B-1D3727E9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77E-5FF6-4D39-8309-C35DC9C2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7A6-4BDF-488A-98BA-9FFC88F5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7D6-8257-49A4-9B2B-2457BCCF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C93-E1CE-4A26-BF3E-6A003F9A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E0A-3EF9-46D5-92EC-C3E6E27D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A7C-9DEB-458B-9699-C797B551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B8F-9719-4F7F-AD9F-50C35DA6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8C1-D31C-41AE-9EA3-D8BE5D02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A72-E583-4DBB-BFEF-D72FB4AB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7909-06A5-4F5E-A893-09D427ED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BAF5-B37F-4049-B2EB-823BC4680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dentify economic, political, and social problems. (Individ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ith your partner compile a list of economic, political, and social problems. Explain each problem. (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ank the problems in terms of their priority. Worst should be first priority. (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dentify solutions to the problems. (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rade your conclusion (all parts) with your collaborative group.  Conduct a brief conference explaining each partnership’s proposed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Critique your collaborative group’s plans and solution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 - Individ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2 economic, political, and social problems in E/SE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se on your yellow packet in the first conclusion s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 &amp; 3 –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ile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list to your partner’s to compile a list of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 each problem in order of priority;  worst being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new sl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or summarize each proble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is on a slide at the end of your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4 –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y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solution for each economic, political, and social problem that has the highest prior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your solutions on a new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implement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sources will you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eps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5 – Collaborative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ution Identification/Expla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rtnership take turns explaining your solutions to your collaborative group.  When you are finished provide them with your power point so they can create the critique slid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6 - Part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itique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slide critiquing the solutions for each economic, political, and social problem created by your collaborativ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following questions to develop your criti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are positive aspects of their solu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are potential pitfalls (problems that could develop) of their solu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2:05:32Z</dcterms:created>
  <dc:creator>CFISD</dc:creator>
  <dc:description/>
  <dc:language>en-US</dc:language>
  <cp:lastModifiedBy>CFISD</cp:lastModifiedBy>
  <dcterms:modified xsi:type="dcterms:W3CDTF">2009-04-24T12:41:11Z</dcterms:modified>
  <cp:revision>8</cp:revision>
  <dc:subject/>
  <dc:title>Conclusions</dc:title>
</cp:coreProperties>
</file>