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600-BEC0-47DD-9AD6-A1E74163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58A-B222-4899-AE9A-3D429DFF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823-1F5E-4EFC-8B2B-F4FA950F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A72-DAC4-4E34-8A40-7239BA1B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DC9-B084-46BD-B043-3F79B6CD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69C-4F56-435D-8960-E06A9684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C9A-61BD-413D-842D-D87CB8F1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70B-A7A0-492E-B97A-20C91C62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95C-BC1B-4AD9-8434-9517E4EB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E14-57AE-435D-9A68-B312800E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D31-7F3A-4B3E-B471-556A1A38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9160-941A-45E4-8199-12B8257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C97B-E669-44AF-B6D5-AD4A08A6A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dentify economic, political, and social problems. (Individ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ith your partner compile a list of economic, political, and social problems. Explain each problem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nk the problems in terms of their priority. Worst should be first priority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dentify solutions to the problems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rade your conclusion (all parts) with your collaborative group.  Conduct a brief conference explaining each partnership’s proposed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tique your collaborative group’s plans and solution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 - Indivi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2 economic, political, and social problems in E/S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se on your yellow packet in the first conclusion s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 &amp; 3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il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list to your partner’s to compile a list of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each problem in order of priority;  worst being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new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or summarize each proble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on a slide at the end of your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solution for each economic, political, and social problem that has the highest prior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your solutions on a new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implement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sources will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eps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 – Collaborative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 Identification/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nership take turns explaining your solutions to your collaborative group.  When you are finished provide them with your power point so they can create the critique sli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 - 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itique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slide critiquing the solutions for each economic, political, and social problem created by your collaborativ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llowing questions to develop your crit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are positive aspects of their solu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are potential pitfalls (problems that could develop) of their 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2:05:32Z</dcterms:created>
  <dc:creator>CFISD</dc:creator>
  <dc:description/>
  <dc:language>en-US</dc:language>
  <cp:lastModifiedBy>CFISD</cp:lastModifiedBy>
  <dcterms:modified xsi:type="dcterms:W3CDTF">2009-04-24T12:41:11Z</dcterms:modified>
  <cp:revision>8</cp:revision>
  <dc:subject/>
  <dc:title>Conclusions</dc:title>
</cp:coreProperties>
</file>