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D4A1A-0E71-4238-9674-0F5E6DAEE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A156-C879-4B2A-8CFD-F0D4DA9D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EEE-2794-403B-B4AC-A5B27461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2B1-14B1-4850-B4E8-D934AEF4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FCBD-F00E-40D7-A9E1-DF9572A6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4EB-B8DA-4016-B27C-E8EE554D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BFB-7109-4D69-94C7-574E72928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8D6-52F1-45D4-A0B8-1D68C0C8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955-FF2D-42B0-A00B-53FB88D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B52-DB37-4936-ABB0-46AA5913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B973-781F-48B0-8616-E744F6CC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A122-1DDD-4491-85B0-5BD3E5A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A01B-FB88-4F6E-A015-2FF5B7C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701-C90A-4DE2-9739-47A4710B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33B-DE6C-434D-956D-CBB16E8FA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44792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y 2 –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ocial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Economic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Effects of the Spread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Self-Sufficiency - Few Regulations For Small Busin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Freda's Pics 239"/>
          <p:cNvPicPr/>
          <p:nvPr/>
        </p:nvPicPr>
        <p:blipFill>
          <a:blip r:embed="rId1"/>
          <a:stretch/>
        </p:blipFill>
        <p:spPr>
          <a:xfrm>
            <a:off x="1981080" y="1447920"/>
            <a:ext cx="5486400" cy="3230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5" name="Text Box 4"/>
          <p:cNvSpPr/>
          <p:nvPr/>
        </p:nvSpPr>
        <p:spPr>
          <a:xfrm>
            <a:off x="914400" y="548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04920" y="5105520"/>
            <a:ext cx="862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government interference, small business owners can do what they w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istence Farming – produce only enough to feed 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561120" y="4811760"/>
            <a:ext cx="187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nese meat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Empty Pyongyang streets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304920" y="1600200"/>
            <a:ext cx="37335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aerial view of Pyongyang, North Korea’s capital city at 5pm on a weekda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this compare to Houston at 5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1920" y="4038480"/>
            <a:ext cx="266724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 picture for each of the economic effects.  Include a caption underneath explaining your pi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dprk-dmsp-dark"/>
          <p:cNvPicPr/>
          <p:nvPr/>
        </p:nvPicPr>
        <p:blipFill>
          <a:blip r:embed="rId1"/>
          <a:srcRect l="15832" t="0" r="22427" b="0"/>
          <a:stretch/>
        </p:blipFill>
        <p:spPr>
          <a:xfrm>
            <a:off x="2895480" y="0"/>
            <a:ext cx="6248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228600" y="1371600"/>
            <a:ext cx="2438280" cy="24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is satellite imag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like th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380880" y="2514600"/>
            <a:ext cx="3886200" cy="2595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762120" y="53341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e farming in Viet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4876920" y="2514600"/>
            <a:ext cx="3809880" cy="25002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334120" y="5257800"/>
            <a:ext cx="25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conductor factory in Tai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 Korea vs. South Ko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152280" y="1676520"/>
            <a:ext cx="320364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581280" y="990720"/>
          <a:ext cx="5410440" cy="6237000"/>
        </p:xfrm>
        <a:graphic>
          <a:graphicData uri="http://schemas.openxmlformats.org/drawingml/2006/table">
            <a:tbl>
              <a:tblPr/>
              <a:tblGrid>
                <a:gridCol w="2705400"/>
                <a:gridCol w="2705040"/>
              </a:tblGrid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Ko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8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st dictatorsh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and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1,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ublic – Democra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Econo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P per person = $24,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. FAM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huge food short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arable (Farm)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farm equipment - not enough tractors and f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819520" cy="2252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2057400" cy="14079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1"/>
          <p:cNvSpPr/>
          <p:nvPr/>
        </p:nvSpPr>
        <p:spPr>
          <a:xfrm>
            <a:off x="304920" y="19810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ving North Korean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6095880" y="388620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bunnies bred for North Korean farms to fight the food shor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Korea’s government isolates its  population from the rest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ell 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sorship of the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ponsored TV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ternational tr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4695840"/>
            <a:ext cx="853416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 LIMITED FREED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examples above demonstrate limited freedo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Limited Freedoms next to each ex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Soldiers on parade"/>
          <p:cNvPicPr/>
          <p:nvPr/>
        </p:nvPicPr>
        <p:blipFill>
          <a:blip r:embed="rId1"/>
          <a:stretch/>
        </p:blipFill>
        <p:spPr>
          <a:xfrm>
            <a:off x="3352680" y="1219320"/>
            <a:ext cx="5486400" cy="38210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228600" y="1295280"/>
            <a:ext cx="28954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. Uni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businesses and schools have strict rules that must be fo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s must be worn, strict procedures followed, everything is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formity a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26540018"/>
          <p:cNvPicPr/>
          <p:nvPr/>
        </p:nvPicPr>
        <p:blipFill>
          <a:blip r:embed="rId1"/>
          <a:stretch/>
        </p:blipFill>
        <p:spPr>
          <a:xfrm>
            <a:off x="5167440" y="1600200"/>
            <a:ext cx="300024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457200" y="487692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ther one visits the streets of Shanghai or a local restaurant in Beijing, Chinese businesses are structured and uniforms are wo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Uniforms"/>
          <p:cNvPicPr/>
          <p:nvPr/>
        </p:nvPicPr>
        <p:blipFill>
          <a:blip r:embed="rId2"/>
          <a:stretch/>
        </p:blipFill>
        <p:spPr>
          <a:xfrm>
            <a:off x="533520" y="1371600"/>
            <a:ext cx="4038480" cy="30290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cial Effec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1066320"/>
            <a:ext cx="4038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5. Discourage Reli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ship the state and political leaders instead of religious l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tern religions are illeg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ommemorative photograph"/>
          <p:cNvPicPr/>
          <p:nvPr/>
        </p:nvPicPr>
        <p:blipFill>
          <a:blip r:embed="rId1"/>
          <a:stretch/>
        </p:blipFill>
        <p:spPr>
          <a:xfrm>
            <a:off x="5029200" y="3581280"/>
            <a:ext cx="3467160" cy="21290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5029200" y="57150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Korean family takes a family portrait beneath a statue of dictator Kim Jong-I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Freda's Pics 174"/>
          <p:cNvPicPr/>
          <p:nvPr/>
        </p:nvPicPr>
        <p:blipFill>
          <a:blip r:embed="rId2"/>
          <a:srcRect l="0" t="0" r="0" b="17239"/>
          <a:stretch/>
        </p:blipFill>
        <p:spPr>
          <a:xfrm>
            <a:off x="304920" y="1066680"/>
            <a:ext cx="3886200" cy="426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4" name="Text Box 11"/>
          <p:cNvSpPr/>
          <p:nvPr/>
        </p:nvSpPr>
        <p:spPr>
          <a:xfrm>
            <a:off x="304920" y="5562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nese souvenir stand selling Mao Zedong i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2286000" y="350532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26400005"/>
          <p:cNvPicPr/>
          <p:nvPr/>
        </p:nvPicPr>
        <p:blipFill>
          <a:blip r:embed="rId1"/>
          <a:stretch/>
        </p:blipFill>
        <p:spPr>
          <a:xfrm>
            <a:off x="4572000" y="1600200"/>
            <a:ext cx="3745080" cy="248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85840" y="4343400"/>
            <a:ext cx="4800600" cy="17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nese government allows traditional Chinese religions but does not allow any western reli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26190007"/>
          <p:cNvPicPr/>
          <p:nvPr/>
        </p:nvPicPr>
        <p:blipFill>
          <a:blip r:embed="rId2"/>
          <a:stretch/>
        </p:blipFill>
        <p:spPr>
          <a:xfrm>
            <a:off x="762120" y="1600200"/>
            <a:ext cx="27273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WordArt 6"/>
          <p:cNvSpPr txBox="1"/>
          <p:nvPr/>
        </p:nvSpPr>
        <p:spPr>
          <a:xfrm>
            <a:off x="762120" y="1295280"/>
            <a:ext cx="449568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imited Freed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Effects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Agrarian Socie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most people work/live on a fa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Limited choice for consu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e government produces only very few produ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lf-sufficient lifesty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eople must provide their own products, create their own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22:51:10Z</dcterms:created>
  <dc:creator>jpaul281</dc:creator>
  <dc:description/>
  <dc:language>en-US</dc:language>
  <cp:lastModifiedBy>CFISD</cp:lastModifiedBy>
  <dcterms:modified xsi:type="dcterms:W3CDTF">2009-04-17T12:33:32Z</dcterms:modified>
  <cp:revision>50</cp:revision>
  <dc:subject/>
  <dc:title>Communism in SE Asia</dc:title>
</cp:coreProperties>
</file>