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4406-3CF4-49B8-8B1F-D8D3B1DA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87D8-17C9-4C40-B720-5C878F9C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6A2-82F8-4EF7-B064-7139DDC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25F-FA2E-4EA2-9B1D-A838747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D76-87D7-4B20-B881-4A782549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685-DED7-4F3F-86EA-34ABCD86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5A5-AE0A-46E5-B28B-A97A554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BC2-864B-4A1C-86BB-984A5BB9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AE9-1C09-4062-862F-C5C536A2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542-91B8-4E99-8643-9F17A213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A4C-FE82-49E0-A2CC-23557F07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0E7-1ACB-469E-BFF9-E3E0456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4D7-05ED-47CE-BAA7-AFB68E4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86E-2778-492D-BB27-9EFF7318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88B-7566-46A1-9A3C-963939F2B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y 2 –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ffects of the Spread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Self-Sufficiency - Few Regulations For Small Busi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Freda's Pics 239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323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9144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5105520"/>
            <a:ext cx="862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government interference, small business owners can do 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stence Farming – produce only enough to feed 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61120" y="481176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ese meat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mpty Pyongyang streets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04920" y="1600200"/>
            <a:ext cx="3733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aerial view of Pyongyang, North Korea’s capital city at 5pm on a week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ompare to Houston at 5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2667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 picture for each of the economic effects.  Include a caption underneath explaining your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prk-dmsp-dark"/>
          <p:cNvPicPr/>
          <p:nvPr/>
        </p:nvPicPr>
        <p:blipFill>
          <a:blip r:embed="rId1"/>
          <a:srcRect l="15832" t="0" r="22427" b="0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1371600"/>
            <a:ext cx="2438280" cy="24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is satellite im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762120" y="53341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 farming 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334120" y="52578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conductor factory in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vs. 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20364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81280" y="990720"/>
          <a:ext cx="5410440" cy="6237000"/>
        </p:xfrm>
        <a:graphic>
          <a:graphicData uri="http://schemas.openxmlformats.org/drawingml/2006/table">
            <a:tbl>
              <a:tblPr/>
              <a:tblGrid>
                <a:gridCol w="2705400"/>
                <a:gridCol w="27050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t dictato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1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– Democ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24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F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uge food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rable (Farm)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arm equipment - not enough tractors and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22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ing North Korean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95880" y="3886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nnies bred for North Korean farms to fight the food shor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Korea’s government isolates its  population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ll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ship of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ponsored TV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national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4695840"/>
            <a:ext cx="85341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LIMITED FREE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examples above demonstrate limited freed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Limited Freedoms next to each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ldiers on parade"/>
          <p:cNvPicPr/>
          <p:nvPr/>
        </p:nvPicPr>
        <p:blipFill>
          <a:blip r:embed="rId1"/>
          <a:stretch/>
        </p:blipFill>
        <p:spPr>
          <a:xfrm>
            <a:off x="3352680" y="1219320"/>
            <a:ext cx="548640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2860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sinesses and schools have strict rules that must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s must be worn, strict procedures followed, everything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y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6540018"/>
          <p:cNvPicPr/>
          <p:nvPr/>
        </p:nvPicPr>
        <p:blipFill>
          <a:blip r:embed="rId1"/>
          <a:stretch/>
        </p:blipFill>
        <p:spPr>
          <a:xfrm>
            <a:off x="5167440" y="1600200"/>
            <a:ext cx="30002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457200" y="4876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visits the streets of Shanghai or a local restaurant in Beijing, Chinese businesses are structured and uniforms are w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niforms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30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. Discourage 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hip the state and political leaders instead of religious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 religions are ille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mmemorative photograph"/>
          <p:cNvPicPr/>
          <p:nvPr/>
        </p:nvPicPr>
        <p:blipFill>
          <a:blip r:embed="rId1"/>
          <a:stretch/>
        </p:blipFill>
        <p:spPr>
          <a:xfrm>
            <a:off x="5029200" y="3581280"/>
            <a:ext cx="3467160" cy="21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0292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n family takes a family portrait beneath a statue of dictator Kim Jong-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Freda's Pics 174"/>
          <p:cNvPicPr/>
          <p:nvPr/>
        </p:nvPicPr>
        <p:blipFill>
          <a:blip r:embed="rId2"/>
          <a:srcRect l="0" t="0" r="0" b="17239"/>
          <a:stretch/>
        </p:blipFill>
        <p:spPr>
          <a:xfrm>
            <a:off x="304920" y="1066680"/>
            <a:ext cx="388620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Text Box 11"/>
          <p:cNvSpPr/>
          <p:nvPr/>
        </p:nvSpPr>
        <p:spPr>
          <a:xfrm>
            <a:off x="304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souvenir stand selling Mao Zedo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2286000" y="350532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6400005"/>
          <p:cNvPicPr/>
          <p:nvPr/>
        </p:nvPicPr>
        <p:blipFill>
          <a:blip r:embed="rId1"/>
          <a:stretch/>
        </p:blipFill>
        <p:spPr>
          <a:xfrm>
            <a:off x="4572000" y="1600200"/>
            <a:ext cx="3745080" cy="248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4343400"/>
            <a:ext cx="4800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nese government allows traditional Chinese religions but does not allow any western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6190007"/>
          <p:cNvPicPr/>
          <p:nvPr/>
        </p:nvPicPr>
        <p:blipFill>
          <a:blip r:embed="rId2"/>
          <a:stretch/>
        </p:blipFill>
        <p:spPr>
          <a:xfrm>
            <a:off x="762120" y="1600200"/>
            <a:ext cx="27273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WordArt 6"/>
          <p:cNvSpPr txBox="1"/>
          <p:nvPr/>
        </p:nvSpPr>
        <p:spPr>
          <a:xfrm>
            <a:off x="762120" y="129528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rarian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st people work/live on a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mited choice for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government produces only very few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lf-sufficient life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must provide their own products, create their ow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51:10Z</dcterms:created>
  <dc:creator>jpaul281</dc:creator>
  <dc:description/>
  <dc:language>en-US</dc:language>
  <cp:lastModifiedBy>CFISD</cp:lastModifiedBy>
  <dcterms:modified xsi:type="dcterms:W3CDTF">2009-04-17T12:33:32Z</dcterms:modified>
  <cp:revision>50</cp:revision>
  <dc:subject/>
  <dc:title>Communism in SE Asia</dc:title>
</cp:coreProperties>
</file>