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0B70-1F5E-4C87-96D1-8BBBF3BCA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548FF-6270-46E6-8A7E-BE10F5446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01ED-0B4B-47D3-89B3-2166AEBBC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39A2-3B79-4F86-882E-662C4116F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0293-C975-43CA-8BCD-0C5D1ED7D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23A4-CB7F-47B6-8C48-B534AE25A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2229-51AE-4995-9C0B-09A6C1E45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53A0-A83C-4061-9231-CD4DD602A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81E4-33C9-43E0-8191-A17995C2C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9D47-8514-4F1F-A705-F860D3A8B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4925-6537-4742-9331-3058C3817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3297-06C3-4515-AA70-80BB2FF1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4FB9-AF4C-4C51-9CDF-B0FDB816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4C6D-A60C-4601-A381-0FE4B8E3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C9C96-D538-45AB-A520-C66AB02C5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1447920" y="0"/>
            <a:ext cx="64008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ay 2 –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ocial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conomic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Effects of the Spread of Commun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 Self-Sufficiency - Few Regulations For Small Busine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Freda's Pics 239"/>
          <p:cNvPicPr/>
          <p:nvPr/>
        </p:nvPicPr>
        <p:blipFill>
          <a:blip r:embed="rId1"/>
          <a:stretch/>
        </p:blipFill>
        <p:spPr>
          <a:xfrm>
            <a:off x="1981080" y="1447920"/>
            <a:ext cx="5486400" cy="3230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85" name="Text Box 4"/>
          <p:cNvSpPr/>
          <p:nvPr/>
        </p:nvSpPr>
        <p:spPr>
          <a:xfrm>
            <a:off x="914400" y="5486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304920" y="5105520"/>
            <a:ext cx="862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tle government interference, small business owners can do what they w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istence Farming – produce only enough to feed one’s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3561120" y="4811760"/>
            <a:ext cx="187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nese meat mar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conomic Eff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Empty Pyongyang streets"/>
          <p:cNvPicPr/>
          <p:nvPr/>
        </p:nvPicPr>
        <p:blipFill>
          <a:blip r:embed="rId1"/>
          <a:stretch/>
        </p:blipFill>
        <p:spPr>
          <a:xfrm>
            <a:off x="4191120" y="0"/>
            <a:ext cx="495288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7"/>
          <p:cNvSpPr/>
          <p:nvPr/>
        </p:nvSpPr>
        <p:spPr>
          <a:xfrm>
            <a:off x="304920" y="1600200"/>
            <a:ext cx="373356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n aerial view of Pyongyang, North Korea’s capital city at 5pm on a weekda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this compare to Houston at 5p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is it like th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conomic Eff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1920" y="4038480"/>
            <a:ext cx="266724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ketch a picture for each of the economic effects.  Include a caption underneath explaining your pict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dprk-dmsp-dark"/>
          <p:cNvPicPr/>
          <p:nvPr/>
        </p:nvPicPr>
        <p:blipFill>
          <a:blip r:embed="rId1"/>
          <a:srcRect l="15832" t="0" r="22427" b="0"/>
          <a:stretch/>
        </p:blipFill>
        <p:spPr>
          <a:xfrm>
            <a:off x="2895480" y="0"/>
            <a:ext cx="624852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228600" y="1371600"/>
            <a:ext cx="2438280" cy="244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this satellite imag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it like th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ic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tn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iw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1"/>
          <a:stretch/>
        </p:blipFill>
        <p:spPr>
          <a:xfrm>
            <a:off x="380880" y="2514600"/>
            <a:ext cx="3886200" cy="25956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7"/>
          <p:cNvSpPr/>
          <p:nvPr/>
        </p:nvSpPr>
        <p:spPr>
          <a:xfrm>
            <a:off x="762120" y="5334120"/>
            <a:ext cx="281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ce farming in Vietn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"/>
          <p:cNvPicPr/>
          <p:nvPr/>
        </p:nvPicPr>
        <p:blipFill>
          <a:blip r:embed="rId2"/>
          <a:stretch/>
        </p:blipFill>
        <p:spPr>
          <a:xfrm>
            <a:off x="4876920" y="2514600"/>
            <a:ext cx="3809880" cy="25002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9"/>
          <p:cNvSpPr/>
          <p:nvPr/>
        </p:nvSpPr>
        <p:spPr>
          <a:xfrm>
            <a:off x="5334120" y="5257800"/>
            <a:ext cx="259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iconductor factory in Taiw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th Korea vs. South Ko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152280" y="1676520"/>
            <a:ext cx="3203640" cy="441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"/>
          <p:cNvGraphicFramePr/>
          <p:nvPr/>
        </p:nvGraphicFramePr>
        <p:xfrm>
          <a:off x="3581280" y="990720"/>
          <a:ext cx="5410440" cy="6237000"/>
        </p:xfrm>
        <a:graphic>
          <a:graphicData uri="http://schemas.openxmlformats.org/drawingml/2006/table">
            <a:tbl>
              <a:tblPr/>
              <a:tblGrid>
                <a:gridCol w="2705400"/>
                <a:gridCol w="2705040"/>
              </a:tblGrid>
              <a:tr h="92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 Ko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 Ko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st dictatorshi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and Econom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DP per person = $1,9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ublic – Democra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Econom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DP per person = $24,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 Effec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 FAM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huge food shor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?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arable (Farm)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ive Farming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or farm equipment - not enough tractors and fu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"/>
          <p:cNvPicPr/>
          <p:nvPr/>
        </p:nvPicPr>
        <p:blipFill>
          <a:blip r:embed="rId1"/>
          <a:stretch/>
        </p:blipFill>
        <p:spPr>
          <a:xfrm>
            <a:off x="6095880" y="1600200"/>
            <a:ext cx="2819520" cy="2252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"/>
          <p:cNvPicPr/>
          <p:nvPr/>
        </p:nvPicPr>
        <p:blipFill>
          <a:blip r:embed="rId2"/>
          <a:stretch/>
        </p:blipFill>
        <p:spPr>
          <a:xfrm>
            <a:off x="1828800" y="1828800"/>
            <a:ext cx="2057400" cy="14079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1"/>
          <p:cNvSpPr/>
          <p:nvPr/>
        </p:nvSpPr>
        <p:spPr>
          <a:xfrm>
            <a:off x="304920" y="19810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ving North Korean childr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6095880" y="388620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bunnies bred for North Korean farms to fight the food shorta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 Effec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th Korea’s government isolates its  population from the rest of the wor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 ISO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ell ph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sorship of the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 sponsored TV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nternational tra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304920" y="4695840"/>
            <a:ext cx="8534160" cy="21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 LIMITED FREED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of the examples above demonstrate limited freedom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Limited Freedoms next to each ex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 Effec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Soldiers on parade"/>
          <p:cNvPicPr/>
          <p:nvPr/>
        </p:nvPicPr>
        <p:blipFill>
          <a:blip r:embed="rId1"/>
          <a:stretch/>
        </p:blipFill>
        <p:spPr>
          <a:xfrm>
            <a:off x="3352680" y="1219320"/>
            <a:ext cx="5486400" cy="38210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7"/>
          <p:cNvSpPr/>
          <p:nvPr/>
        </p:nvSpPr>
        <p:spPr>
          <a:xfrm>
            <a:off x="228600" y="1295280"/>
            <a:ext cx="28954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. Uniform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businesses and schools have strict rules that must be fo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orms must be worn, strict procedures followed, everything is the 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formity and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26540018"/>
          <p:cNvPicPr/>
          <p:nvPr/>
        </p:nvPicPr>
        <p:blipFill>
          <a:blip r:embed="rId1"/>
          <a:stretch/>
        </p:blipFill>
        <p:spPr>
          <a:xfrm>
            <a:off x="5167440" y="1600200"/>
            <a:ext cx="3000240" cy="4525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7" name="Text Box 4"/>
          <p:cNvSpPr/>
          <p:nvPr/>
        </p:nvSpPr>
        <p:spPr>
          <a:xfrm>
            <a:off x="457200" y="4876920"/>
            <a:ext cx="426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ther one visits the streets of Shanghai or a local restaurant in Beijing, Chinese businesses are structured and uniforms are wo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Uniforms"/>
          <p:cNvPicPr/>
          <p:nvPr/>
        </p:nvPicPr>
        <p:blipFill>
          <a:blip r:embed="rId2"/>
          <a:stretch/>
        </p:blipFill>
        <p:spPr>
          <a:xfrm>
            <a:off x="533520" y="1371600"/>
            <a:ext cx="4038480" cy="30290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 Effec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23920" y="1066320"/>
            <a:ext cx="40388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5. Discourage Relig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rship the state and political leaders instead of religious lead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tern religions are illeg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Commemorative photograph"/>
          <p:cNvPicPr/>
          <p:nvPr/>
        </p:nvPicPr>
        <p:blipFill>
          <a:blip r:embed="rId1"/>
          <a:stretch/>
        </p:blipFill>
        <p:spPr>
          <a:xfrm>
            <a:off x="5029200" y="3581280"/>
            <a:ext cx="3467160" cy="21290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7"/>
          <p:cNvSpPr/>
          <p:nvPr/>
        </p:nvSpPr>
        <p:spPr>
          <a:xfrm>
            <a:off x="5029200" y="571500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th Korean family takes a family portrait beneath a statue of dictator Kim Jong-I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9" descr="Freda's Pics 174"/>
          <p:cNvPicPr/>
          <p:nvPr/>
        </p:nvPicPr>
        <p:blipFill>
          <a:blip r:embed="rId2"/>
          <a:srcRect l="0" t="0" r="0" b="17239"/>
          <a:stretch/>
        </p:blipFill>
        <p:spPr>
          <a:xfrm>
            <a:off x="304920" y="1066680"/>
            <a:ext cx="3886200" cy="42674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74" name="Text Box 11"/>
          <p:cNvSpPr/>
          <p:nvPr/>
        </p:nvSpPr>
        <p:spPr>
          <a:xfrm>
            <a:off x="304920" y="556272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nese souvenir stand selling Mao Zedong it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12"/>
          <p:cNvSpPr txBox="1"/>
          <p:nvPr/>
        </p:nvSpPr>
        <p:spPr>
          <a:xfrm>
            <a:off x="2286000" y="3505320"/>
            <a:ext cx="4495680" cy="12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Limited Freed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ig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26400005"/>
          <p:cNvPicPr/>
          <p:nvPr/>
        </p:nvPicPr>
        <p:blipFill>
          <a:blip r:embed="rId1"/>
          <a:stretch/>
        </p:blipFill>
        <p:spPr>
          <a:xfrm>
            <a:off x="4572000" y="1600200"/>
            <a:ext cx="3745080" cy="2481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85840" y="4343400"/>
            <a:ext cx="4800600" cy="17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inese government allows traditional Chinese religions but does not allow any western reli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26190007"/>
          <p:cNvPicPr/>
          <p:nvPr/>
        </p:nvPicPr>
        <p:blipFill>
          <a:blip r:embed="rId2"/>
          <a:stretch/>
        </p:blipFill>
        <p:spPr>
          <a:xfrm>
            <a:off x="762120" y="1600200"/>
            <a:ext cx="272736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80" name="WordArt 6"/>
          <p:cNvSpPr txBox="1"/>
          <p:nvPr/>
        </p:nvSpPr>
        <p:spPr>
          <a:xfrm>
            <a:off x="762120" y="1295280"/>
            <a:ext cx="4495680" cy="12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Limited Freed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conomic Effects of Commun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Agrarian Socie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most people work/live on a fa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Limited choice for consum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the government produces only very few produ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elf-sufficient lifesty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people must provide their own products, create their own j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22:51:10Z</dcterms:created>
  <dc:creator>jpaul281</dc:creator>
  <dc:description/>
  <dc:language>en-US</dc:language>
  <cp:lastModifiedBy>CFISD</cp:lastModifiedBy>
  <dcterms:modified xsi:type="dcterms:W3CDTF">2009-04-17T12:33:32Z</dcterms:modified>
  <cp:revision>50</cp:revision>
  <dc:subject/>
  <dc:title>Communism in SE Asia</dc:title>
</cp:coreProperties>
</file>