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793-7B9E-4A85-AFCC-F52ECD01C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1E8C-B06F-494B-BD46-13CA052E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482-48C2-4B01-AA6C-D761D94F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2D5-88F1-4196-9913-3934CDE4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9BE-D819-4178-ABA3-14BA0C72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2A5-1F50-4908-8625-497D9D7F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336-CAB0-4CB7-A320-A65FFE69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FFE-BCEE-476C-8CDA-9D7B3029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5B6-575E-4DEC-91DA-8DDF33CB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5ED-7AAC-4CCD-B453-68938D6E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042-5BA9-494B-9EDD-318F1DB1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3CE-4CC3-468E-B336-6DEEB48C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5A7-2C60-48FB-8A92-E713B3B4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05B-FB51-4638-ABAD-2D8E3372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D46C-8896-4DB1-BEAD-B9C8BAE51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y 2 –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ffects of the Spread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Self-Sufficiency - Few Regulations For Small Busi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Freda's Pics 239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323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Text Box 4"/>
          <p:cNvSpPr/>
          <p:nvPr/>
        </p:nvSpPr>
        <p:spPr>
          <a:xfrm>
            <a:off x="9144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04920" y="5105520"/>
            <a:ext cx="862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government interference, small business owners can do what they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stence Farming – produce only enough to feed 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561120" y="4811760"/>
            <a:ext cx="18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nese meat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Empty Pyongyang streets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304920" y="1600200"/>
            <a:ext cx="3733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aerial view of Pyongyang, North Korea’s capital city at 5pm on a week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compare to Houston at 5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2667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 picture for each of the economic effects.  Include a caption underneath explaining your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prk-dmsp-dark"/>
          <p:cNvPicPr/>
          <p:nvPr/>
        </p:nvPicPr>
        <p:blipFill>
          <a:blip r:embed="rId1"/>
          <a:srcRect l="15832" t="0" r="22427" b="0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28600" y="1371600"/>
            <a:ext cx="2438280" cy="24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is satellite im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86200" cy="2595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762120" y="53341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e farming in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334120" y="52578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conductor factory in 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 vs. Sou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20364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581280" y="990720"/>
          <a:ext cx="5410440" cy="6237000"/>
        </p:xfrm>
        <a:graphic>
          <a:graphicData uri="http://schemas.openxmlformats.org/drawingml/2006/table">
            <a:tbl>
              <a:tblPr/>
              <a:tblGrid>
                <a:gridCol w="2705400"/>
                <a:gridCol w="270504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t dictato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1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 – Democ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24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F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uge food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arable (Farm)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farm equipment - not enough tractors and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819520" cy="22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2057400" cy="1407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ing North Korean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095880" y="38862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unnies bred for North Korean farms to fight the food shor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Korea’s government isolates its  population from the res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ell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sorship of th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ponsored TV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national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4695840"/>
            <a:ext cx="85341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LIMITED FREE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examples above demonstrate limited freed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Limited Freedoms next to each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oldiers on parade"/>
          <p:cNvPicPr/>
          <p:nvPr/>
        </p:nvPicPr>
        <p:blipFill>
          <a:blip r:embed="rId1"/>
          <a:stretch/>
        </p:blipFill>
        <p:spPr>
          <a:xfrm>
            <a:off x="3352680" y="1219320"/>
            <a:ext cx="548640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28600" y="1295280"/>
            <a:ext cx="2895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 Uni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usinesses and schools have strict rules that must b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s must be worn, strict procedures followed, everything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y a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6540018"/>
          <p:cNvPicPr/>
          <p:nvPr/>
        </p:nvPicPr>
        <p:blipFill>
          <a:blip r:embed="rId1"/>
          <a:stretch/>
        </p:blipFill>
        <p:spPr>
          <a:xfrm>
            <a:off x="5167440" y="1600200"/>
            <a:ext cx="30002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457200" y="48769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one visits the streets of Shanghai or a local restaurant in Beijing, Chinese businesses are structured and uniforms are w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niforms"/>
          <p:cNvPicPr/>
          <p:nvPr/>
        </p:nvPicPr>
        <p:blipFill>
          <a:blip r:embed="rId2"/>
          <a:stretch/>
        </p:blipFill>
        <p:spPr>
          <a:xfrm>
            <a:off x="533520" y="1371600"/>
            <a:ext cx="4038480" cy="302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. Discourage 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ship the state and political leaders instead of religious l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tern religions are illeg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ommemorative photograph"/>
          <p:cNvPicPr/>
          <p:nvPr/>
        </p:nvPicPr>
        <p:blipFill>
          <a:blip r:embed="rId1"/>
          <a:stretch/>
        </p:blipFill>
        <p:spPr>
          <a:xfrm>
            <a:off x="5029200" y="3581280"/>
            <a:ext cx="3467160" cy="212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5029200" y="571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Korean family takes a family portrait beneath a statue of dictator Kim Jong-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Freda's Pics 174"/>
          <p:cNvPicPr/>
          <p:nvPr/>
        </p:nvPicPr>
        <p:blipFill>
          <a:blip r:embed="rId2"/>
          <a:srcRect l="0" t="0" r="0" b="17239"/>
          <a:stretch/>
        </p:blipFill>
        <p:spPr>
          <a:xfrm>
            <a:off x="304920" y="1066680"/>
            <a:ext cx="388620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Text Box 11"/>
          <p:cNvSpPr/>
          <p:nvPr/>
        </p:nvSpPr>
        <p:spPr>
          <a:xfrm>
            <a:off x="304920" y="5562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souvenir stand selling Mao Zedong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2286000" y="350532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26400005"/>
          <p:cNvPicPr/>
          <p:nvPr/>
        </p:nvPicPr>
        <p:blipFill>
          <a:blip r:embed="rId1"/>
          <a:stretch/>
        </p:blipFill>
        <p:spPr>
          <a:xfrm>
            <a:off x="4572000" y="1600200"/>
            <a:ext cx="3745080" cy="248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5840" y="4343400"/>
            <a:ext cx="4800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nese government allows traditional Chinese religions but does not allow any western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6190007"/>
          <p:cNvPicPr/>
          <p:nvPr/>
        </p:nvPicPr>
        <p:blipFill>
          <a:blip r:embed="rId2"/>
          <a:stretch/>
        </p:blipFill>
        <p:spPr>
          <a:xfrm>
            <a:off x="762120" y="1600200"/>
            <a:ext cx="27273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WordArt 6"/>
          <p:cNvSpPr txBox="1"/>
          <p:nvPr/>
        </p:nvSpPr>
        <p:spPr>
          <a:xfrm>
            <a:off x="762120" y="129528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grarian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st people work/live on a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imited choice for 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government produces only very few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lf-sufficient life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must provide their own products, create their ow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51:10Z</dcterms:created>
  <dc:creator>jpaul281</dc:creator>
  <dc:description/>
  <dc:language>en-US</dc:language>
  <cp:lastModifiedBy>CFISD</cp:lastModifiedBy>
  <dcterms:modified xsi:type="dcterms:W3CDTF">2009-04-17T12:33:32Z</dcterms:modified>
  <cp:revision>50</cp:revision>
  <dc:subject/>
  <dc:title>Communism in SE Asia</dc:title>
</cp:coreProperties>
</file>