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2283-7610-481E-83AE-F6043E54B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068E-9F25-402B-992E-E13A4E1D6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E0A-0353-47F2-AEDD-D6A13EF4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8E3-B915-42A7-9B6C-FA3BD8C0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4E9-FC64-4315-8D0B-4DC01DC4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C08-06D9-43D9-B71D-C1AF6033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646-6A59-464A-8A1A-FE97149F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0F7-9F95-4560-8A99-4CA70CD1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6F0-3625-4394-996A-2534A6C9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BCA-AA9D-4185-ADC8-3436F7A8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36AD-070B-4CEC-BFCB-EA885C69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819-8EA3-4D8E-AF06-CD78FBE0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45D-3DCA-489F-BF87-C7143F35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277-78BE-4EEE-8557-136F5F98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E183-5478-4256-83B9-6D2033862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44792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y 2 –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ia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conomi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Effects of the Spread of Commu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Self-Sufficiency - Few Regulations For Small Busin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Freda's Pics 239"/>
          <p:cNvPicPr/>
          <p:nvPr/>
        </p:nvPicPr>
        <p:blipFill>
          <a:blip r:embed="rId1"/>
          <a:stretch/>
        </p:blipFill>
        <p:spPr>
          <a:xfrm>
            <a:off x="1981080" y="1447920"/>
            <a:ext cx="5486400" cy="3230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5" name="Text Box 4"/>
          <p:cNvSpPr/>
          <p:nvPr/>
        </p:nvSpPr>
        <p:spPr>
          <a:xfrm>
            <a:off x="914400" y="548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04920" y="5105520"/>
            <a:ext cx="862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government interference, small business owners can do what they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istence Farming – produce only enough to feed one’s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561120" y="4811760"/>
            <a:ext cx="187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nese meat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Empty Pyongyang streets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304920" y="1600200"/>
            <a:ext cx="37335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n aerial view of Pyongyang, North Korea’s capital city at 5pm on a week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compare to Houston at 5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lik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4038480"/>
            <a:ext cx="2667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etch a picture for each of the economic effects.  Include a caption underneath explaining your pic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prk-dmsp-dark"/>
          <p:cNvPicPr/>
          <p:nvPr/>
        </p:nvPicPr>
        <p:blipFill>
          <a:blip r:embed="rId1"/>
          <a:srcRect l="15832" t="0" r="22427" b="0"/>
          <a:stretch/>
        </p:blipFill>
        <p:spPr>
          <a:xfrm>
            <a:off x="28954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228600" y="1371600"/>
            <a:ext cx="2438280" cy="24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is satellite im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lik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tn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iw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3886200" cy="2595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762120" y="53341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e farming in Viet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809880" cy="25002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5334120" y="525780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conductor factory in Tai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Korea vs. South Ko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3203640" cy="44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3581280" y="990720"/>
          <a:ext cx="5410440" cy="6237000"/>
        </p:xfrm>
        <a:graphic>
          <a:graphicData uri="http://schemas.openxmlformats.org/drawingml/2006/table">
            <a:tbl>
              <a:tblPr/>
              <a:tblGrid>
                <a:gridCol w="2705400"/>
                <a:gridCol w="2705040"/>
              </a:tblGrid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Ko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Ko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st dictatorsh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 Econo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per person = $1,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 – Democra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Econo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per person = $24,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FAM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uge food sho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arable (Farm)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Farming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farm equipment - not enough tractors and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819520" cy="225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2057400" cy="14079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304920" y="1981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ving North Korean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6095880" y="38862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bunnies bred for North Korean farms to fight the food shor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Korea’s government isolates its  population from the rest of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ell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sorship of the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sponsored TV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ternational tr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4695840"/>
            <a:ext cx="853416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LIMITED FREED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examples above demonstrate limited freedo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Limited Freedoms next to each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Soldiers on parade"/>
          <p:cNvPicPr/>
          <p:nvPr/>
        </p:nvPicPr>
        <p:blipFill>
          <a:blip r:embed="rId1"/>
          <a:stretch/>
        </p:blipFill>
        <p:spPr>
          <a:xfrm>
            <a:off x="3352680" y="1219320"/>
            <a:ext cx="5486400" cy="3821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228600" y="1295280"/>
            <a:ext cx="2895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. Unifor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businesses and schools have strict rules that must be fo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s must be worn, strict procedures followed, everything i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formity a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26540018"/>
          <p:cNvPicPr/>
          <p:nvPr/>
        </p:nvPicPr>
        <p:blipFill>
          <a:blip r:embed="rId1"/>
          <a:stretch/>
        </p:blipFill>
        <p:spPr>
          <a:xfrm>
            <a:off x="5167440" y="1600200"/>
            <a:ext cx="300024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7" name="Text Box 4"/>
          <p:cNvSpPr/>
          <p:nvPr/>
        </p:nvSpPr>
        <p:spPr>
          <a:xfrm>
            <a:off x="457200" y="487692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one visits the streets of Shanghai or a local restaurant in Beijing, Chinese businesses are structured and uniforms are wo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Uniforms"/>
          <p:cNvPicPr/>
          <p:nvPr/>
        </p:nvPicPr>
        <p:blipFill>
          <a:blip r:embed="rId2"/>
          <a:stretch/>
        </p:blipFill>
        <p:spPr>
          <a:xfrm>
            <a:off x="533520" y="1371600"/>
            <a:ext cx="4038480" cy="302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23920" y="1066320"/>
            <a:ext cx="40388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5. Discourage Reli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ship the state and political leaders instead of religious le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tern religions are illeg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ommemorative photograph"/>
          <p:cNvPicPr/>
          <p:nvPr/>
        </p:nvPicPr>
        <p:blipFill>
          <a:blip r:embed="rId1"/>
          <a:stretch/>
        </p:blipFill>
        <p:spPr>
          <a:xfrm>
            <a:off x="5029200" y="3581280"/>
            <a:ext cx="3467160" cy="2129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5029200" y="57150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Korean family takes a family portrait beneath a statue of dictator Kim Jong-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Freda's Pics 174"/>
          <p:cNvPicPr/>
          <p:nvPr/>
        </p:nvPicPr>
        <p:blipFill>
          <a:blip r:embed="rId2"/>
          <a:srcRect l="0" t="0" r="0" b="17239"/>
          <a:stretch/>
        </p:blipFill>
        <p:spPr>
          <a:xfrm>
            <a:off x="304920" y="1066680"/>
            <a:ext cx="3886200" cy="426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4" name="Text Box 11"/>
          <p:cNvSpPr/>
          <p:nvPr/>
        </p:nvSpPr>
        <p:spPr>
          <a:xfrm>
            <a:off x="304920" y="55627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souvenir stand selling Mao Zedong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2286000" y="3505320"/>
            <a:ext cx="449568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mited Freed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26400005"/>
          <p:cNvPicPr/>
          <p:nvPr/>
        </p:nvPicPr>
        <p:blipFill>
          <a:blip r:embed="rId1"/>
          <a:stretch/>
        </p:blipFill>
        <p:spPr>
          <a:xfrm>
            <a:off x="4572000" y="1600200"/>
            <a:ext cx="3745080" cy="248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85840" y="4343400"/>
            <a:ext cx="4800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nese government allows traditional Chinese religions but does not allow any western reli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26190007"/>
          <p:cNvPicPr/>
          <p:nvPr/>
        </p:nvPicPr>
        <p:blipFill>
          <a:blip r:embed="rId2"/>
          <a:stretch/>
        </p:blipFill>
        <p:spPr>
          <a:xfrm>
            <a:off x="762120" y="1600200"/>
            <a:ext cx="272736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WordArt 6"/>
          <p:cNvSpPr txBox="1"/>
          <p:nvPr/>
        </p:nvSpPr>
        <p:spPr>
          <a:xfrm>
            <a:off x="762120" y="1295280"/>
            <a:ext cx="449568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mited Freed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Effects of Commu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grarian Soci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ost people work/live on a f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imited choice for consu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government produces only very few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lf-sufficient lifesty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eople must provide their own products, create their own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22:51:10Z</dcterms:created>
  <dc:creator>jpaul281</dc:creator>
  <dc:description/>
  <dc:language>en-US</dc:language>
  <cp:lastModifiedBy>CFISD</cp:lastModifiedBy>
  <dcterms:modified xsi:type="dcterms:W3CDTF">2009-04-17T12:33:32Z</dcterms:modified>
  <cp:revision>50</cp:revision>
  <dc:subject/>
  <dc:title>Communism in SE Asia</dc:title>
</cp:coreProperties>
</file>