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586-1DCC-47B1-A498-312149FF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6DE-72EB-48F7-BE8F-53746450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914-4AA8-4B21-8E2E-6B4E8725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3B2-7CC7-4FF5-BE57-7DFFDA92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935-AFEA-4D8B-86EC-81C1AE41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D1B-E72D-4C74-BEBA-14D61835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7B7-C53C-476B-A54B-DAA6ACD5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C1F-4451-4F94-AA12-2F281487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BA9-34DD-4433-95E3-DEB37026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DB5-B176-4380-AB29-4CC6F14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BE0-F3D7-469F-AF40-9274ACF8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AB7-C237-4485-B393-F95445F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9994-0F8D-473F-8809-3DCA25FA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xploringafrica.matrix.msu.edu/students/curriculum/m7b/activity2.ph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of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you will be attending Michigan State University for f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a page in your notebook “MSU Module 7 - 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xploringafrica.matrix.msu.edu/students/curriculum/m7b/activity2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all student journal assignment questions on Module 7B.  Record the questions, or answer them in complete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lain or define the following key ter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cramble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hite Man’s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lin Conference (Treaty of Berl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ttler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ip the map assignment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kip the Student Journal Assignment essay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886200" y="1752480"/>
            <a:ext cx="3733920" cy="3581640"/>
            <a:chOff x="3886200" y="1752480"/>
            <a:chExt cx="3733920" cy="3581640"/>
          </a:xfrm>
        </p:grpSpPr>
        <p:sp>
          <p:nvSpPr>
            <p:cNvPr id="51" name=""/>
            <p:cNvSpPr/>
            <p:nvPr/>
          </p:nvSpPr>
          <p:spPr>
            <a:xfrm>
              <a:off x="6095880" y="1752480"/>
              <a:ext cx="1524240" cy="283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part 3 at the bottom of the first section of Module 7B.  It is titled “The Practice and Legacy of Colonialism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886200" y="3276720"/>
              <a:ext cx="220968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ee me for the chart titled “Effects of Colonialis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Complete it using the website that you just clicked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 the reading to answer the questions at the bottom of the ch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04:46Z</dcterms:created>
  <dc:creator>CFISD</dc:creator>
  <dc:description/>
  <dc:language>en-US</dc:language>
  <cp:lastModifiedBy>CFISD</cp:lastModifiedBy>
  <dcterms:modified xsi:type="dcterms:W3CDTF">2009-05-05T12:40:40Z</dcterms:modified>
  <cp:revision>5</cp:revision>
  <dc:subject/>
  <dc:title>Colonization of Africa</dc:title>
</cp:coreProperties>
</file>