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25A2-59FA-4147-8116-1CC46304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BE32-3A86-4365-AD77-6350DEF9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EA7-E950-44D4-A822-B4871432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7099-1300-414F-8363-7D414E92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92F-D3EC-4085-A75E-CDFFE02C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8B5-705F-4B78-B484-2A4A2213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CDF-09F8-4375-AB4A-1752E7DF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87C-3C95-4163-B345-41E67A6B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815-83A7-4B57-B2EA-8160BAC9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77D7-8126-457B-B7F1-D0A13638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C7C-352A-4332-AC73-DDEC156F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808-8BD3-4167-8AD4-FB688F2D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48F8-E857-418A-A90E-184C0CA06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xploringafrica.matrix.msu.edu/students/curriculum/m7b/activity2.php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of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you will be attending Michigan State University for fre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a page in your notebook “MSU Module 7 - Colonial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 – Module 7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exploringafrica.matrix.msu.edu/students/curriculum/m7b/activity2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all student journal assignment questions on Module 7B.  Record the questions, or answer them in complete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– Module 7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xplain or define the following key ter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ation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cramble for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White Man’s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rlin Conference (Treaty of Berl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rec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irec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ttler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kip the map assignment at the bottom of Module 7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kip the Student Journal Assignment essay at the bottom of Module 7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3886200" y="1752480"/>
            <a:ext cx="3733920" cy="3581640"/>
            <a:chOff x="3886200" y="1752480"/>
            <a:chExt cx="3733920" cy="3581640"/>
          </a:xfrm>
        </p:grpSpPr>
        <p:sp>
          <p:nvSpPr>
            <p:cNvPr id="51" name=""/>
            <p:cNvSpPr/>
            <p:nvPr/>
          </p:nvSpPr>
          <p:spPr>
            <a:xfrm>
              <a:off x="6095880" y="1752480"/>
              <a:ext cx="1524240" cy="283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part 3 at the bottom of the first section of Module 7B.  It is titled “The Practice and Legacy of Colonialism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886200" y="3276720"/>
              <a:ext cx="220968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See me for the chart titled “Effects of Colonialism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Complete it using the website that you just clicked 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Use the reading to answer the questions at the bottom of the char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12:04:46Z</dcterms:created>
  <dc:creator>CFISD</dc:creator>
  <dc:description/>
  <dc:language>en-US</dc:language>
  <cp:lastModifiedBy>CFISD</cp:lastModifiedBy>
  <dcterms:modified xsi:type="dcterms:W3CDTF">2009-05-05T12:40:40Z</dcterms:modified>
  <cp:revision>5</cp:revision>
  <dc:subject/>
  <dc:title>Colonization of Africa</dc:title>
</cp:coreProperties>
</file>