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E045-B398-4C51-A72D-778732CF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283-5E96-4806-976C-5E17C4A3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98A4-74DE-4EED-A497-CE7F1F05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7B7B-CC9E-4D03-895E-55673E861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84CD-E7E7-4E32-885C-21CC0BA0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B963-9275-4D6A-BB07-669A882A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488-D9FD-4ED3-B7D2-C8F891E2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5E7-DB70-483C-92C3-46E3B37D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5290-3253-4211-AF32-21025F07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7C4-AD3B-4CB5-9F3C-4768C6AF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ACF6-52DA-4D77-BA90-0BB6431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5D87-44F5-43BA-B164-93AC968A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E7F5-4D82-401B-B2E9-2948264AB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xploringafrica.matrix.msu.edu/students/curriculum/m7b/activity2.php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of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you will be attending Michigan State University for f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a page in your notebook “MSU Module 7 - 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xploringafrica.matrix.msu.edu/students/curriculum/m7b/activity2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all student journal assignment questions on Module 7B.  Record the questions, or answer them in complete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plain or define the following key ter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cramble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hite Man’s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lin Conference (Treaty of Berl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ttler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ip the map assignment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kip the Student Journal Assignment essay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886200" y="1752480"/>
            <a:ext cx="3733920" cy="3581640"/>
            <a:chOff x="3886200" y="1752480"/>
            <a:chExt cx="3733920" cy="3581640"/>
          </a:xfrm>
        </p:grpSpPr>
        <p:sp>
          <p:nvSpPr>
            <p:cNvPr id="51" name=""/>
            <p:cNvSpPr/>
            <p:nvPr/>
          </p:nvSpPr>
          <p:spPr>
            <a:xfrm>
              <a:off x="6095880" y="1752480"/>
              <a:ext cx="1524240" cy="283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part 3 at the bottom of the first section of Module 7B.  It is titled “The Practice and Legacy of Colonialism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886200" y="3276720"/>
              <a:ext cx="220968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ee me for the chart titled “Effects of Colonialis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Complete it using the website that you just clicked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Use the reading to answer the questions at the bottom of the ch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2:04:46Z</dcterms:created>
  <dc:creator>CFISD</dc:creator>
  <dc:description/>
  <dc:language>en-US</dc:language>
  <cp:lastModifiedBy>CFISD</cp:lastModifiedBy>
  <dcterms:modified xsi:type="dcterms:W3CDTF">2009-05-05T12:40:40Z</dcterms:modified>
  <cp:revision>5</cp:revision>
  <dc:subject/>
  <dc:title>Colonization of Africa</dc:title>
</cp:coreProperties>
</file>