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11D0-CA22-4D21-B63C-10B1DDB0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288C-AF33-4B5E-A7DE-9274C278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D7C-A15E-4559-8025-55C02172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8D9-C71F-4D42-B9E9-1F5748AD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BE8E-A22C-42A7-9E55-B55B468B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0962-F6AA-48AC-9C98-5E594354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B62B-0572-4FAD-AD5A-032CDDE0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26FB-48FC-4721-B5C2-F7D3738B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2178-F10C-470E-A319-6DB98E24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567-FB75-4B55-BB6D-86911642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B025-B973-414B-832C-E3EBAC45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ED5-517E-4BA7-BE65-D364A585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DA3E-0C31-4D76-A31B-9A87BE661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ibrary.nd.edu/rarebooks/exhibits/riverplate/04-rise/index.s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learnhub.com/lesson/page/4235-politics-of-the-banana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Gover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of Government – record these on the Venn Dia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Oligarc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few rich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ish colonists controlled the government (Europe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provide anything for the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d to socialist governments that have been elected in last coupl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" t="13891" r="64585" b="54631"/>
          <a:stretch/>
        </p:blipFill>
        <p:spPr>
          <a:xfrm>
            <a:off x="2895480" y="380880"/>
            <a:ext cx="6019920" cy="41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143000"/>
            <a:ext cx="2210040" cy="42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Jun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government run by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ymbols are present in this cartoon that demonstrate a jun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85345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Caudill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government run by a military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cta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website below to answer the two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dillo websi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ibrary.nd.edu/rarebooks/exhibits/riverplate/04-rise/index.s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did Caudillos provide for thei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id they gover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the wiki and access the source titled “Latin American Countries” and answer the question on the back of the yellow paper beneath the Venn Diagra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s of the Ban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hub.com/lesson/page/4235-politics-of-the-ban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2:57:19Z</dcterms:created>
  <dc:creator>CFISD</dc:creator>
  <dc:description/>
  <dc:language>en-US</dc:language>
  <cp:lastModifiedBy>CFISD</cp:lastModifiedBy>
  <dcterms:modified xsi:type="dcterms:W3CDTF">2009-01-30T13:28:18Z</dcterms:modified>
  <cp:revision>4</cp:revision>
  <dc:subject/>
  <dc:title>Colonization</dc:title>
</cp:coreProperties>
</file>