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4ECD-A716-4665-AFC3-702D9EE7E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980C-1C9C-4879-9157-DB3DF25E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7582-C394-44A5-8C34-801D2900D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3F70-A920-496D-A19E-15679427B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E140-7B58-47D8-B1D2-C1478061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6902-D735-49E3-A6AD-AAC9FD0C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2A77-F0FF-4DB9-AD49-77982D91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5199-5D44-483C-8812-2661F124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1D48-6CBC-4D41-9BE1-814DB5AC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BBF5-AAF3-419D-8226-033B6D9E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415F-C965-4D77-B9CF-8EE9AC38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B5F3-C7C8-4125-A05B-13105CD8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6E19-6181-4150-8CB0-25DBDB5B9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ibrary.nd.edu/rarebooks/exhibits/riverplate/04-rise/index.s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learnhub.com/lesson/page/4235-politics-of-the-banana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Gover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Government – record these on the Venn Dia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Oligarc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government run by a few rich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ish colonists controlled the government (Europea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not provide anything for the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d to socialist governments that have been elected in last couple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1388" t="13891" r="64585" b="54631"/>
          <a:stretch/>
        </p:blipFill>
        <p:spPr>
          <a:xfrm>
            <a:off x="2895480" y="380880"/>
            <a:ext cx="6019920" cy="4176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880" y="1143000"/>
            <a:ext cx="221004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Jun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government run by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ili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ymbols are present in this cartoon that demonstrate a jun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5345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Caudill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government run by a militar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ct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website below to answer the two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udillo websit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library.nd.edu/rarebooks/exhibits/riverplate/04-rise/index.s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hat did Caudillos provide for their peop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ow did they gove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the wiki and access the source titled “Latin American Countries” and answer the question on the back of the yellow paper beneath the Venn Diagra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s of the Ban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learnhub.com/lesson/page/4235-politics-of-the-ban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12:57:19Z</dcterms:created>
  <dc:creator>CFISD</dc:creator>
  <dc:description/>
  <dc:language>en-US</dc:language>
  <cp:lastModifiedBy>CFISD</cp:lastModifiedBy>
  <dcterms:modified xsi:type="dcterms:W3CDTF">2009-01-30T13:28:18Z</dcterms:modified>
  <cp:revision>4</cp:revision>
  <dc:subject/>
  <dc:title>Colonization</dc:title>
</cp:coreProperties>
</file>