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5749-120B-4845-8C5A-A1ACD849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A3A-3B9A-42CA-BC96-C67CFE5F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8EA8-BF53-4831-BD48-5B20A789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935D-C0E9-4F47-990A-CA296D57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6A3C-F91F-45BE-A5D4-6079BB57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7B87-79F9-4224-8F57-0354ECDD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657-6DA9-4A88-9268-C0262CF9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7472-71D3-4F26-B317-01A6E778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623-CE74-4DAA-AE15-D9BB4583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91F4-7155-4F61-B4BA-2FCE822F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CC57-6FF2-4AD8-AB3A-0C848307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8BA-27C5-41B5-A15E-A551E087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7D63-5EEE-4EC6-BE01-BF88512EB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brary.nd.edu/rarebooks/exhibits/riverplate/04-rise/index.s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earnhub.com/lesson/page/4235-politics-of-the-banana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Government – record these on the Ven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Oligarc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government run by a few rich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colonists controlled the government (Europ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provide anything for the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socialist governments that have been elected in last coupl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388" t="13891" r="64585" b="54631"/>
          <a:stretch/>
        </p:blipFill>
        <p:spPr>
          <a:xfrm>
            <a:off x="2895480" y="380880"/>
            <a:ext cx="6019920" cy="4176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143000"/>
            <a:ext cx="22100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Jun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government run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ymbols are present in this cartoon that demonstrate a jun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audil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government run by a milita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ct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website below to answer the two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dillo websi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brary.nd.edu/rarebooks/exhibits/riverplate/04-rise/index.s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did Caudillos provide for their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did they gov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wiki and access the source titled “Latin American Countries” and answer the question on the back of the yellow paper beneath the Venn Diagr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 of the Ban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earnhub.com/lesson/page/4235-politics-of-the-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2:57:19Z</dcterms:created>
  <dc:creator>CFISD</dc:creator>
  <dc:description/>
  <dc:language>en-US</dc:language>
  <cp:lastModifiedBy>CFISD</cp:lastModifiedBy>
  <dcterms:modified xsi:type="dcterms:W3CDTF">2009-01-30T13:28:18Z</dcterms:modified>
  <cp:revision>4</cp:revision>
  <dc:subject/>
  <dc:title>Colonization</dc:title>
</cp:coreProperties>
</file>