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1075-57E0-477D-A092-54DD2D8D1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AEB5-34B1-43BA-A15E-BF8537EFD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9FD0-0F2F-4DA2-B4C0-9176F88CD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11FB-A373-42E3-86B1-D42598468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6D0B-C121-41E9-969F-EFEF8CDA6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05BF-DF89-4B1D-91B9-529A34716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9B6B-AAD7-45C0-8876-92FC85EC9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BAFD-FC00-4B8E-8811-44ABCB25F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E37-6975-4D18-8A2F-A54BC1DA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352-07DC-4CF2-9B3B-01BAEA8A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C57-AE84-40D6-8828-FADCFC9B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8F5-6D23-4AFC-A79A-09A68FC5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8DA-6B7C-4FB1-8121-8BDEABEE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76D-3387-4AD6-9F1E-48A583FC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4DC-7656-4F5E-BF88-56CBBFA2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614-9173-49B9-B9E7-A778AAF8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AE9-6775-41BF-8124-BD181059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0FE-008B-461B-A455-CAB55C56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172-CC92-4DBE-8908-E6966AA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3A1-4606-4E0A-B1DF-35B544CF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24D0-BBE6-4A7D-8C65-0B8C0AF94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bs.org/newshour/indepth_coverage/asia/partition/timeline/index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Hindu practice whereby a widow throws herself on the funeral pyre of her husband: now abolished by modern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 was officially abolished by the British government on December 4 1829, however it is still practiced in rural areas throughout Indi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2/3 of India’s people still rely on farming for their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ly, cotton textiles have been the major source of income for In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since the removal of British control and the monopoly over the various industries , other industries such as iron and steel have become major sources of income for India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images.encarta.msn.com/xrefmedia/sharemed/targets/images/pho/t045/T045035A.jpg"/>
          <p:cNvPicPr/>
          <p:nvPr/>
        </p:nvPicPr>
        <p:blipFill>
          <a:blip r:embed="rId1"/>
          <a:stretch/>
        </p:blipFill>
        <p:spPr>
          <a:xfrm>
            <a:off x="7467480" y="304920"/>
            <a:ext cx="1486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7" descr="719px-India_railways1909a.jpg"/>
          <p:cNvPicPr/>
          <p:nvPr/>
        </p:nvPicPr>
        <p:blipFill>
          <a:blip r:embed="rId1"/>
          <a:stretch/>
        </p:blipFill>
        <p:spPr>
          <a:xfrm>
            <a:off x="3733920" y="1447920"/>
            <a:ext cx="5111640" cy="4265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ilway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added a very extensive railway system throughout In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1920 a total of 38,040 miles of railroad spread out through India connecting the three ma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itish por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ed for trading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mbay, Madras and Calcu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41008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reate an illustrated (visuals) timeline of about the political, economic, and social impacts of the colonization of In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imeline must include the following ev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East India Company gained control of all India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Government establishes rule over India (establishes the Ra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 National Congress f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 League wants a separate Pakistani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kistan and India declar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battle over Kash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 becomes a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lin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bel each event and include the date.  Use the event names above as your lab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reate a visual for each timeline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ate a caption explaining each 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lude a ti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vent is worth 10 points each.  The title is also worth 10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T SPOT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newshour/indepth_coverage/asia/partition/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vents are located here or in the reading titled “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slides will provide additional information about colonization.   Check them out for further explanations if necess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traders came to India  looking for spices, cloth, and other goods not available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the British East India Company, Britain gains control of India’s trade with Europe in 175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were looking for new markets to establish trade with. (Mercantilis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w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onwealth membership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British Commonwealth of Nations, which is an organization of countries that were formerly colonies of the British.  Among the important roles played by this organization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ion of free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Criteria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democra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monarch of the Commonwealth as the Head of the Commonweal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ish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means of Commonwealth commun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visitbritain.com/en/Images/commonwealth_flag_tcm12-94186.jpg"/>
          <p:cNvPicPr/>
          <p:nvPr/>
        </p:nvPicPr>
        <p:blipFill>
          <a:blip r:embed="rId1"/>
          <a:stretch/>
        </p:blipFill>
        <p:spPr>
          <a:xfrm>
            <a:off x="6705720" y="304920"/>
            <a:ext cx="1981080" cy="12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visitbritain.com/en/Images/commonwealth_flag_tcm12-94186.jpg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is the world’s Largest Democracy (EST. 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both the American and the British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spects in Indian govern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parliamentary democ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er of the majority party becomes the prime minister the head of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capitalpublications.com/images/washington.jpg"/>
          <p:cNvPicPr/>
          <p:nvPr/>
        </p:nvPicPr>
        <p:blipFill>
          <a:blip r:embed="rId1"/>
          <a:stretch/>
        </p:blipFill>
        <p:spPr>
          <a:xfrm>
            <a:off x="6477120" y="0"/>
            <a:ext cx="2368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nization of India by the British provided a high level of education but only to India’s e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s as a majority still work on a farms, but as the economy changes educational needs are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spending per student is extremely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ed State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23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wever India’s average school well outperforms those in the United St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3applesbookaward.org/childrens/promote/images/RedApple.jpg"/>
          <p:cNvPicPr/>
          <p:nvPr/>
        </p:nvPicPr>
        <p:blipFill>
          <a:blip r:embed="rId1"/>
          <a:stretch/>
        </p:blipFill>
        <p:spPr>
          <a:xfrm>
            <a:off x="7010280" y="0"/>
            <a:ext cx="1519200" cy="161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michigan.gov/images/School_Building_21611_7.jpg"/>
          <p:cNvPicPr/>
          <p:nvPr/>
        </p:nvPicPr>
        <p:blipFill>
          <a:blip r:embed="rId2"/>
          <a:stretch/>
        </p:blipFill>
        <p:spPr>
          <a:xfrm>
            <a:off x="457200" y="228600"/>
            <a:ext cx="1495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2:17:25Z</dcterms:created>
  <dc:creator>CFISD</dc:creator>
  <dc:description/>
  <dc:language>en-US</dc:language>
  <cp:lastModifiedBy>CFISD</cp:lastModifiedBy>
  <dcterms:modified xsi:type="dcterms:W3CDTF">2009-03-25T12:46:17Z</dcterms:modified>
  <cp:revision>2</cp:revision>
  <dc:subject/>
  <dc:title>Colonization Timelines</dc:title>
</cp:coreProperties>
</file>