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AA53-820F-400D-908D-14F7B6535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8A2E-941D-4E79-8D89-33C567761D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D16F-598F-4CBC-9117-105FA5D452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A1DF-BBF2-4031-8063-2809A7C31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C6B7-50CD-4486-9F95-D93A7D8199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808C-3A37-451F-90C0-9820249423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E6A7-0995-4816-9709-5E1370E621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C8DA-80F1-4C0B-834E-62DF12835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DB9F-C002-4E01-AB4C-3E0F1DD8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6ECF-7F12-40CB-9F2C-E74CB1B5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2D01-56FD-4721-86F9-3014CBF2A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3CF3-E9F5-4368-8FE2-BBBC50FE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BBF0-44C6-4B30-92F4-1A84F722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638-AC49-4C9F-A0FF-B66F5DD12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D92D-C357-4824-9186-1A001D14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996-1816-4CDC-9809-DB4BF60F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1F40-ABE5-4B19-BCAF-1D1F840D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2481-01DE-41C0-B57C-73F6DC82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91D-E9DE-44E1-8795-D1DAD0BC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7C8-43A4-4276-B92C-2A9CA5DF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DF5B-52AF-4AA0-BE6B-40C4AB968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bs.org/newshour/indepth_coverage/asia/partition/timeline/index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ati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Hindu practice whereby a widow throws herself on the funeral pyre of her husband: now abolished by modern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 was officially abolished by the British government on December 4 1829, however it is still practiced in rural areas throughout India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2/3 of India’s people still rely on farming for their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ly, cotton textiles have been the major source of income for Ind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since the removal of British control and the monopoly over the various industries , other industries such as iron and steel have become major sources of income for Indi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images.encarta.msn.com/xrefmedia/sharemed/targets/images/pho/t045/T045035A.jpg"/>
          <p:cNvPicPr/>
          <p:nvPr/>
        </p:nvPicPr>
        <p:blipFill>
          <a:blip r:embed="rId1"/>
          <a:stretch/>
        </p:blipFill>
        <p:spPr>
          <a:xfrm>
            <a:off x="7467480" y="304920"/>
            <a:ext cx="14860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719px-India_railways1909a.jpg"/>
          <p:cNvPicPr/>
          <p:nvPr/>
        </p:nvPicPr>
        <p:blipFill>
          <a:blip r:embed="rId1"/>
          <a:stretch/>
        </p:blipFill>
        <p:spPr>
          <a:xfrm>
            <a:off x="3733920" y="1447920"/>
            <a:ext cx="5111640" cy="4265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ilway Syste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31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tish added a very extensive railway system throughout Ind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1920 a total of 38,040 miles of railroad spread out through India connecting the three ma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ritish por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used for trading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Bombay, Madras and Calcut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10080" y="160020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reate an illustrated (visuals) timeline of about the political, economic, and social impacts of the colonization of In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imeline must include the following ev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East India Company gained control of all Indian 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ritish Government establishes rule over India (establishes the Raj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n National Congress f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lim League wants a separate Pakistani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’s Salt Mar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kistan and India declare 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battle over Kash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dhi assass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a becomes a democ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onization Timeli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imelin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bel each event and include the date.  Use the event names above as your lab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reate a visual for each timeline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reate a caption explaining each 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nclude a ti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event is worth 10 points each.  The title is also worth 10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T SPOT: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bs.org/newshour/indepth_coverage/asia/partition/timelin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vents are located here or in the reading titled “Colonialism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slides will provide additional information about colonization.   Check them out for further explanations if necessa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Colo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traders came to India  looking for spices, cloth, and other goods not available in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ing the British East India Company, Britain gains control of India’s trade with Europe in 175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ritish were looking for new markets to establish trade with. (Mercantilism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w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onwealth membership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British Commonwealth of Nations, which is an organization of countries that were formerly colonies of the British.  Among the important roles played by this organization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motion of free t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Criteria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democrati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monarch of the Commonwealth as the Head of the Commonweal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lish langu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means of Commonwealth commun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visitbritain.com/en/Images/commonwealth_flag_tcm12-94186.jpg"/>
          <p:cNvPicPr/>
          <p:nvPr/>
        </p:nvPicPr>
        <p:blipFill>
          <a:blip r:embed="rId1"/>
          <a:stretch/>
        </p:blipFill>
        <p:spPr>
          <a:xfrm>
            <a:off x="6705720" y="304920"/>
            <a:ext cx="1981080" cy="1204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visitbritain.com/en/Images/commonwealth_flag_tcm12-94186.jpg"/>
          <p:cNvPicPr/>
          <p:nvPr/>
        </p:nvPicPr>
        <p:blipFill>
          <a:blip r:embed="rId2"/>
          <a:stretch/>
        </p:blipFill>
        <p:spPr>
          <a:xfrm>
            <a:off x="380880" y="228600"/>
            <a:ext cx="198144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is the world’s Largest Democracy (EST. 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s both the American and the British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spects in Indian govern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parliamentary democra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ader of the majority party becomes the prime minister the head of the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capitalpublications.com/images/washington.jpg"/>
          <p:cNvPicPr/>
          <p:nvPr/>
        </p:nvPicPr>
        <p:blipFill>
          <a:blip r:embed="rId1"/>
          <a:stretch/>
        </p:blipFill>
        <p:spPr>
          <a:xfrm>
            <a:off x="6477120" y="0"/>
            <a:ext cx="2368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nization of India by the British provided a high level of education but only to India’s el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s as a majority still work on a farms, but as the economy changes educational needs are c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 spending per student is extremely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ted State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23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a’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nding per stud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6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however India’s average school well outperforms those in the United St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.3applesbookaward.org/childrens/promote/images/RedApple.jpg"/>
          <p:cNvPicPr/>
          <p:nvPr/>
        </p:nvPicPr>
        <p:blipFill>
          <a:blip r:embed="rId1"/>
          <a:stretch/>
        </p:blipFill>
        <p:spPr>
          <a:xfrm>
            <a:off x="7010280" y="0"/>
            <a:ext cx="1519200" cy="1612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michigan.gov/images/School_Building_21611_7.jpg"/>
          <p:cNvPicPr/>
          <p:nvPr/>
        </p:nvPicPr>
        <p:blipFill>
          <a:blip r:embed="rId2"/>
          <a:stretch/>
        </p:blipFill>
        <p:spPr>
          <a:xfrm>
            <a:off x="457200" y="228600"/>
            <a:ext cx="14954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2:17:25Z</dcterms:created>
  <dc:creator>CFISD</dc:creator>
  <dc:description/>
  <dc:language>en-US</dc:language>
  <cp:lastModifiedBy>CFISD</cp:lastModifiedBy>
  <dcterms:modified xsi:type="dcterms:W3CDTF">2009-03-25T12:46:17Z</dcterms:modified>
  <cp:revision>2</cp:revision>
  <dc:subject/>
  <dc:title>Colonization Timelines</dc:title>
</cp:coreProperties>
</file>