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A85-8641-484C-BB47-DED9C028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8830-79C4-4D95-9C84-4D440586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006-F10F-4A33-AC0C-B3D05A7A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CEA-C426-4AD7-A95F-58E80263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558-662E-4C35-9776-CD2BE0DB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69A-D239-4C5E-8AEA-891CC951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0DF-FA31-4964-AB85-CD658390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8C96-C549-47F7-A539-2CA946D5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E67-0D49-438B-9A26-B0558309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3D7-9134-4D2D-A0B8-B9BE63C3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F38-67EB-4B7D-8B2B-BAEA1E31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FF4-838D-4AB0-B0AC-9ED0DBC6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E8C9-EAB1-4057-A8F6-0D9A7E568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xploringafrica.matrix.msu.edu/students/curriculum/m7b/activity2.php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of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you will be attending Michigan State University for f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a page in your notebook “MSU Module 7 - Colonial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 – Module 7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xploringafrica.matrix.msu.edu/students/curriculum/m7b/activity2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all student journal assignment questions on Module 7B.  Record the questions, or answer them in complete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– Module 7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xplain or define the following key term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tio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cramble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White Man’s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lin Conference (Treaty of Berl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rec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irec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ttler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kip the map assignment at the bottom of Module 7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kip the Student Journal Assignment essay at the bottom of Module 7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3886200" y="1752480"/>
            <a:ext cx="3733920" cy="3581640"/>
            <a:chOff x="3886200" y="1752480"/>
            <a:chExt cx="3733920" cy="3581640"/>
          </a:xfrm>
        </p:grpSpPr>
        <p:sp>
          <p:nvSpPr>
            <p:cNvPr id="51" name=""/>
            <p:cNvSpPr/>
            <p:nvPr/>
          </p:nvSpPr>
          <p:spPr>
            <a:xfrm>
              <a:off x="6095880" y="1752480"/>
              <a:ext cx="1524240" cy="283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part 3 at the bottom of the first section of Module 7B.  It is titled “The Practice and Legacy of Colonialism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886200" y="3276720"/>
              <a:ext cx="220968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See me for the chart titled “Effects of Colonialism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Complete it using the website that you just clicked 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Use the reading to answer the questions at the bottom of the ch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2:04:46Z</dcterms:created>
  <dc:creator>CFISD</dc:creator>
  <dc:description/>
  <dc:language>en-US</dc:language>
  <cp:lastModifiedBy>CFISD</cp:lastModifiedBy>
  <dcterms:modified xsi:type="dcterms:W3CDTF">2009-05-05T12:40:40Z</dcterms:modified>
  <cp:revision>5</cp:revision>
  <dc:subject/>
  <dc:title>Colonization of Africa</dc:title>
</cp:coreProperties>
</file>