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7F0-59E9-4C88-A158-14BC5856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601-D303-4D22-A0EB-6A6D19D2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C12-D65D-4A62-8728-B3DC1301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66A-4E2C-472A-967D-E3C845AE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537-A460-477E-9BD2-FAF12C6F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841-F296-46D7-9103-E1C20073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D3D-A4A8-47EB-9175-39ECCFA6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33C-206D-48FE-A8B9-AE2C1E70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E5D-C6F3-4828-B2EF-D3BDCEDC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74B-B224-4D6B-BA6D-35DCE760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6BA-54D5-42B2-9AB6-7A1C096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649-C51B-48EB-B668-C5073F5C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92D6-CB9C-4078-B9A9-07BC2254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earnhub.com/lesson/page/4235-politics-of-the-banana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colonists controlled the government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provide anything for the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socialist governments that have been elected in last coupl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8" t="13891" r="64585" b="54631"/>
          <a:stretch/>
        </p:blipFill>
        <p:spPr>
          <a:xfrm>
            <a:off x="2895480" y="380880"/>
            <a:ext cx="6019920" cy="41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143000"/>
            <a:ext cx="22100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bols are present in this cartoon that demonstrate a ju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milita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website below to answer the tw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dillo websi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id they gov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wiki and access the source titled “Latin American Countries” and answer the question on the back of the yellow paper beneath the Venn Dia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the B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arnhub.com/lesson/page/4235-politics-of-the-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2:57:19Z</dcterms:created>
  <dc:creator>CFISD</dc:creator>
  <dc:description/>
  <dc:language>en-US</dc:language>
  <cp:lastModifiedBy>CFISD</cp:lastModifiedBy>
  <dcterms:modified xsi:type="dcterms:W3CDTF">2009-01-30T13:28:18Z</dcterms:modified>
  <cp:revision>4</cp:revision>
  <dc:subject/>
  <dc:title>Colonization</dc:title>
</cp:coreProperties>
</file>