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E5E-C34A-4BF9-83FF-2AF3CC4B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C82-2D19-4B96-9B93-BAC8D925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B90-F91F-48DE-A8B0-C1706D4B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B2B-9C7E-49A6-A3F8-7B8F3163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FB4-A74E-4614-9BE9-E4137644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147-F98F-43B0-8057-7F39F755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38E-DE5C-4AF1-B513-CA3A79F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03C-12C0-442A-B1DF-4E535FF2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C4F-73BD-4E16-95B5-0268DBDE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70A-5195-4CF3-80F7-80ADC90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361-0442-474C-9BDE-6CFDBDE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1B4-9AC3-47DE-88A5-8E59E3F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EC93-8282-43F5-93BD-7DD224C8F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earnhub.com/lesson/page/4235-politics-of-the-banan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colonists controlled the government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provide anything for the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socialist governments that have been elected in last coupl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8" t="13891" r="64585" b="54631"/>
          <a:stretch/>
        </p:blipFill>
        <p:spPr>
          <a:xfrm>
            <a:off x="2895480" y="380880"/>
            <a:ext cx="601992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143000"/>
            <a:ext cx="22100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bols are present in this cartoon that demonstrate a ju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milita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website below to answer the tw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dillo websi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id they gov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wiki and access the source titled “Latin American Countries” and answer the question on the back of the yellow paper beneath the Venn Dia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the B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hub.com/lesson/page/4235-politics-of-the-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2:57:19Z</dcterms:created>
  <dc:creator>CFISD</dc:creator>
  <dc:description/>
  <dc:language>en-US</dc:language>
  <cp:lastModifiedBy>CFISD</cp:lastModifiedBy>
  <dcterms:modified xsi:type="dcterms:W3CDTF">2009-01-30T13:28:18Z</dcterms:modified>
  <cp:revision>4</cp:revision>
  <dc:subject/>
  <dc:title>Colonization</dc:title>
</cp:coreProperties>
</file>