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1A31-81DD-4B69-9DFE-1A822440E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7CA7-4D17-436C-8F43-093883702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38EE-A2F9-496F-8A8F-D50164170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C2FF-CEE9-4064-9AFF-33E4DE175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855C-B1CD-479D-B7DC-BB34A0347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EC7A-AC60-4C9C-9540-1362EF8CD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E2DB-7740-497C-8815-61F5E32BD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699A-6DA4-4CCB-B0F8-F912EC591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392-EACE-427C-B4CD-D8746AA8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F72-F1CE-44CF-BA84-0D600210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0DE-480A-4832-885B-123D5517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E1FF-D366-45B9-855C-360B3373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463-C13A-45F8-882E-12AA8732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A1C-39AF-41A8-BDCB-BCEE939F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E38-AED2-4F82-A015-19A5451C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6DB-94C1-434F-90C6-A7CCD7A4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F02-96BF-45CD-ACA2-474A1739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237-81FA-4979-A191-A03CBBD4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F9B-D7FF-4E0B-9DF1-90BE8809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127-E8EF-4822-B743-E62AD7FA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052A-2CEC-4730-B965-F2C40CB35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bs.org/newshour/indepth_coverage/asia/partition/timeline/index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Tim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t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Hindu practice whereby a widow throws herself on the funeral pyre of her husband: now abolished by modern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 was officially abolished by the British government on December 4 1829, however it is still practiced in rural areas throughout India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2/3 of India’s people still rely on farming for their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ly, cotton textiles have been the major source of income for Ind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 since the removal of British control and the monopoly over the various industries , other industries such as iron and steel have become major sources of income for India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images.encarta.msn.com/xrefmedia/sharemed/targets/images/pho/t045/T045035A.jpg"/>
          <p:cNvPicPr/>
          <p:nvPr/>
        </p:nvPicPr>
        <p:blipFill>
          <a:blip r:embed="rId1"/>
          <a:stretch/>
        </p:blipFill>
        <p:spPr>
          <a:xfrm>
            <a:off x="7467480" y="304920"/>
            <a:ext cx="1486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66520" y="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7" descr="719px-India_railways1909a.jpg"/>
          <p:cNvPicPr/>
          <p:nvPr/>
        </p:nvPicPr>
        <p:blipFill>
          <a:blip r:embed="rId1"/>
          <a:stretch/>
        </p:blipFill>
        <p:spPr>
          <a:xfrm>
            <a:off x="3733920" y="1447920"/>
            <a:ext cx="5111640" cy="4265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ilway Syst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added a very extensive railway system throughout In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1920 a total of 38,040 miles of railroad spread out through India connecting the three ma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itish por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sed for trading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ombay, Madras and Calcu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5410080" y="1600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zation Tim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ions: Create an illustrated (visuals) timeline of about the political, economic, and social impacts of the colonization of In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imeline must include the following ev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tish East India Company gained control of all Indian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tish Government establishes rule over India (establishes the Ra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 National Congress f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 League wants a separate Pakistani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Salt M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kistan and India declar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battle over Kash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assass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 becomes a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zation Timeli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lin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abel each event and include the date.  Use the event names above as your lab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reate a visual for each timeline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reate a caption explaining each ev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clude a ti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vent is worth 10 points each.  The title is also worth 10 p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T SPOT: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bs.org/newshour/indepth_coverage/asia/partition/timelin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vents are located here or in the reading titled “Colonial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slides will provide additional information about colonization.   Check them out for further explanations if necessa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traders came to India  looking for spices, cloth, and other goods not available i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the British East India Company, Britain gains control of India’s trade with Europe in 175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were looking for new markets to establish trade with. (Mercantilis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w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monwealth membership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British Commonwealth of Nations, which is an organization of countries that were formerly colonies of the British.  Among the important roles played by this organization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ion of free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Criteria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democra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monarch of the Commonwealth as the Head of the Commonweal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lish langu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means of Commonwealth commun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visitbritain.com/en/Images/commonwealth_flag_tcm12-94186.jpg"/>
          <p:cNvPicPr/>
          <p:nvPr/>
        </p:nvPicPr>
        <p:blipFill>
          <a:blip r:embed="rId1"/>
          <a:stretch/>
        </p:blipFill>
        <p:spPr>
          <a:xfrm>
            <a:off x="6705720" y="304920"/>
            <a:ext cx="1981080" cy="12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www.visitbritain.com/en/Images/commonwealth_flag_tcm12-94186.jpg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is the world’s Largest Democracy (EST. 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s both the American and the British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aspects in Indian govern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parliamentary democr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der of the majority party becomes the prime minister the head of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capitalpublications.com/images/washington.jpg"/>
          <p:cNvPicPr/>
          <p:nvPr/>
        </p:nvPicPr>
        <p:blipFill>
          <a:blip r:embed="rId1"/>
          <a:stretch/>
        </p:blipFill>
        <p:spPr>
          <a:xfrm>
            <a:off x="6477120" y="0"/>
            <a:ext cx="23684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onization of India by the British provided a high level of education but only to India’s el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ans as a majority still work on a farms, but as the economy changes educational needs are c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spending per student is extremely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ed States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 per stud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623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a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nding per stud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6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wever India’s average school well outperforms those in the United St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www.3applesbookaward.org/childrens/promote/images/RedApple.jpg"/>
          <p:cNvPicPr/>
          <p:nvPr/>
        </p:nvPicPr>
        <p:blipFill>
          <a:blip r:embed="rId1"/>
          <a:stretch/>
        </p:blipFill>
        <p:spPr>
          <a:xfrm>
            <a:off x="7010280" y="0"/>
            <a:ext cx="1519200" cy="1612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michigan.gov/images/School_Building_21611_7.jpg"/>
          <p:cNvPicPr/>
          <p:nvPr/>
        </p:nvPicPr>
        <p:blipFill>
          <a:blip r:embed="rId2"/>
          <a:stretch/>
        </p:blipFill>
        <p:spPr>
          <a:xfrm>
            <a:off x="457200" y="228600"/>
            <a:ext cx="1495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2:17:25Z</dcterms:created>
  <dc:creator>CFISD</dc:creator>
  <dc:description/>
  <dc:language>en-US</dc:language>
  <cp:lastModifiedBy>CFISD</cp:lastModifiedBy>
  <dcterms:modified xsi:type="dcterms:W3CDTF">2009-03-25T12:46:17Z</dcterms:modified>
  <cp:revision>2</cp:revision>
  <dc:subject/>
  <dc:title>Colonization Timelines</dc:title>
</cp:coreProperties>
</file>