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550F-701C-44E0-8D24-F57634427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5BD2-172F-4742-A499-500FD8FEDD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7D1B-2399-4E2D-85D5-9615D54F86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2072-8B2E-4C6D-96B8-3F1C381897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C514-1114-4D0B-84C0-6557FD290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0ACD-1A2D-416C-AC5B-6DCA73FCD3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372E-5EA3-4A18-9CD1-3BB6CA8DFC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77D8-2ABD-4DE1-BA40-E26A4EA827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A6B6-DCD5-4CB1-93CB-E8C755CA6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0A3B-662B-445E-9902-A5F3C988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9BCC-2E00-4DF2-B85E-FC75C5359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C484-A218-49B2-9A7A-6BBD5C27B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2EF8-4230-43AC-A91C-1F610231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39D0-B2E6-4967-877A-A5B3AFCB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449D-3891-4509-B1C5-B425F3A3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E17C-227D-4E22-842F-B0BE07F2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439C-91BE-4ED3-B340-DAE2C521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CB05-E39B-4220-B9FC-9F258A0A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CE74-0B1D-4AD9-A501-CBD83AFC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68D5-0CB9-484C-A7E3-ADF80B49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8448-E6BA-4C59-AAD6-093F461FB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bs.org/newshour/indepth_coverage/asia/partition/timeline/index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nization Tim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 an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ti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Hindu practice whereby a widow throws herself on the funeral pyre of her husband: now abolished by modern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 was officially abolished by the British government on December 4 1829, however it is still practiced in rural areas throughout India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2/3 of India’s people still rely on farming for their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ly, cotton textiles have been the major source of income for Ind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 since the removal of British control and the monopoly over the various industries , other industries such as iron and steel have become major sources of income for India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://images.encarta.msn.com/xrefmedia/sharemed/targets/images/pho/t045/T045035A.jpg"/>
          <p:cNvPicPr/>
          <p:nvPr/>
        </p:nvPicPr>
        <p:blipFill>
          <a:blip r:embed="rId1"/>
          <a:stretch/>
        </p:blipFill>
        <p:spPr>
          <a:xfrm>
            <a:off x="7467480" y="304920"/>
            <a:ext cx="14860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666520" y="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Content Placeholder 7" descr="719px-India_railways1909a.jpg"/>
          <p:cNvPicPr/>
          <p:nvPr/>
        </p:nvPicPr>
        <p:blipFill>
          <a:blip r:embed="rId1"/>
          <a:stretch/>
        </p:blipFill>
        <p:spPr>
          <a:xfrm>
            <a:off x="3733920" y="1447920"/>
            <a:ext cx="5111640" cy="4265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ilway Syste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tish added a very extensive railway system throughout In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1920 a total of 38,040 miles of railroad spread out through India connecting the three ma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ritish por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used for trading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Bombay, Madras and Calcut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5410080" y="1600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onization Time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rections: Create an illustrated (visuals) timeline of about the political, economic, and social impacts of the colonization of In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imeline must include the following ev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ritish East India Company gained control of all Indian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ritish Government establishes rule over India (establishes the Ra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an National Congress f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lim League wants a separate Pakistani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dhi’s Salt Ma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kistan and India declare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battle over Kashm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dhi assass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a becomes a democ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onization Timelin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melin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Label each event and include the date.  Use the event names above as your lab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reate a visual for each timeline e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reate a caption explaining each ev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clude a ti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u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event is worth 10 points each.  The title is also worth 10 poi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OT SPOT: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bs.org/newshour/indepth_coverage/asia/partition/timeline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events are located here or in the reading titled “Colonialis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Re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slides will provide additional information about colonization.   Check them out for further explanations if necessa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s for Colo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traders came to India  looking for spices, cloth, and other goods not available in Eu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ing the British East India Company, Britain gains control of India’s trade with Europe in 1757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ritish were looking for new markets to establish trade with. (Mercantilism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w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monwealth membership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e British Commonwealth of Nations, which is an organization of countries that were formerly colonies of the British.  Among the important roles played by this organization i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otion of free t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hip Criteria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democrat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the monarch of the Commonwealth as the Head of the Commonweal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glish langu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the means of Commonwealth commun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www.visitbritain.com/en/Images/commonwealth_flag_tcm12-94186.jpg"/>
          <p:cNvPicPr/>
          <p:nvPr/>
        </p:nvPicPr>
        <p:blipFill>
          <a:blip r:embed="rId1"/>
          <a:stretch/>
        </p:blipFill>
        <p:spPr>
          <a:xfrm>
            <a:off x="6705720" y="304920"/>
            <a:ext cx="1981080" cy="1204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ttp://www.visitbritain.com/en/Images/commonwealth_flag_tcm12-94186.jpg"/>
          <p:cNvPicPr/>
          <p:nvPr/>
        </p:nvPicPr>
        <p:blipFill>
          <a:blip r:embed="rId2"/>
          <a:stretch/>
        </p:blipFill>
        <p:spPr>
          <a:xfrm>
            <a:off x="380880" y="228600"/>
            <a:ext cx="198144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a is the world’s Largest Democracy (EST. 195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s both the American and the British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aspects in Indian govern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 parliamentary democra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ader of the majority party becomes the prime minister the head of the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capitalpublications.com/images/washington.jpg"/>
          <p:cNvPicPr/>
          <p:nvPr/>
        </p:nvPicPr>
        <p:blipFill>
          <a:blip r:embed="rId1"/>
          <a:stretch/>
        </p:blipFill>
        <p:spPr>
          <a:xfrm>
            <a:off x="6477120" y="0"/>
            <a:ext cx="236844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uca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lonization of India by the British provided a high level of education but only to India’s el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ans as a majority still work on a farms, but as the economy changes educational needs are chang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spending per student is extremely 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ted States’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nding per stud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623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a’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nding per stud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6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however India’s average school well outperforms those in the United Sta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www.3applesbookaward.org/childrens/promote/images/RedApple.jpg"/>
          <p:cNvPicPr/>
          <p:nvPr/>
        </p:nvPicPr>
        <p:blipFill>
          <a:blip r:embed="rId1"/>
          <a:stretch/>
        </p:blipFill>
        <p:spPr>
          <a:xfrm>
            <a:off x="7010280" y="0"/>
            <a:ext cx="1519200" cy="1612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www.michigan.gov/images/School_Building_21611_7.jpg"/>
          <p:cNvPicPr/>
          <p:nvPr/>
        </p:nvPicPr>
        <p:blipFill>
          <a:blip r:embed="rId2"/>
          <a:stretch/>
        </p:blipFill>
        <p:spPr>
          <a:xfrm>
            <a:off x="457200" y="228600"/>
            <a:ext cx="14954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2:17:25Z</dcterms:created>
  <dc:creator>CFISD</dc:creator>
  <dc:description/>
  <dc:language>en-US</dc:language>
  <cp:lastModifiedBy>CFISD</cp:lastModifiedBy>
  <dcterms:modified xsi:type="dcterms:W3CDTF">2009-03-25T12:46:17Z</dcterms:modified>
  <cp:revision>2</cp:revision>
  <dc:subject/>
  <dc:title>Colonization Timelines</dc:title>
</cp:coreProperties>
</file>