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C6E0-993D-447F-AC46-E76A52CA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18D6-AC7E-47E1-A91E-FF610BAA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930-738F-46AB-A2B6-BC9ADAFE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C095-7AE6-4839-A78D-4E000535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D555-C5FF-462F-9D42-B6EA5861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F5D-070A-435C-98F6-BD272F1EF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8746-6B0C-4A45-84EB-3D44DEE4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F2C-A2D4-4538-9A70-C1E77CC0F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777C-2F8C-44A7-96AC-39C50E94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462-13FC-43CA-AFEE-0AD78B48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9762-12A1-4899-9AC6-60EC06AC0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F57-DE92-44CD-A7A6-A2ACF227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547-22C6-4020-A7B6-B2E021A4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D79-9F4B-487C-BC35-230C98E7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6B4C-5CBC-4558-BDEB-B9676A720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D97D-0153-4852-B201-FA6EED5D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AA8-3EE2-4439-AD01-FD02F268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33C9-C7B2-4BB5-8526-6988A321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B7F-8AB6-4019-B736-C5D5BADD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BF9-CDC1-45A3-B7AE-46D3E1EE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EA5-C03D-428A-95F6-5CCF46A2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7F5-5A93-44FE-89A7-F8B9B220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38A-DE13-431E-A467-795DECC0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D6F-7F82-46C9-8D8B-608CBE4B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72F-59A5-47C9-9BED-5459DB5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A4E-D92C-4A44-8BDB-6670BAD4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87B-00DF-47F8-A958-F69CA444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B9C-71E8-4D76-9DC8-DC80448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BF7-BF45-4519-AB83-F62CE0B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542-DA2A-4B36-B5D1-ED75D19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701-E8A7-4DBB-976D-62004C0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2FB9-988F-48C6-988E-20A491E97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cwdn.org/MAPS&amp;GLOBES/Clima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 the Arch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-1523880" y="-647640"/>
            <a:ext cx="12191760" cy="81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a region’s clim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77120" y="-68580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808080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 - 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is the height above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elevation of a region the cooler the temperature be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638680" y="3276720"/>
            <a:ext cx="2895840" cy="2895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2485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485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ck-mountains-snow"/>
          <p:cNvPicPr/>
          <p:nvPr/>
        </p:nvPicPr>
        <p:blipFill>
          <a:blip r:embed="rId1"/>
          <a:stretch/>
        </p:blipFill>
        <p:spPr>
          <a:xfrm>
            <a:off x="304920" y="2666880"/>
            <a:ext cx="50292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rainshadow pic"/>
          <p:cNvPicPr/>
          <p:nvPr/>
        </p:nvPicPr>
        <p:blipFill>
          <a:blip r:embed="rId1"/>
          <a:stretch/>
        </p:blipFill>
        <p:spPr>
          <a:xfrm>
            <a:off x="0" y="2971800"/>
            <a:ext cx="5943600" cy="390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aphy – Rain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can create orographic rain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dward side of the mountain is rainy while the leeward side is very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adows are desert regions created on the leeward side of the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048120"/>
            <a:ext cx="2209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lee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24480" y="426708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wind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1563000">
            <a:off x="3962160" y="2590920"/>
            <a:ext cx="2133360" cy="94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Point A gets more rain because the Himalayas act as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ou are cor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81680" y="3048120"/>
            <a:ext cx="2133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– arid region with very little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029200"/>
            <a:ext cx="251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 Subtropical – warm temperatures, lots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currents help distribute the sun’s heat from one part of the world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has lower pressure than cooler air.  The cooler air rushes into the low pressure areas causing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air currents make areas warmer than normal.  Cold air currents make areas cooler tha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2120" y="4648320"/>
            <a:ext cx="2514600" cy="1066680"/>
          </a:xfrm>
          <a:prstGeom prst="cloudCallout">
            <a:avLst>
              <a:gd name="adj1" fmla="val -32069"/>
              <a:gd name="adj2" fmla="val 50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715000" y="4191120"/>
            <a:ext cx="2514600" cy="1066680"/>
          </a:xfrm>
          <a:prstGeom prst="cloudCallout">
            <a:avLst>
              <a:gd name="adj1" fmla="val -31689"/>
              <a:gd name="adj2" fmla="val 45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193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508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1336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3048120" y="5257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2971800" y="54100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3505320" y="4800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3352680" y="50288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438280" y="6019920"/>
            <a:ext cx="358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lows from areas of High Pressure to 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3352680" y="4495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336" t="10001" r="6667" b="7777"/>
          <a:stretch/>
        </p:blipFill>
        <p:spPr>
          <a:xfrm>
            <a:off x="0" y="-32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128" t="51264" r="38836" b="92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4800600"/>
            <a:ext cx="3124440" cy="20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stream – wind currents on land that impact weather and clim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jet stream affect the climate of the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vs Cl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tmospheric conditions (temperature, rainfall, etc…) at a 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m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mospheric conditions (temperature, rainfall, etc…) of a region over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 move in large circ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s affect temperature and precipitation of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ocean currents make surrounding areas warmer and ra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cean currents make surrounding areas cooler and 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rot="9685800">
            <a:off x="5562000" y="3429000"/>
            <a:ext cx="533160" cy="1828800"/>
          </a:xfrm>
          <a:custGeom>
            <a:avLst/>
            <a:gdLst>
              <a:gd name="textAreaLeft" fmla="*/ 71280 w 533160"/>
              <a:gd name="textAreaRight" fmla="*/ 461880 w 5331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048120" y="4114800"/>
            <a:ext cx="243828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48520" y="4343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 rot="20611200">
            <a:off x="2286000" y="487692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8380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481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and 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343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and Ra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Ocean Currents"/>
          <p:cNvPicPr/>
          <p:nvPr/>
        </p:nvPicPr>
        <p:blipFill>
          <a:blip r:embed="rId1"/>
          <a:stretch/>
        </p:blipFill>
        <p:spPr>
          <a:xfrm>
            <a:off x="155520" y="1600200"/>
            <a:ext cx="898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the build up of carbon dioxide (greenhouse gases) in the atmosphere trapping heat and causing increase temperature and shifting weather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being caused by both the human release of greenhouse gases from the burning of fossil fuels (oil, coal) and a natural warming cycle the Earth is go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lobal temperature begins to rise many changes will occur to climate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global warming simulation on the class webp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ffects of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warming of waters off the west coast of South America about every 2 – 7 years due to a reversal of wi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floods and mudslides in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droughts in Australia and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00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ographs are a combination of a line graph, measuring average temperature, and a bar graph, measuring average rainfall, for each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limograph"/>
          <p:cNvPicPr/>
          <p:nvPr/>
        </p:nvPicPr>
        <p:blipFill>
          <a:blip r:embed="rId1"/>
          <a:stretch/>
        </p:blipFill>
        <p:spPr>
          <a:xfrm>
            <a:off x="3809880" y="1676520"/>
            <a:ext cx="4876920" cy="4454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6668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3581280" y="5181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57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3505320" y="4266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2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3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4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7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p of the world’s climates and the slide following to answer the question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imate of Hous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s of climate are present in the tropical zone of latit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105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wdn.org/MAPS&amp;GLOBES/Clim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1511" t="34784" r="43398" b="23187"/>
          <a:stretch/>
        </p:blipFill>
        <p:spPr>
          <a:xfrm>
            <a:off x="304920" y="2666880"/>
            <a:ext cx="259056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952880" y="1676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limateMapWorld"/>
          <p:cNvPicPr/>
          <p:nvPr/>
        </p:nvPicPr>
        <p:blipFill>
          <a:blip r:embed="rId2"/>
          <a:stretch/>
        </p:blipFill>
        <p:spPr>
          <a:xfrm>
            <a:off x="3429000" y="2666880"/>
            <a:ext cx="5715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495680" y="274320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’s latitude (distance from the equator) can impact its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etch the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638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" descr="latitude lines image"/>
          <p:cNvPicPr/>
          <p:nvPr/>
        </p:nvPicPr>
        <p:blipFill>
          <a:blip r:embed="rId1"/>
          <a:stretch/>
        </p:blipFill>
        <p:spPr>
          <a:xfrm>
            <a:off x="350532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5"/>
          <p:cNvSpPr/>
          <p:nvPr/>
        </p:nvSpPr>
        <p:spPr>
          <a:xfrm>
            <a:off x="3354480" y="61722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3716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30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1629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934320" y="35812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opical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weather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between the Tropic of Cancer (23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 and the Tropic of Capricorn (23 ½ º 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e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summers and cold winters (four seasons)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between Tropic of Can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opic of Caprico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nt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ar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old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north of the Arctic Circle and south of the Antarctic Cir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and_shallow_topo_204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atitude = ______________ zone, ____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Latitude = _______________ zone, _____ ° N _____ ° S, where is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titude = _________________ zone, _____ ° 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14479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772400" y="44197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8487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9480" y="449568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838080" y="16765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0666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55308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09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943600" y="2286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095880" y="228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orld map"/>
          <p:cNvPicPr/>
          <p:nvPr/>
        </p:nvPicPr>
        <p:blipFill>
          <a:blip r:embed="rId1"/>
          <a:stretch/>
        </p:blipFill>
        <p:spPr>
          <a:xfrm>
            <a:off x="0" y="460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ich cities will have a temperate clim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24080" y="52578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cities are warm year-round? What is this zone of latitud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19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ich cities are in the polar 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0:51:37Z</dcterms:created>
  <dc:creator>Jeff</dc:creator>
  <dc:description/>
  <dc:language>en-US</dc:language>
  <cp:lastModifiedBy>CFISD</cp:lastModifiedBy>
  <dcterms:modified xsi:type="dcterms:W3CDTF">2008-09-08T19:09:37Z</dcterms:modified>
  <cp:revision>18</cp:revision>
  <dc:subject/>
  <dc:title>Climate Lesson</dc:title>
</cp:coreProperties>
</file>