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C24F-A10D-4CF9-A3B4-77C948D23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4EB3-2DCD-4B03-9ED4-12763E8A7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D9D5-CAB8-4AB7-AB9E-F26101E2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AEF5-1F56-4B1B-B007-C9CB2010A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4538-F5D4-45C1-BB9C-FE1C0281D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2F5C-B88C-4871-80B0-3424AE479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B152-6D5F-4F91-90B1-2B25AE50D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AA68-E490-43C3-9719-309A1185B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2CAA-03AC-4271-9772-2805DE8FF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B507-131D-48F7-AEF3-868A7166F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9510-7C8F-4E97-9C70-9FAE78D8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E61D-80C6-4A58-AF42-64F1A31BB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A72C-1F37-4B95-B879-974E69362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8B9D-E81C-4F09-A14D-5C685CA1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A18A-F8A0-4545-9908-66A521EDA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6D9A-534A-4766-BE21-F8092C627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014E-BBA6-4305-992D-5F89996A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ADEC-F599-42C3-AD24-350B3D2B7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F70C-6F46-465E-B9BF-51056578A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03A-25FC-462D-A076-9A84818C8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FF66-F276-4E04-98C2-9B366B51D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E0F-A81E-471D-A944-F23F9D1A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6F5-0673-49A3-BF26-FD2CD4D5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5D81-65B2-4FD0-BB97-4CE3E64F0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DE72-E40A-42C8-86D7-A74AC193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8F8E-3FA6-439C-BC26-A4EEA482E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1EE-638B-4F77-8F6E-C532EC74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8BF4-54AC-49F9-B02D-FE64C937F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F58-D45E-42D7-8106-9EF99753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64BF-4CE9-47A7-881E-15CFD169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749-B304-4106-9BD7-E17A16FD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DCCA3-0618-4153-9A60-5CAC8C9DB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mcwdn.org/MAPS&amp;GLOBES/Climat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At the Arch"/>
          <p:cNvPicPr/>
          <p:nvPr/>
        </p:nvPicPr>
        <p:blipFill>
          <a:blip r:embed="rId1">
            <a:lum contrast="-60000"/>
          </a:blip>
          <a:stretch/>
        </p:blipFill>
        <p:spPr>
          <a:xfrm>
            <a:off x="-1523880" y="-647640"/>
            <a:ext cx="12191760" cy="815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 Les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actors contribute to a region’s clim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477120" y="-68580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50000">
              <a:srgbClr val="808080"/>
            </a:gs>
            <a:gs pos="100000">
              <a:srgbClr val="00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graphy - Ele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ion is the height above sea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igher the elevation of a region the cooler the temperature bec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5638680" y="3276720"/>
            <a:ext cx="2895840" cy="28954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248520" y="5410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248520" y="34290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1" descr="Back-mountains-snow"/>
          <p:cNvPicPr/>
          <p:nvPr/>
        </p:nvPicPr>
        <p:blipFill>
          <a:blip r:embed="rId1"/>
          <a:stretch/>
        </p:blipFill>
        <p:spPr>
          <a:xfrm>
            <a:off x="304920" y="2666880"/>
            <a:ext cx="502920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rainshadow pic"/>
          <p:cNvPicPr/>
          <p:nvPr/>
        </p:nvPicPr>
        <p:blipFill>
          <a:blip r:embed="rId1"/>
          <a:stretch/>
        </p:blipFill>
        <p:spPr>
          <a:xfrm>
            <a:off x="0" y="2971800"/>
            <a:ext cx="5943600" cy="39006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pography – Rain Shado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8377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ntains can create orographic rain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indward side of the mountain is rainy while the leeward side is very d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 Shadows are desert regions created on the leeward side of the mou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28600" y="4038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6172200" y="3048120"/>
            <a:ext cx="22096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lee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6324480" y="4267080"/>
            <a:ext cx="19814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side is the windward side, the right or the lef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Rectangle 2" descr=""/>
          <p:cNvPicPr/>
          <p:nvPr/>
        </p:nvPicPr>
        <p:blipFill>
          <a:blip r:embed="rId1"/>
          <a:srcRect l="12964" t="47456" r="45325" b="213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3" descr=""/>
          <p:cNvPicPr/>
          <p:nvPr/>
        </p:nvPicPr>
        <p:blipFill>
          <a:blip r:embed="rId2"/>
          <a:srcRect l="12964" t="47144" r="74078" b="32656"/>
          <a:stretch/>
        </p:blipFill>
        <p:spPr>
          <a:xfrm>
            <a:off x="0" y="4419720"/>
            <a:ext cx="2590920" cy="2220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990720"/>
            <a:ext cx="312444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ts more more rain point A or point 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uses the difference in rainfall amounts between point A and point 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8120" y="152280"/>
            <a:ext cx="56480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sia Precipitation Ma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952880" y="1600200"/>
            <a:ext cx="4572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5715000"/>
            <a:ext cx="152424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t: Rain comes from 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124080" y="4572000"/>
            <a:ext cx="53352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581280" y="4190760"/>
            <a:ext cx="83844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267080" y="4114440"/>
            <a:ext cx="7621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 rot="1563000">
            <a:off x="3962160" y="2590920"/>
            <a:ext cx="2133360" cy="942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343400" y="3200400"/>
            <a:ext cx="380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A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Point A gets more rain because the Himalayas act as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you are correc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Rectangle 3" descr=""/>
          <p:cNvPicPr/>
          <p:nvPr/>
        </p:nvPicPr>
        <p:blipFill>
          <a:blip r:embed="rId1"/>
          <a:stretch/>
        </p:blipFill>
        <p:spPr>
          <a:xfrm>
            <a:off x="0" y="2593800"/>
            <a:ext cx="9144000" cy="42642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781680" y="3048120"/>
            <a:ext cx="213372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– arid region with very little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5029200"/>
            <a:ext cx="2514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id Subtropical – warm temperatures, lots of 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 currents help distribute the sun’s heat from one part of the world to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er air has lower pressure than cooler air.  The cooler air rushes into the low pressure areas causing w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air currents make areas warmer than normal.  Cold air currents make areas cooler than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762120" y="4648320"/>
            <a:ext cx="2514600" cy="1066680"/>
          </a:xfrm>
          <a:prstGeom prst="cloudCallout">
            <a:avLst>
              <a:gd name="adj1" fmla="val -32069"/>
              <a:gd name="adj2" fmla="val 50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5715000" y="4191120"/>
            <a:ext cx="2514600" cy="1066680"/>
          </a:xfrm>
          <a:prstGeom prst="cloudCallout">
            <a:avLst>
              <a:gd name="adj1" fmla="val -31689"/>
              <a:gd name="adj2" fmla="val 450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219320" y="4267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17508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Pressur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5013360" y="4303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V="1">
            <a:off x="3048120" y="525780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2971800" y="5410080"/>
            <a:ext cx="2819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3505320" y="4800240"/>
            <a:ext cx="1904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3352680" y="5028840"/>
            <a:ext cx="22100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3"/>
          <p:cNvSpPr/>
          <p:nvPr/>
        </p:nvSpPr>
        <p:spPr>
          <a:xfrm>
            <a:off x="2438280" y="6019920"/>
            <a:ext cx="35816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 blows from areas of High Pressure to Low Pres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V="1">
            <a:off x="3352680" y="449532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"/>
          <p:cNvPicPr/>
          <p:nvPr/>
        </p:nvPicPr>
        <p:blipFill>
          <a:blip r:embed="rId1"/>
          <a:srcRect l="18336" t="10001" r="6667" b="7777"/>
          <a:stretch/>
        </p:blipFill>
        <p:spPr>
          <a:xfrm>
            <a:off x="0" y="-3240"/>
            <a:ext cx="9144000" cy="68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rcRect l="29128" t="51264" r="38836" b="92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09480" y="4800600"/>
            <a:ext cx="3124440" cy="2005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 stream – wind currents on land that impact weather and climat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How does the jet stream affect the climate of the 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 vs Clima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tmospheric conditions (temperature, rainfall, etc…) at a specific point i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mat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mospheric conditions (temperature, rainfall, etc…) of a region over a long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50000">
              <a:srgbClr val="ffff99"/>
            </a:gs>
            <a:gs pos="100000">
              <a:srgbClr val="80808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 move in large circula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ean currents affect temperature and precipitation of an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ocean currents make surrounding areas warmer and ra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 ocean currents make surrounding areas cooler and d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 rot="9685800">
            <a:off x="5562000" y="3429000"/>
            <a:ext cx="533160" cy="1828800"/>
          </a:xfrm>
          <a:custGeom>
            <a:avLst/>
            <a:gdLst>
              <a:gd name="textAreaLeft" fmla="*/ 71280 w 533160"/>
              <a:gd name="textAreaRight" fmla="*/ 461880 w 53316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3048120" y="4114800"/>
            <a:ext cx="2438280" cy="1981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6248520" y="434340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6"/>
          <p:cNvSpPr/>
          <p:nvPr/>
        </p:nvSpPr>
        <p:spPr>
          <a:xfrm rot="20611200">
            <a:off x="2286000" y="4876920"/>
            <a:ext cx="533520" cy="1828800"/>
          </a:xfrm>
          <a:custGeom>
            <a:avLst/>
            <a:gdLst>
              <a:gd name="textAreaLeft" fmla="*/ 71280 w 533520"/>
              <a:gd name="textAreaRight" fmla="*/ 462240 w 53352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838080" y="5562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 Ocean Cu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048120" y="5486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ler and 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4343400" y="4114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rmer and Rai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Ocean Currents"/>
          <p:cNvPicPr/>
          <p:nvPr/>
        </p:nvPicPr>
        <p:blipFill>
          <a:blip r:embed="rId1"/>
          <a:stretch/>
        </p:blipFill>
        <p:spPr>
          <a:xfrm>
            <a:off x="155520" y="1600200"/>
            <a:ext cx="89884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5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6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7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8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9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1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3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4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5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7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8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9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0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21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23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24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5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6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00cc00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the build up of carbon dioxide (greenhouse gases) in the atmosphere trapping heat and causing increase temperature and shifting weather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arming is being caused by both the human release of greenhouse gases from the burning of fossil fuels (oil, coal) and a natural warming cycle the Earth is going 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global temperature begins to rise many changes will occur to climates around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the global warming simulation on the class webpag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effects of global warm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tural warming of waters off the west coast of South America about every 2 – 7 years due to a reversal of wind dir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floods and mudslides in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Nino causes droughts in Australia and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3200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mographs are a combination of a line graph, measuring average temperature, and a bar graph, measuring average rainfall, for each mon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climograph"/>
          <p:cNvPicPr/>
          <p:nvPr/>
        </p:nvPicPr>
        <p:blipFill>
          <a:blip r:embed="rId1"/>
          <a:stretch/>
        </p:blipFill>
        <p:spPr>
          <a:xfrm>
            <a:off x="3809880" y="1676520"/>
            <a:ext cx="4876920" cy="44542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5"/>
          <p:cNvSpPr/>
          <p:nvPr/>
        </p:nvSpPr>
        <p:spPr>
          <a:xfrm>
            <a:off x="2666880" y="5562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6"/>
          <p:cNvSpPr/>
          <p:nvPr/>
        </p:nvSpPr>
        <p:spPr>
          <a:xfrm flipV="1">
            <a:off x="3581280" y="5181480"/>
            <a:ext cx="1981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2057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"/>
          <p:cNvSpPr/>
          <p:nvPr/>
        </p:nvSpPr>
        <p:spPr>
          <a:xfrm flipV="1">
            <a:off x="3505320" y="426672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99"/>
            </a:gs>
            <a:gs pos="100000">
              <a:srgbClr val="ffff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23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24"/>
          <p:cNvSpPr/>
          <p:nvPr/>
        </p:nvSpPr>
        <p:spPr>
          <a:xfrm>
            <a:off x="2133720" y="3048120"/>
            <a:ext cx="148572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25"/>
          <p:cNvSpPr/>
          <p:nvPr/>
        </p:nvSpPr>
        <p:spPr>
          <a:xfrm>
            <a:off x="4762440" y="2819520"/>
            <a:ext cx="1143000" cy="571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26"/>
          <p:cNvSpPr/>
          <p:nvPr/>
        </p:nvSpPr>
        <p:spPr>
          <a:xfrm>
            <a:off x="6324480" y="3048120"/>
            <a:ext cx="121932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27"/>
          <p:cNvSpPr/>
          <p:nvPr/>
        </p:nvSpPr>
        <p:spPr>
          <a:xfrm>
            <a:off x="5791320" y="472428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ean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30"/>
          <p:cNvSpPr/>
          <p:nvPr/>
        </p:nvSpPr>
        <p:spPr>
          <a:xfrm>
            <a:off x="2590920" y="2057400"/>
            <a:ext cx="1295280" cy="419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31"/>
          <p:cNvSpPr/>
          <p:nvPr/>
        </p:nvSpPr>
        <p:spPr>
          <a:xfrm>
            <a:off x="685800" y="2362320"/>
            <a:ext cx="12574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 Sha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32"/>
          <p:cNvSpPr/>
          <p:nvPr/>
        </p:nvSpPr>
        <p:spPr>
          <a:xfrm>
            <a:off x="1676520" y="4343400"/>
            <a:ext cx="12189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mat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33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4"/>
          <p:cNvSpPr/>
          <p:nvPr/>
        </p:nvSpPr>
        <p:spPr>
          <a:xfrm>
            <a:off x="51814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35"/>
          <p:cNvSpPr/>
          <p:nvPr/>
        </p:nvSpPr>
        <p:spPr>
          <a:xfrm flipV="1">
            <a:off x="5105520" y="3429000"/>
            <a:ext cx="1218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36"/>
          <p:cNvSpPr/>
          <p:nvPr/>
        </p:nvSpPr>
        <p:spPr>
          <a:xfrm flipH="1">
            <a:off x="2819160" y="426708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37"/>
          <p:cNvSpPr/>
          <p:nvPr/>
        </p:nvSpPr>
        <p:spPr>
          <a:xfrm flipH="1" flipV="1">
            <a:off x="1752120" y="297144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38"/>
          <p:cNvSpPr/>
          <p:nvPr/>
        </p:nvSpPr>
        <p:spPr>
          <a:xfrm flipV="1">
            <a:off x="3048120" y="25146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1"/>
          <p:cNvSpPr/>
          <p:nvPr/>
        </p:nvSpPr>
        <p:spPr>
          <a:xfrm flipH="1" flipV="1">
            <a:off x="3428640" y="3581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2"/>
          <p:cNvSpPr/>
          <p:nvPr/>
        </p:nvSpPr>
        <p:spPr>
          <a:xfrm>
            <a:off x="7010280" y="4191120"/>
            <a:ext cx="13716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43"/>
          <p:cNvSpPr/>
          <p:nvPr/>
        </p:nvSpPr>
        <p:spPr>
          <a:xfrm flipV="1">
            <a:off x="6934320" y="4724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4"/>
          <p:cNvSpPr/>
          <p:nvPr/>
        </p:nvSpPr>
        <p:spPr>
          <a:xfrm>
            <a:off x="6248520" y="5715000"/>
            <a:ext cx="144756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Cur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45"/>
          <p:cNvSpPr/>
          <p:nvPr/>
        </p:nvSpPr>
        <p:spPr>
          <a:xfrm>
            <a:off x="6400800" y="5334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47"/>
          <p:cNvSpPr/>
          <p:nvPr/>
        </p:nvSpPr>
        <p:spPr>
          <a:xfrm>
            <a:off x="1600200" y="5486400"/>
            <a:ext cx="106668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 W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8"/>
          <p:cNvSpPr/>
          <p:nvPr/>
        </p:nvSpPr>
        <p:spPr>
          <a:xfrm>
            <a:off x="228600" y="4724280"/>
            <a:ext cx="11430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N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9"/>
          <p:cNvSpPr/>
          <p:nvPr/>
        </p:nvSpPr>
        <p:spPr>
          <a:xfrm flipH="1">
            <a:off x="1294920" y="46483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0"/>
          <p:cNvSpPr/>
          <p:nvPr/>
        </p:nvSpPr>
        <p:spPr>
          <a:xfrm flipH="1">
            <a:off x="21333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p of the world’s climates and the slide following to answer the questions bel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climate of Hous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ypes of climate are present in the tropical zone of latitu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10552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cwdn.org/MAPS&amp;GLOBES/Climat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41511" t="34784" r="43398" b="23187"/>
          <a:stretch/>
        </p:blipFill>
        <p:spPr>
          <a:xfrm>
            <a:off x="304920" y="2666880"/>
            <a:ext cx="2590560" cy="33530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4952880" y="1676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" descr="ClimateMapWorld"/>
          <p:cNvPicPr/>
          <p:nvPr/>
        </p:nvPicPr>
        <p:blipFill>
          <a:blip r:embed="rId2"/>
          <a:stretch/>
        </p:blipFill>
        <p:spPr>
          <a:xfrm>
            <a:off x="3429000" y="2666880"/>
            <a:ext cx="571500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is template to create your own notes from the Power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4"/>
          <p:cNvSpPr/>
          <p:nvPr/>
        </p:nvSpPr>
        <p:spPr>
          <a:xfrm>
            <a:off x="3390840" y="3505320"/>
            <a:ext cx="1828800" cy="1218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tors that affect cl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4495680" y="2743200"/>
            <a:ext cx="1143000" cy="571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2"/>
          <p:cNvSpPr/>
          <p:nvPr/>
        </p:nvSpPr>
        <p:spPr>
          <a:xfrm flipV="1">
            <a:off x="4724280" y="32767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001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region’s latitude (distance from the equator) can impact its cl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ketch the diagram be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>
            <a:off x="5638680" y="26668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3" descr="latitude lines image"/>
          <p:cNvPicPr/>
          <p:nvPr/>
        </p:nvPicPr>
        <p:blipFill>
          <a:blip r:embed="rId1"/>
          <a:stretch/>
        </p:blipFill>
        <p:spPr>
          <a:xfrm>
            <a:off x="3505320" y="30481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5"/>
          <p:cNvSpPr/>
          <p:nvPr/>
        </p:nvSpPr>
        <p:spPr>
          <a:xfrm>
            <a:off x="3354480" y="61722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7"/>
          <p:cNvSpPr/>
          <p:nvPr/>
        </p:nvSpPr>
        <p:spPr>
          <a:xfrm>
            <a:off x="1371600" y="54864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8"/>
          <p:cNvSpPr/>
          <p:nvPr/>
        </p:nvSpPr>
        <p:spPr>
          <a:xfrm>
            <a:off x="114300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9"/>
          <p:cNvSpPr/>
          <p:nvPr/>
        </p:nvSpPr>
        <p:spPr>
          <a:xfrm>
            <a:off x="7162920" y="44956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rop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0"/>
          <p:cNvSpPr/>
          <p:nvPr/>
        </p:nvSpPr>
        <p:spPr>
          <a:xfrm>
            <a:off x="6934320" y="358128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Tem</a:t>
            </a:r>
            <a:r>
              <a:rPr b="1" lang="en-US" sz="2800" spc="-1" strike="noStrike">
                <a:solidFill>
                  <a:srgbClr val="996600"/>
                </a:solidFill>
                <a:latin typeface="Arial"/>
              </a:rPr>
              <a:t>per</a:t>
            </a:r>
            <a:r>
              <a:rPr b="1" lang="en-US" sz="2800" spc="-1" strike="noStrike">
                <a:solidFill>
                  <a:srgbClr val="99ccff"/>
                </a:solidFill>
                <a:latin typeface="Arial"/>
              </a:rPr>
              <a:t>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nes of Latitu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opical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weather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between the Tropic of Cancer (23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 and the Tropic of Capricorn (23 ½ º S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perate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arm summers and cold winters (four seasons)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between Tropic of Canc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ropic of Caprico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23 ½ º 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 Antarctic Circle (66 ½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º 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lar Zones: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Cold year round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s north of the Arctic Circle and south of the Antarctic Circ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land_shallow_topo_2048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28600" y="152280"/>
            <a:ext cx="8915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Latitude = ______________ zone, _____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ddle Latitude = _______________ zone, _____ ° N _____ ° S, where is i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Latitude = _________________ zone, _____ ° N _____ ° S, where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limateMapWorl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0" y="14479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830592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8600" y="35053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8305920" y="152388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7772400" y="44197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8487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609480" y="4495680"/>
            <a:ext cx="838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533520" y="533520"/>
            <a:ext cx="838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°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447920" y="4648320"/>
            <a:ext cx="632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1066680" y="36576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>
            <a:off x="838080" y="1676520"/>
            <a:ext cx="7467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8"/>
          <p:cNvSpPr/>
          <p:nvPr/>
        </p:nvSpPr>
        <p:spPr>
          <a:xfrm>
            <a:off x="1371600" y="762120"/>
            <a:ext cx="6477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457200" y="25909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0"/>
          <p:cNvSpPr/>
          <p:nvPr/>
        </p:nvSpPr>
        <p:spPr>
          <a:xfrm>
            <a:off x="1066680" y="396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"/>
          <p:cNvSpPr/>
          <p:nvPr/>
        </p:nvSpPr>
        <p:spPr>
          <a:xfrm>
            <a:off x="6553080" y="10666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P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2209680" y="4876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3"/>
          <p:cNvSpPr/>
          <p:nvPr/>
        </p:nvSpPr>
        <p:spPr>
          <a:xfrm>
            <a:off x="5943600" y="22860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4"/>
          <p:cNvSpPr/>
          <p:nvPr/>
        </p:nvSpPr>
        <p:spPr>
          <a:xfrm>
            <a:off x="6095880" y="228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World map"/>
          <p:cNvPicPr/>
          <p:nvPr/>
        </p:nvPicPr>
        <p:blipFill>
          <a:blip r:embed="rId1"/>
          <a:stretch/>
        </p:blipFill>
        <p:spPr>
          <a:xfrm>
            <a:off x="0" y="46080"/>
            <a:ext cx="9144000" cy="48927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6"/>
          <p:cNvSpPr/>
          <p:nvPr/>
        </p:nvSpPr>
        <p:spPr>
          <a:xfrm>
            <a:off x="22860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ich cities will have a temperate clim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3124080" y="5257800"/>
            <a:ext cx="289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ich cities are warm year-round? What is this zone of latitude call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019920" y="51814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ich cities are in the polar zon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0:51:37Z</dcterms:created>
  <dc:creator>Jeff</dc:creator>
  <dc:description/>
  <dc:language>en-US</dc:language>
  <cp:lastModifiedBy>CFISD</cp:lastModifiedBy>
  <dcterms:modified xsi:type="dcterms:W3CDTF">2008-09-08T19:09:37Z</dcterms:modified>
  <cp:revision>18</cp:revision>
  <dc:subject/>
  <dc:title>Climate Lesson</dc:title>
</cp:coreProperties>
</file>