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1C45-4E57-48CE-B50C-DE797BFF0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9836-90A4-4D61-95D4-DD3D74E8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4559-7908-4AED-9FD3-299B4EC4F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3759-7BDB-481E-8AA6-F275AA67C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7492-612E-4856-90AB-3764FD27C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F10A-4D64-412F-9F0A-94539C59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F48D-7088-4D28-A1E2-A3596912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5245-75CE-4F35-BB58-BD63B130F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AD73-B6BF-4274-B235-4823F5028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F2C6-54CD-4597-879E-EFE28060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7818-790E-44B4-9457-6E1AE810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271E-B533-4176-B5A0-47234F46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D638-F5FC-423D-AF46-440B15AD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B152-B251-4123-8FC2-27BDF1CE7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AC8A-E715-469A-BF0C-25B6DCB3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8A7A-4FC7-45FA-982C-06242F178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7E46-8559-4A6F-B5A3-5185EC39D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DF3F-A56E-43C9-AA6B-E76CF0E94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8185-CC05-453A-8FEE-E5A99B76D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AD4-9FA8-403E-A13B-EC7880D8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F77-6849-40FB-B0A5-3D346CB5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1EB-0687-4093-9F5C-0BECD3F9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E4B-B94F-467F-8567-7DD1206B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66D-EF35-4AB0-A1B1-F3CCF618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8E1-9851-442C-8A3B-BCFE7CB4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021-E67E-4482-9568-8820C9AD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C28-95D2-4E82-9648-1D0B597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157-49A2-49CA-B8A1-E1ADE70F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5B3-30AF-4D71-9946-64939AF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96C-2D0D-4BB8-81C5-3C57CFB5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C72-948C-47BC-8209-B4DDDF79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1214-A0F3-4B19-8E51-4F3EF514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cwdn.org/MAPS&amp;GLOBES/Climat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 the Arch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-1523880" y="-647640"/>
            <a:ext cx="12191760" cy="81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a region’s clim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477120" y="-68580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808080"/>
            </a:gs>
            <a:gs pos="100000">
              <a:srgbClr val="00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graphy - 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ion is the height above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the elevation of a region the cooler the temperature be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5638680" y="3276720"/>
            <a:ext cx="2895840" cy="28954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248520" y="5410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24852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Back-mountains-snow"/>
          <p:cNvPicPr/>
          <p:nvPr/>
        </p:nvPicPr>
        <p:blipFill>
          <a:blip r:embed="rId1"/>
          <a:stretch/>
        </p:blipFill>
        <p:spPr>
          <a:xfrm>
            <a:off x="304920" y="2666880"/>
            <a:ext cx="50292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rainshadow pic"/>
          <p:cNvPicPr/>
          <p:nvPr/>
        </p:nvPicPr>
        <p:blipFill>
          <a:blip r:embed="rId1"/>
          <a:stretch/>
        </p:blipFill>
        <p:spPr>
          <a:xfrm>
            <a:off x="0" y="2971800"/>
            <a:ext cx="5943600" cy="3900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ography – Rain Sha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can create orographic rain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ndward side of the mountain is rainy while the leeward side is very d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Shadows are desert regions created on the leeward side of the m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172200" y="3048120"/>
            <a:ext cx="22096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lee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324480" y="426708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wind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 rot="1563000">
            <a:off x="3962160" y="2590920"/>
            <a:ext cx="2133360" cy="94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Point A gets more rain because the Himalayas act as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n shad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ou are corr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0" y="259380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781680" y="3048120"/>
            <a:ext cx="2133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– arid region with very little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029200"/>
            <a:ext cx="2514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 Subtropical – warm temperatures, lots of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currents help distribute the sun’s heat from one part of the world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er air has lower pressure than cooler air.  The cooler air rushes into the low pressure areas causing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air currents make areas warmer than normal.  Cold air currents make areas cooler tha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2120" y="4648320"/>
            <a:ext cx="2514600" cy="1066680"/>
          </a:xfrm>
          <a:prstGeom prst="cloudCallout">
            <a:avLst>
              <a:gd name="adj1" fmla="val -32069"/>
              <a:gd name="adj2" fmla="val 50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715000" y="4191120"/>
            <a:ext cx="2514600" cy="1066680"/>
          </a:xfrm>
          <a:prstGeom prst="cloudCallout">
            <a:avLst>
              <a:gd name="adj1" fmla="val -31689"/>
              <a:gd name="adj2" fmla="val 45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193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17508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01336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V="1">
            <a:off x="3048120" y="5257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2971800" y="541008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3505320" y="480024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3352680" y="50288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438280" y="6019920"/>
            <a:ext cx="358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blows from areas of High Pressure to 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V="1">
            <a:off x="3352680" y="4495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rcRect l="18336" t="10001" r="6667" b="7777"/>
          <a:stretch/>
        </p:blipFill>
        <p:spPr>
          <a:xfrm>
            <a:off x="0" y="-32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29128" t="51264" r="38836" b="92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480" y="4800600"/>
            <a:ext cx="3124440" cy="20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stream – wind currents on land that impact weather and clima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does the jet stream affect the climate of the 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vs Clim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tmospheric conditions (temperature, rainfall, etc…) at a specific poin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m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mospheric conditions (temperature, rainfall, etc…) of a region over a long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 move in large circ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s affect temperature and precipitation of a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ocean currents make surrounding areas warmer and ra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 ocean currents make surrounding areas cooler and d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 rot="9685800">
            <a:off x="5562000" y="3429000"/>
            <a:ext cx="533160" cy="1828800"/>
          </a:xfrm>
          <a:custGeom>
            <a:avLst/>
            <a:gdLst>
              <a:gd name="textAreaLeft" fmla="*/ 71280 w 533160"/>
              <a:gd name="textAreaRight" fmla="*/ 461880 w 53316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048120" y="4114800"/>
            <a:ext cx="243828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248520" y="43434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 rot="20611200">
            <a:off x="2286000" y="487692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8380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048120" y="5486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and 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34340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and Ra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Ocean Currents"/>
          <p:cNvPicPr/>
          <p:nvPr/>
        </p:nvPicPr>
        <p:blipFill>
          <a:blip r:embed="rId1"/>
          <a:stretch/>
        </p:blipFill>
        <p:spPr>
          <a:xfrm>
            <a:off x="155520" y="1600200"/>
            <a:ext cx="898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4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cc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the build up of carbon dioxide (greenhouse gases) in the atmosphere trapping heat and causing increase temperature and shifting weather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being caused by both the human release of greenhouse gases from the burning of fossil fuels (oil, coal) and a natural warming cycle the Earth is going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global temperature begins to rise many changes will occur to climate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global warming simulation on the class webp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effects of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al warming of waters off the west coast of South America about every 2 – 7 years due to a reversal of wi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floods and mudslides in the Ame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droughts in Australia and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200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ographs are a combination of a line graph, measuring average temperature, and a bar graph, measuring average rainfall, for each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limograph"/>
          <p:cNvPicPr/>
          <p:nvPr/>
        </p:nvPicPr>
        <p:blipFill>
          <a:blip r:embed="rId1"/>
          <a:stretch/>
        </p:blipFill>
        <p:spPr>
          <a:xfrm>
            <a:off x="3809880" y="1676520"/>
            <a:ext cx="4876920" cy="4454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26668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3581280" y="51814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057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V="1">
            <a:off x="3505320" y="4266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4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5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7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3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1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2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3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4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7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8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0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ap of the world’s climates and the slide following to answer the questions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limate of Hous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ypes of climate are present in the tropical zone of latit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51055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wdn.org/MAPS&amp;GLOBES/Clim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41511" t="34784" r="43398" b="23187"/>
          <a:stretch/>
        </p:blipFill>
        <p:spPr>
          <a:xfrm>
            <a:off x="304920" y="2666880"/>
            <a:ext cx="2590560" cy="3353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4952880" y="1676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ClimateMapWorld"/>
          <p:cNvPicPr/>
          <p:nvPr/>
        </p:nvPicPr>
        <p:blipFill>
          <a:blip r:embed="rId2"/>
          <a:stretch/>
        </p:blipFill>
        <p:spPr>
          <a:xfrm>
            <a:off x="3429000" y="2666880"/>
            <a:ext cx="5715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4495680" y="274320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’s latitude (distance from the equator) can impact its cl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etch the diagram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638680" y="2666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3" descr="latitude lines image"/>
          <p:cNvPicPr/>
          <p:nvPr/>
        </p:nvPicPr>
        <p:blipFill>
          <a:blip r:embed="rId1"/>
          <a:stretch/>
        </p:blipFill>
        <p:spPr>
          <a:xfrm>
            <a:off x="3505320" y="3048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5"/>
          <p:cNvSpPr/>
          <p:nvPr/>
        </p:nvSpPr>
        <p:spPr>
          <a:xfrm>
            <a:off x="3354480" y="61722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137160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14300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16292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934320" y="35812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opical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weather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between the Tropic of Cancer (23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 and the Tropic of Capricorn (23 ½ º 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e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summers and cold winters (four seasons)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between Tropic of Canc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opic of Caprico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nt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ar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old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north of the Arctic Circle and south of the Antarctic Cir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land_shallow_topo_2048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9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atitude = ______________ zone, _____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Latitude = _______________ zone, _____ ° N _____ ° S, where is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Latitude = _________________ zone, _____ ° 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limateMapWor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14479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830592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2860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305920" y="152388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772400" y="44197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8487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9480" y="449568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447920" y="4648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1066680" y="365760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838080" y="16765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1371600" y="7621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0666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6553080" y="1066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0968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5943600" y="2286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095880" y="228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World map"/>
          <p:cNvPicPr/>
          <p:nvPr/>
        </p:nvPicPr>
        <p:blipFill>
          <a:blip r:embed="rId1"/>
          <a:stretch/>
        </p:blipFill>
        <p:spPr>
          <a:xfrm>
            <a:off x="0" y="46080"/>
            <a:ext cx="9144000" cy="4892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2860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ich cities will have a temperate clim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124080" y="52578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ich cities are warm year-round? What is this zone of latitude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1992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ich cities are in the polar z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0:51:37Z</dcterms:created>
  <dc:creator>Jeff</dc:creator>
  <dc:description/>
  <dc:language>en-US</dc:language>
  <cp:lastModifiedBy>CFISD</cp:lastModifiedBy>
  <dcterms:modified xsi:type="dcterms:W3CDTF">2008-09-08T19:09:37Z</dcterms:modified>
  <cp:revision>18</cp:revision>
  <dc:subject/>
  <dc:title>Climate Lesson</dc:title>
</cp:coreProperties>
</file>