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520C-2DBC-41F0-947A-7DA0FCBE4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172A-5125-4A7A-84E6-2904F4BB6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97DD-56D5-4A1E-B5B0-CDD14C141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5E33-1073-47B7-B44C-A6AF79476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EF1F-94C0-4D64-8639-0D9E51F7B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F0D9-95DE-49DC-8321-AE61D001C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711E-A24B-4B5F-931F-FE2EF3930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061F-9A00-43B5-B51D-6C9A9B24A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B26C-C4E0-4526-AE5A-22C99C5E0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3F37-CEB3-49EC-84F9-F11BEDE82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5ADE-FB73-42EC-9A4A-B39C01BA3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DE3A-18E5-4986-A491-48BC994AB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56A2-92F3-4ADF-851B-5D65AEC20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6E25-B8A5-4E3E-A911-A99DB6546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DC90-18E6-4670-8023-BCAB85419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5838-65B6-4470-B851-D1D9A4EF0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9C50-9A77-4957-9362-E08C0E8DE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E730-7A36-48EC-9E9D-BA480A536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8F02-EE43-4E25-A37E-727D794DF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565-81BC-4E08-8070-5335A496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259-8795-4798-86E2-F98B9442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F18-F39F-4AA7-9B0B-25BE63C7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4EE-3EC4-4372-ABCE-49A00D3B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8F5-6E57-4102-803C-1293F6C0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6B6-5025-4551-BCBC-A1C85F03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A21-588C-4D58-8598-3E0163EB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6C6-DCE9-4166-A595-EFF05952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504-8DE0-422C-B6B4-5F1F6A0F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105-9763-4AF0-95ED-5BB6076A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C7D-13DD-4A78-BA64-DD772CAE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9CF-0AD3-4863-BD33-9380E2BF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57D9-896F-4846-A348-031E5FC39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mcwdn.org/MAPS&amp;GLOBES/Climat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 the Arch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-1523880" y="-647640"/>
            <a:ext cx="12191760" cy="81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contribute to a region’s clim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477120" y="-68580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“Slide Show” then “View Show” to view the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all notes and complete all task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ge doesn’t have a directions box like this, just get th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808080"/>
            </a:gs>
            <a:gs pos="100000">
              <a:srgbClr val="00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graphy - Ele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ion is the height above se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r the elevation of a region the cooler the temperature be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5638680" y="3276720"/>
            <a:ext cx="2895840" cy="28954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248520" y="5410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er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248520" y="3429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er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Back-mountains-snow"/>
          <p:cNvPicPr/>
          <p:nvPr/>
        </p:nvPicPr>
        <p:blipFill>
          <a:blip r:embed="rId1"/>
          <a:stretch/>
        </p:blipFill>
        <p:spPr>
          <a:xfrm>
            <a:off x="304920" y="2666880"/>
            <a:ext cx="50292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rainshadow pic"/>
          <p:cNvPicPr/>
          <p:nvPr/>
        </p:nvPicPr>
        <p:blipFill>
          <a:blip r:embed="rId1"/>
          <a:stretch/>
        </p:blipFill>
        <p:spPr>
          <a:xfrm>
            <a:off x="0" y="2971800"/>
            <a:ext cx="5943600" cy="3900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ography – Rain Shad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 can create orographic rain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ndward side of the mountain is rainy while the leeward side is very d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Shadows are desert regions created on the leeward side of the mou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172200" y="3048120"/>
            <a:ext cx="22096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ide is the leeward side, the right or the lef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324480" y="4267080"/>
            <a:ext cx="1981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ide is the windward side, the right or the lef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rcRect l="12964" t="47456" r="45325" b="2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3" descr=""/>
          <p:cNvPicPr/>
          <p:nvPr/>
        </p:nvPicPr>
        <p:blipFill>
          <a:blip r:embed="rId2"/>
          <a:srcRect l="12964" t="47144" r="74078" b="32656"/>
          <a:stretch/>
        </p:blipFill>
        <p:spPr>
          <a:xfrm>
            <a:off x="0" y="4419720"/>
            <a:ext cx="2590920" cy="2220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990720"/>
            <a:ext cx="31244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ts more more rain point A or point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difference in rainfall amounts between point A and point 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8120" y="152280"/>
            <a:ext cx="5648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 Precipitation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43400" y="320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2880" y="16002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5715000"/>
            <a:ext cx="1524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Rain comes from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457200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81280" y="4190760"/>
            <a:ext cx="83844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67080" y="411444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rcRect l="12964" t="47456" r="45325" b="2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3" descr=""/>
          <p:cNvPicPr/>
          <p:nvPr/>
        </p:nvPicPr>
        <p:blipFill>
          <a:blip r:embed="rId2"/>
          <a:srcRect l="12964" t="47144" r="74078" b="32656"/>
          <a:stretch/>
        </p:blipFill>
        <p:spPr>
          <a:xfrm>
            <a:off x="0" y="4419720"/>
            <a:ext cx="2590920" cy="2220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990720"/>
            <a:ext cx="31244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ts more more rain point A or point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difference in rainfall amounts between point A and point 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8120" y="152280"/>
            <a:ext cx="5648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 Precipitation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952880" y="16002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715000"/>
            <a:ext cx="1524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Rain comes from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124080" y="457200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581280" y="4190760"/>
            <a:ext cx="83844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267080" y="411444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 rot="1563000">
            <a:off x="3962160" y="2590920"/>
            <a:ext cx="2133360" cy="942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343400" y="320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Point A gets more rain because the Himalayas act as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in shad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ou are corr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3" descr=""/>
          <p:cNvPicPr/>
          <p:nvPr/>
        </p:nvPicPr>
        <p:blipFill>
          <a:blip r:embed="rId1"/>
          <a:stretch/>
        </p:blipFill>
        <p:spPr>
          <a:xfrm>
            <a:off x="0" y="2593800"/>
            <a:ext cx="9144000" cy="4264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781680" y="3048120"/>
            <a:ext cx="21337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– arid region with very little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029200"/>
            <a:ext cx="25146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id Subtropical – warm temperatures, lots of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currents help distribute the sun’s heat from one part of the world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er air has lower pressure than cooler air.  The cooler air rushes into the low pressure areas causing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air currents make areas warmer than normal.  Cold air currents make areas cooler than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2120" y="4648320"/>
            <a:ext cx="2514600" cy="1066680"/>
          </a:xfrm>
          <a:prstGeom prst="cloudCallout">
            <a:avLst>
              <a:gd name="adj1" fmla="val -32069"/>
              <a:gd name="adj2" fmla="val 50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715000" y="4191120"/>
            <a:ext cx="2514600" cy="1066680"/>
          </a:xfrm>
          <a:prstGeom prst="cloudCallout">
            <a:avLst>
              <a:gd name="adj1" fmla="val -31689"/>
              <a:gd name="adj2" fmla="val 45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219320" y="4267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ressur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175080" y="5410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ressur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5013360" y="4303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V="1">
            <a:off x="3048120" y="52578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2971800" y="5410080"/>
            <a:ext cx="2819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3505320" y="480024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3352680" y="5028840"/>
            <a:ext cx="2210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438280" y="6019920"/>
            <a:ext cx="3581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blows from areas of High Pressure to Low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V="1">
            <a:off x="3352680" y="449532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rcRect l="18336" t="10001" r="6667" b="7777"/>
          <a:stretch/>
        </p:blipFill>
        <p:spPr>
          <a:xfrm>
            <a:off x="0" y="-32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29128" t="51264" r="38836" b="92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9480" y="4800600"/>
            <a:ext cx="3124440" cy="20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 stream – wind currents on land that impact weather and climat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ow does the jet stream affect the climate of the 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 vs Clim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th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tmospheric conditions (temperature, rainfall, etc…) at a specific poin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m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mospheric conditions (temperature, rainfall, etc…) of a region over a long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0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1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2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99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current move in large circula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currents affect temperature and precipitation of an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ocean currents make surrounding areas warmer and ra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 ocean currents make surrounding areas cooler and d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 rot="9685800">
            <a:off x="5562000" y="3429000"/>
            <a:ext cx="533160" cy="1828800"/>
          </a:xfrm>
          <a:custGeom>
            <a:avLst/>
            <a:gdLst>
              <a:gd name="textAreaLeft" fmla="*/ 71280 w 533160"/>
              <a:gd name="textAreaRight" fmla="*/ 461880 w 53316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048120" y="4114800"/>
            <a:ext cx="243828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248520" y="43434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Ocea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6"/>
          <p:cNvSpPr/>
          <p:nvPr/>
        </p:nvSpPr>
        <p:spPr>
          <a:xfrm rot="20611200">
            <a:off x="2286000" y="487692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838080" y="5562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 Ocea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048120" y="5486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er and 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34340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er and Ra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Ocean Currents"/>
          <p:cNvPicPr/>
          <p:nvPr/>
        </p:nvPicPr>
        <p:blipFill>
          <a:blip r:embed="rId1"/>
          <a:stretch/>
        </p:blipFill>
        <p:spPr>
          <a:xfrm>
            <a:off x="155520" y="1600200"/>
            <a:ext cx="898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8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1"/>
          <p:cNvSpPr/>
          <p:nvPr/>
        </p:nvSpPr>
        <p:spPr>
          <a:xfrm>
            <a:off x="1676520" y="4343400"/>
            <a:ext cx="12189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t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 flipH="1">
            <a:off x="2819160" y="4267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9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3"/>
          <p:cNvSpPr/>
          <p:nvPr/>
        </p:nvSpPr>
        <p:spPr>
          <a:xfrm>
            <a:off x="1600200" y="5486400"/>
            <a:ext cx="1066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4"/>
          <p:cNvSpPr/>
          <p:nvPr/>
        </p:nvSpPr>
        <p:spPr>
          <a:xfrm>
            <a:off x="228600" y="472428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129492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21333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cc00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the build up of carbon dioxide (greenhouse gases) in the atmosphere trapping heat and causing increase temperature and shifting weather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being caused by both the human release of greenhouse gases from the burning of fossil fuels (oil, coal) and a natural warming cycle the Earth is going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global temperature begins to rise many changes will occur to climate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global warming simulation on the class webpa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effects of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al warming of waters off the west coast of South America about every 2 – 7 years due to a reversal of win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no causes floods and mudslides in the Amer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no causes droughts in Australia and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200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ographs are a combination of a line graph, measuring average temperature, and a bar graph, measuring average rainfall, for each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limograph"/>
          <p:cNvPicPr/>
          <p:nvPr/>
        </p:nvPicPr>
        <p:blipFill>
          <a:blip r:embed="rId1"/>
          <a:stretch/>
        </p:blipFill>
        <p:spPr>
          <a:xfrm>
            <a:off x="3809880" y="1676520"/>
            <a:ext cx="4876920" cy="4454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26668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V="1">
            <a:off x="3581280" y="5181480"/>
            <a:ext cx="198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057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 flipV="1">
            <a:off x="3505320" y="4266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99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3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4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5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6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7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1676520" y="4343400"/>
            <a:ext cx="12189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t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3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4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5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6"/>
          <p:cNvSpPr/>
          <p:nvPr/>
        </p:nvSpPr>
        <p:spPr>
          <a:xfrm flipH="1">
            <a:off x="2819160" y="4267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7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8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1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2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3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4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5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7"/>
          <p:cNvSpPr/>
          <p:nvPr/>
        </p:nvSpPr>
        <p:spPr>
          <a:xfrm>
            <a:off x="1600200" y="5486400"/>
            <a:ext cx="1066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8"/>
          <p:cNvSpPr/>
          <p:nvPr/>
        </p:nvSpPr>
        <p:spPr>
          <a:xfrm>
            <a:off x="228600" y="472428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9"/>
          <p:cNvSpPr/>
          <p:nvPr/>
        </p:nvSpPr>
        <p:spPr>
          <a:xfrm flipH="1">
            <a:off x="129492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0"/>
          <p:cNvSpPr/>
          <p:nvPr/>
        </p:nvSpPr>
        <p:spPr>
          <a:xfrm flipH="1">
            <a:off x="21333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limate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opical We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hot and rain falls almost daily (Amazon Rainfor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er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less than 10 inches of rain per year (Phoenix, A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iari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between 10 and 16 inches of rain per year (West Tex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terranea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ry and hot summers, cool and rainy winters (Los Angeles, 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Subtropic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Hot and humid summers, mild to cool winters (Houston, T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ne West Coas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cated close to warm ocean currents.  Moderate temperatures and constant rainfall (Seattle, W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Continent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Hot summers and Cold winters.  Located in the interior, far away from oceans.  Have four distinct seasons (St. Louis, M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ndr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cold.  Flat, treeless lands around the Arctic Ocean.  Very little rain.  Land has permafrost. (Green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ap of the world’s climates and the slide following to answer the questions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limate of Hous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ypes of climate are present in the tropical zone of latitu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510552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cwdn.org/MAPS&amp;GLOBES/Climat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41511" t="34784" r="43398" b="23187"/>
          <a:stretch/>
        </p:blipFill>
        <p:spPr>
          <a:xfrm>
            <a:off x="304920" y="2666880"/>
            <a:ext cx="2590560" cy="3353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4952880" y="1676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ClimateMapWorld"/>
          <p:cNvPicPr/>
          <p:nvPr/>
        </p:nvPicPr>
        <p:blipFill>
          <a:blip r:embed="rId2"/>
          <a:stretch/>
        </p:blipFill>
        <p:spPr>
          <a:xfrm>
            <a:off x="3429000" y="2666880"/>
            <a:ext cx="5715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4495680" y="274320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01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’s latitude (distance from the equator) can impact its cl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ketch the diagram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5638680" y="2666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3" descr="latitude lines image"/>
          <p:cNvPicPr/>
          <p:nvPr/>
        </p:nvPicPr>
        <p:blipFill>
          <a:blip r:embed="rId1"/>
          <a:stretch/>
        </p:blipFill>
        <p:spPr>
          <a:xfrm>
            <a:off x="3505320" y="3048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5"/>
          <p:cNvSpPr/>
          <p:nvPr/>
        </p:nvSpPr>
        <p:spPr>
          <a:xfrm>
            <a:off x="3354480" y="61722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1371600" y="5486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em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p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14300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716292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934320" y="35812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em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p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opical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 weather year roun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between the Tropic of Cancer (23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N) and the Tropic of Capricorn (23 ½ º 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perate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 summers and cold winters (four seasons)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between Tropic of Canc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23 ½ º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ctic Circle (66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ropic of Caprico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23 ½ º 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Antarctic Circle (66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ar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old year roun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north of the Arctic Circle and south of the Antarctic Circ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land_shallow_topo_2048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152280"/>
            <a:ext cx="8915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atitude = ______________ zone, _____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_____ ° S, where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Latitude = _______________ zone, _____ ° N _____ ° S, where is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Latitude = _________________ zone, _____ ° N _____ ° S, where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limateMapWor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0" y="14479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8305920" y="3505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28600" y="3505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8305920" y="152388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772400" y="44197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7848720" y="533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09480" y="449568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447920" y="464832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1066680" y="365760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838080" y="1676520"/>
            <a:ext cx="7467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1371600" y="76212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1066680" y="3962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6553080" y="1066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09680" y="4876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5943600" y="2286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6095880" y="228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World map"/>
          <p:cNvPicPr/>
          <p:nvPr/>
        </p:nvPicPr>
        <p:blipFill>
          <a:blip r:embed="rId1"/>
          <a:stretch/>
        </p:blipFill>
        <p:spPr>
          <a:xfrm>
            <a:off x="0" y="46080"/>
            <a:ext cx="9144000" cy="4892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2860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ich cities will have a temperate clim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124080" y="52578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ich cities are warm year-round? What is this zone of latitude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01992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ich cities are in the polar z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0:51:37Z</dcterms:created>
  <dc:creator>Jeff</dc:creator>
  <dc:description/>
  <dc:language>en-US</dc:language>
  <cp:lastModifiedBy>CFISD</cp:lastModifiedBy>
  <dcterms:modified xsi:type="dcterms:W3CDTF">2008-09-08T19:09:37Z</dcterms:modified>
  <cp:revision>18</cp:revision>
  <dc:subject/>
  <dc:title>Climate Lesson</dc:title>
</cp:coreProperties>
</file>