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EE7-4201-411E-9C39-D77A1522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225F-0F4B-4685-B825-89B09B8A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A6AE-CDB0-4860-B4FF-17B374B5A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6BF9-64CC-4C05-91F1-22D2055A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BB4F-8EAD-4DFD-B90E-F83CB0BF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3D5-ACC3-44C6-9A20-1BBCF549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A205-8059-4DC4-828E-FEED2ADE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F86A-8B21-48C4-96EB-5AED251B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484-2734-48F7-A521-EE011F28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1B9A-1D49-4012-AAFA-001AB473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B6E-6E1D-4844-A9AD-5472ADAF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063-1C83-46FA-A1D6-5FEAA787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B169-A983-4095-9C70-753CA6571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bs.org/newshour/bb/asia/july-dec05/china_10-04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news.bbc.co.uk/2/hi/asia-pacific/6691691.stm" TargetMode="External"/><Relationship Id="rId2" Type="http://schemas.openxmlformats.org/officeDocument/2006/relationships/hyperlink" Target="http://www.nytimes.com/2007/01/18/world/asia/18cnd-china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 vs. th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China overtaken the US as the world’s strongest super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o Clip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-chart and list examples in support or against the Key Question that you observe in the cli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05120" y="4800600"/>
            <a:ext cx="4647960" cy="1828800"/>
            <a:chOff x="1905120" y="4800600"/>
            <a:chExt cx="4647960" cy="1828800"/>
          </a:xfrm>
        </p:grpSpPr>
        <p:sp>
          <p:nvSpPr>
            <p:cNvPr id="45" name=""/>
            <p:cNvSpPr/>
            <p:nvPr/>
          </p:nvSpPr>
          <p:spPr>
            <a:xfrm>
              <a:off x="2666880" y="502920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19720" y="4800600"/>
              <a:ext cx="0" cy="1828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905120" y="5638680"/>
              <a:ext cx="46479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conomic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scribe the economic growth occurring in Chi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does the Chinese economy compare to the US econom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se resources to answer the questions belo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asia-pacific/6691691.s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What is the US worried about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hy would the US want China to disclose it’s military spending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2007/01/18/world/asia/18cnd-chin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hat are the consequences of China’s satellite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scribe the US reaction to this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How is this similar to the Cold War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What would be your response to the Chinese government regarding this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ure – 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China overtaken the US as the world’s strongest superpow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1:55:00Z</dcterms:created>
  <dc:creator>CFISD</dc:creator>
  <dc:description/>
  <dc:language>en-US</dc:language>
  <cp:lastModifiedBy>CFISD</cp:lastModifiedBy>
  <dcterms:modified xsi:type="dcterms:W3CDTF">2009-05-27T12:46:59Z</dcterms:modified>
  <cp:revision>2</cp:revision>
  <dc:subject/>
  <dc:title>China vs. the US</dc:title>
</cp:coreProperties>
</file>