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DDFA-58A7-4BA2-86DA-A814AA291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F90A-E08F-41A3-9FA7-E1C2CE65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B1F5-D8AD-4449-A39F-9A599E150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1224-04A7-437F-9826-84CAFE041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23C5-8A29-4608-A643-6391FF1B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7C91-9462-41A3-9F1B-095D46C4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42CB-8152-40E8-A4E8-FE6400E6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979F-D46F-4174-A890-C8270754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CE37-FE3D-47DD-B31C-3F359BF9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BD63-2F5D-4904-A312-F0601347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3961-7995-47EC-AE15-ED38B396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F97A-C063-419A-8D4C-7DCB9959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6392-4E64-406F-84A2-3324D612C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bs.org/newshour/bb/asia/july-dec05/china_10-04.htm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news.bbc.co.uk/2/hi/asia-pacific/6691691.stm" TargetMode="External"/><Relationship Id="rId2" Type="http://schemas.openxmlformats.org/officeDocument/2006/relationships/hyperlink" Target="http://www.nytimes.com/2007/01/18/world/asia/18cnd-china.html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na vs. the 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Ques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China overtaken the US as the world’s strongest superpow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ro Clip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t-chart and list examples in support or against the Key Question that you observe in the cli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05120" y="4800600"/>
            <a:ext cx="4647960" cy="1828800"/>
            <a:chOff x="1905120" y="4800600"/>
            <a:chExt cx="4647960" cy="1828800"/>
          </a:xfrm>
        </p:grpSpPr>
        <p:sp>
          <p:nvSpPr>
            <p:cNvPr id="45" name=""/>
            <p:cNvSpPr/>
            <p:nvPr/>
          </p:nvSpPr>
          <p:spPr>
            <a:xfrm>
              <a:off x="2666880" y="5029200"/>
              <a:ext cx="381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19720" y="4800600"/>
              <a:ext cx="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905120" y="5638680"/>
              <a:ext cx="4647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conomic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Describe the economic growth occurring in Chin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How does the Chinese economy compare to the US econom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tic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se resources to answer the questions below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ews.bbc.co.uk/2/hi/asia-pacific/6691691.s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What is the US worried abou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Why would the US want China to disclose it’s military spendin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nytimes.com/2007/01/18/world/asia/18cnd-china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What are the consequences of China’s satellite progra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Describe the US reaction to this progra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How is this similar to the Cold Wa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What would be your response to the Chinese government regarding this progra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sure – Exit Ti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China overtaken the US as the world’s strongest superpow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1:55:00Z</dcterms:created>
  <dc:creator>CFISD</dc:creator>
  <dc:description/>
  <dc:language>en-US</dc:language>
  <cp:lastModifiedBy>CFISD</cp:lastModifiedBy>
  <dcterms:modified xsi:type="dcterms:W3CDTF">2009-05-27T12:46:59Z</dcterms:modified>
  <cp:revision>2</cp:revision>
  <dc:subject/>
  <dc:title>China vs. the US</dc:title>
</cp:coreProperties>
</file>