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C57D-A3A3-41BF-8353-52A3DD981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2370-2564-49C5-9CA6-A9CE76E2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C704-08FB-4A63-9CF4-E484AB4D1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E682-B294-4399-8F0A-D16CDF889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4119-E671-432E-88BE-513F8506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3006-32E6-4BC0-A203-1D7ECDABD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F173-9378-4AC3-92FA-543D9DD9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E510-0783-46D9-A428-580FE723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5627-B520-4797-9C89-B71D192D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5072-AB6A-442B-9717-DAF2F98D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78B2-5DE5-4166-A2B5-D136B012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C334-5A35-44FC-94DC-AB97E059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12F1-9CD8-4F30-A4D0-CB6A91894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bs.org/newshour/bb/asia/july-dec05/china_10-04.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news.bbc.co.uk/2/hi/asia-pacific/6691691.stm" TargetMode="External"/><Relationship Id="rId2" Type="http://schemas.openxmlformats.org/officeDocument/2006/relationships/hyperlink" Target="http://www.nytimes.com/2007/01/18/world/asia/18cnd-china.html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na vs. the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Ques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China overtaken the US as the world’s strongest superpow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ro Clip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t-chart and list examples in support or against the Key Question that you observe in the cli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05120" y="4800600"/>
            <a:ext cx="4647960" cy="1828800"/>
            <a:chOff x="1905120" y="4800600"/>
            <a:chExt cx="4647960" cy="1828800"/>
          </a:xfrm>
        </p:grpSpPr>
        <p:sp>
          <p:nvSpPr>
            <p:cNvPr id="45" name=""/>
            <p:cNvSpPr/>
            <p:nvPr/>
          </p:nvSpPr>
          <p:spPr>
            <a:xfrm>
              <a:off x="2666880" y="5029200"/>
              <a:ext cx="381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19720" y="480060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905120" y="5638680"/>
              <a:ext cx="4647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conomic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Describe the economic growth occurring in Chi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ow does the Chinese economy compare to the US econom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tic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se resources to answer the questions below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/2/hi/asia-pacific/6691691.s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What is the US worried abou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Why would the US want China to disclose it’s military spendi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nytimes.com/2007/01/18/world/asia/18cnd-chin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What are the consequences of China’s satellite progra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Describe the US reaction to this progra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How is this similar to the Cold Wa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What would be your response to the Chinese government regarding this progra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ure – Exit Ti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China overtaken the US as the world’s strongest superpow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1:55:00Z</dcterms:created>
  <dc:creator>CFISD</dc:creator>
  <dc:description/>
  <dc:language>en-US</dc:language>
  <cp:lastModifiedBy>CFISD</cp:lastModifiedBy>
  <dcterms:modified xsi:type="dcterms:W3CDTF">2009-05-27T12:46:59Z</dcterms:modified>
  <cp:revision>2</cp:revision>
  <dc:subject/>
  <dc:title>China vs. the US</dc:title>
</cp:coreProperties>
</file>