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361-1C7E-4357-9F95-C49A93DA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FF2-E1BC-4D1F-9F48-7E1F89E3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8EA-6B88-40CD-A2DF-D56ACB8A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511-011C-4033-80A9-3F213607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6CD-98F7-44F8-98E0-1324DE63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F5A-B898-4598-B7CE-C199E24C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A51-64AC-4D3C-B854-00E23281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5D4-8938-470B-B5FB-047C96A1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781-6A4B-4151-A3F0-24F7F1E6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297-072D-4B39-A796-14F2665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F51-F591-45F9-B7C6-CBA2E79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8C0-2957-47B0-AA13-821EA024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6F6-D6FF-4C41-AF3F-B324AFCB8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newshour/bb/asia/july-dec05/china_10-04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hi/asia-pacific/6691691.stm" TargetMode="External"/><Relationship Id="rId2" Type="http://schemas.openxmlformats.org/officeDocument/2006/relationships/hyperlink" Target="http://www.nytimes.com/2007/01/18/world/asia/18cnd-china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vs. th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 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-chart and list examples in support or against the Key Question that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4800600"/>
            <a:ext cx="4647960" cy="1828800"/>
            <a:chOff x="1905120" y="4800600"/>
            <a:chExt cx="4647960" cy="1828800"/>
          </a:xfrm>
        </p:grpSpPr>
        <p:sp>
          <p:nvSpPr>
            <p:cNvPr id="45" name=""/>
            <p:cNvSpPr/>
            <p:nvPr/>
          </p:nvSpPr>
          <p:spPr>
            <a:xfrm>
              <a:off x="2666880" y="502920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9720" y="48006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5120" y="5638680"/>
              <a:ext cx="4647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conom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economic growth occurring in Ch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the Chinese economy compare to the US econom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se resources to answer the questions be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asia-pacific/6691691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at is the US worried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 would the US want China to disclose it’s military spen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2007/01/18/world/asia/18cnd-chi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are the consequences of China’s satellite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scribe the US reaction to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How is this similar to the Cold W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at would be your response to the Chinese government regarding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55:00Z</dcterms:created>
  <dc:creator>CFISD</dc:creator>
  <dc:description/>
  <dc:language>en-US</dc:language>
  <cp:lastModifiedBy>CFISD</cp:lastModifiedBy>
  <dcterms:modified xsi:type="dcterms:W3CDTF">2009-05-27T12:46:59Z</dcterms:modified>
  <cp:revision>2</cp:revision>
  <dc:subject/>
  <dc:title>China vs. the US</dc:title>
</cp:coreProperties>
</file>