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122-DDA4-46D0-B9EE-E85055A9B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D962-4D84-4FAA-AB86-C6B9BD76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E281-E42A-459F-AE55-80ACDBAB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3DF-77BD-4E9D-B619-B00AD242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927-9746-4C94-9757-49C3CA61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B930-EDCF-4553-B6D3-1A179D82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896A-3B24-4C8D-B3F0-967A7075A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2889-B8D3-44F4-8E4B-27C779FD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728-B73C-4241-A143-4D8D445B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C5A0-1B5F-4D76-AF3A-60052A2E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903-FA5E-4DED-8FCD-3B37935B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6EE3-B36B-4CFC-9B25-48504499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8100-02D4-422D-8583-2F2F744E5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nn.com/SPECIALS/1999/china.50/asian.superpower/three.gorges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ina’s Human-Environment Inte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ree Gorges D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952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y does Journalist Dai Qing consider the 3 Gorges Dam the most environmentally and socially destructive project in the worl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happened to Qing after she spoke ou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at effect will the dam have on the Yangtze River itsel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How does the dam impact farmin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362320"/>
            <a:ext cx="1600200" cy="339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link on the headlin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the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your answers in complete sentences or copy the question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6483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are a Chinese villager living on the Yangtze Ri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r village will be underwater and become a major shipping lane after the completion of the 3 Gorges Dam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tence letter to the Chinese government explaining your opinion of the Three Gorges D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rt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end you are a Chinese businessman living in the city of Shanghai on the Yangtze Riv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tence letter to the Chinese government explaining your opinion of the Three Gorges D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24480" y="1600200"/>
            <a:ext cx="2362320" cy="23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rite the letters be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 create a power point presentation laying out your opi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50:11Z</dcterms:created>
  <dc:creator>CFISD</dc:creator>
  <dc:description/>
  <dc:language>en-US</dc:language>
  <cp:lastModifiedBy>CFISD</cp:lastModifiedBy>
  <dcterms:modified xsi:type="dcterms:W3CDTF">2009-04-09T13:01:44Z</dcterms:modified>
  <cp:revision>6</cp:revision>
  <dc:subject/>
  <dc:title>China’s Human-Environment Interaction</dc:title>
</cp:coreProperties>
</file>