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F65-84F4-4CEB-9443-280AC6E6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436-4EDF-4BFF-AF49-E62BEFC1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92F-D41B-4484-852D-AF0A27AC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65B-2EEB-41D9-B2FC-50E9AE74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6B4-93C1-4814-A900-56E90E67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374-D7D3-43E6-B487-62836720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4D6-2BCB-486D-8D74-84EBCE66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7EF-45B3-4FCB-9F7A-934B3DCF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7C4-2F6B-4F29-88D6-60E94C06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06B-C618-4BCA-9E61-D693F0A0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7FE-C3B5-496B-82A5-37DD39C3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9AA-F83D-44AF-90BB-159F15E5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422F-CE25-48DB-A10E-19ECE6909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nn.com/SPECIALS/1999/china.50/asian.superpower/three.gorges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’s Human-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ree Gorges D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952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y does Journalist Dai Qing consider the 3 Gorges Dam the most environmentally and socially destructive project in the worl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happened to Qing after she spoke ou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effect will the dam have on the Yangtze River itsel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How does the dam impact farm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362320"/>
            <a:ext cx="160020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link on the head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your answers in complete sentences or copy the ques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648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a Chinese villager living on the Yangtze Riv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village will be underwater and become a major shipping lane after the completion of the 3 Gorges Da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tence letter to the Chinese government explaining your opinion of the Three Gorges D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end you are a Chinese businessman living in the city of Shanghai on the Yangtze Riv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tence letter to the Chinese government explaining your opinion of the Three Gorges D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1600200"/>
            <a:ext cx="236232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rite the letters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 create a power point presentation laying out your opi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50:11Z</dcterms:created>
  <dc:creator>CFISD</dc:creator>
  <dc:description/>
  <dc:language>en-US</dc:language>
  <cp:lastModifiedBy>CFISD</cp:lastModifiedBy>
  <dcterms:modified xsi:type="dcterms:W3CDTF">2009-04-09T13:01:44Z</dcterms:modified>
  <cp:revision>6</cp:revision>
  <dc:subject/>
  <dc:title>China’s Human-Environment Interaction</dc:title>
</cp:coreProperties>
</file>