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59C-6DB7-4853-AE9C-1509070F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486-2B7C-4D78-A39C-FA19149C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79A-E1BB-4B78-BE64-6B3A9472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E29-757E-45B3-92AD-2670C8B3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F26-04E3-425F-9627-3BDEEC8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34A-3349-43A7-941C-452569F0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94E-F459-4950-8218-A659289D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F30-7134-497C-A10C-5F4C282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1FE-F88C-4557-AC84-FF957651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44E-AB49-4AC8-8F5A-34464F9B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D5F-58EB-4CB4-8AF6-64FE3CF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601-B373-4321-9E6A-916C6E6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80F7-8718-4719-AA04-BAB67D8C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SPECIALS/1999/china.50/asian.superpower/three.gorg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’s 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Gorges 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y does Journalist Dai Qing consider the 3 Gorges Dam the most environmentally and socially destructive project in the worl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happened to Qing after she spoke 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effect will the dam have on the Yangtze River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w does the dam impact farm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362320"/>
            <a:ext cx="160020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on the head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answers in complete sentences or copy the ques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a Chinese villager living on the Yangtze Ri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village will be underwater and become a major shipping lane after the completion of the 3 Gorges Da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you are a Chinese businessman living in the city of Shanghai on the Yangtze Riv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600200"/>
            <a:ext cx="236232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rite the letter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 create a power point presentation laying out your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50:11Z</dcterms:created>
  <dc:creator>CFISD</dc:creator>
  <dc:description/>
  <dc:language>en-US</dc:language>
  <cp:lastModifiedBy>CFISD</cp:lastModifiedBy>
  <dcterms:modified xsi:type="dcterms:W3CDTF">2009-04-09T13:01:44Z</dcterms:modified>
  <cp:revision>6</cp:revision>
  <dc:subject/>
  <dc:title>China’s Human-Environment Interaction</dc:title>
</cp:coreProperties>
</file>