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AAFD-E0C1-4948-9D7E-9F3C44D9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92A-6885-41D0-B024-B355F0E6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07EF-7D6F-4A91-AFAC-F4B41AC3E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5F8-75B5-4D7A-8D7C-C74F0D63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137-B6DC-4FA8-8CAF-5D421560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7092-67CF-489D-B1A3-7A8C3FC1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660F-F207-48D6-8DF1-B0FE4F75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CBB-D010-48D4-9955-2610BAAA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C2F9-F99F-4157-BE5F-AF31BC1F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F954-9F90-4FB0-B7DA-0493167A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7C65-E494-4196-89BE-E5925B80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B18-9170-4D3C-9451-6B2DC2F4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F5FD-68CF-4AE9-9F3F-15D94E0FC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nn.com/SPECIALS/1999/china.50/asian.superpower/three.gorges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’s Human-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ree Gorges D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952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y does Journalist Dai Qing consider the 3 Gorges Dam the most environmentally and socially destructive project in the worl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happened to Qing after she spoke ou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effect will the dam have on the Yangtze River itsel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How does the dam impact farm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362320"/>
            <a:ext cx="160020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link on the head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h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your answers in complete sentences or copy the ques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648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rt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a Chinese villager living on the Yangtze Riv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village will be underwater and become a major shipping lane after the completion of the 3 Gorges Da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tence letter to the Chinese government explaining your opinion of the Three Gorges D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rt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end you are a Chinese businessman living in the city of Shanghai on the Yangtze Riv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tence letter to the Chinese government explaining your opinion of the Three Gorges D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1600200"/>
            <a:ext cx="236232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rite the letters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 create a power point presentation laying out your opi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1:50:11Z</dcterms:created>
  <dc:creator>CFISD</dc:creator>
  <dc:description/>
  <dc:language>en-US</dc:language>
  <cp:lastModifiedBy>CFISD</cp:lastModifiedBy>
  <dcterms:modified xsi:type="dcterms:W3CDTF">2009-04-09T13:01:44Z</dcterms:modified>
  <cp:revision>6</cp:revision>
  <dc:subject/>
  <dc:title>China’s Human-Environment Interaction</dc:title>
</cp:coreProperties>
</file>