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627-9AC4-4D2D-8854-9EB1649E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E55-65FA-4E17-9BF2-2177A4FB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D36-A3C1-49BD-A579-AB4AEA0C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70A-1ABA-4F85-880B-F9F8D9D2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153-6884-4818-A6D9-B03CC7E1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774-EE5B-4290-98F1-B4314DEC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C33-0D62-46CD-94B0-C9664D49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C1B-57CA-4353-AEE8-67D6B47E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887-883F-4D1E-A214-EB5EAA49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7B3-0AFD-4419-AE31-1ECB3216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85E-111E-4523-824B-6D38325E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D25-0EC9-409E-8978-F6F2A5C7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9010-1F92-418B-8850-D4D33A3BA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nn.com/SPECIALS/1999/china.50/asian.superpower/three.gorges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’s Human-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ree Gorges D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952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y does Journalist Dai Qing consider the 3 Gorges Dam the most environmentally and socially destructive project in the worl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happened to Qing after she spoke ou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effect will the dam have on the Yangtze River itsel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How does the dam impact farm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362320"/>
            <a:ext cx="160020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link on the head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your answers in complete sentences or copy the ques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648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a Chinese villager living on the Yangtze Ri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village will be underwater and become a major shipping lane after the completion of the 3 Gorges Da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tence letter to the Chinese government explaining your opinion of the Three Gorges D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end you are a Chinese businessman living in the city of Shanghai on the Yangtze Riv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tence letter to the Chinese government explaining your opinion of the Three Gorges D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1600200"/>
            <a:ext cx="236232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rite the letters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 create a power point presentation laying out your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50:11Z</dcterms:created>
  <dc:creator>CFISD</dc:creator>
  <dc:description/>
  <dc:language>en-US</dc:language>
  <cp:lastModifiedBy>CFISD</cp:lastModifiedBy>
  <dcterms:modified xsi:type="dcterms:W3CDTF">2009-04-09T13:01:44Z</dcterms:modified>
  <cp:revision>6</cp:revision>
  <dc:subject/>
  <dc:title>China’s Human-Environment Interaction</dc:title>
</cp:coreProperties>
</file>