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F57E-A220-4F47-AFC6-A7CCAF9E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476-90F5-4D0A-8515-08489267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03A-C170-4804-8A76-83D95BAF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91F-DCB3-4B30-868C-7F1F9027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390-50F9-496D-84BF-72295EBC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3F7-EC92-408B-83C2-3BDAF6C1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380-4163-43F6-816A-295D45D7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046-1D06-45A9-8DE2-BC739497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11B-8869-44BB-BB4F-8A2BA41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ECE-A646-44DD-BDC8-8A915A4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E66-A2D5-43A5-8CB7-BE97E843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7BC-BF45-4AD3-BAE2-FC7B2F8C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8013-8476-4CAB-8F9F-752A49A0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SPECIALS/1999/china.50/asian.superpower/three.gorg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’s 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Gorges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y does Journalist Dai Qing consider the 3 Gorges Dam the most environmentally and socially destructive project in the worl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happened to Qing after she spoke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effect will the dam have on the Yangtze River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w does the dam impact farm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362320"/>
            <a:ext cx="160020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on the head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answers in complete sentences or copy the ques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hinese villager living on the Yangtze Ri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village will be underwater and become a major shipping lane after the completion of the 3 Gorges Da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you are a Chinese businessman living in the city of Shanghai on the Yangtze Ri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600200"/>
            <a:ext cx="236232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rite the letter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 create a power point presentation laying out your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0:11Z</dcterms:created>
  <dc:creator>CFISD</dc:creator>
  <dc:description/>
  <dc:language>en-US</dc:language>
  <cp:lastModifiedBy>CFISD</cp:lastModifiedBy>
  <dcterms:modified xsi:type="dcterms:W3CDTF">2009-04-09T13:01:44Z</dcterms:modified>
  <cp:revision>6</cp:revision>
  <dc:subject/>
  <dc:title>China’s Human-Environment Interaction</dc:title>
</cp:coreProperties>
</file>