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6B2-98EE-46BF-B0BD-2DF3A1B9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937-3D48-43EE-9F7E-46850AAA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4FC-470F-448A-9EEE-9E2F03C6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171-5682-456E-A010-2ACBEEA0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606-B591-4CD6-B133-378D2339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8A7-39B6-4312-9845-0F2B6B66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AB4-BE9D-4795-9C91-3A3991A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CFF-DF2F-40A0-AA74-02F0345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96D-22F5-4536-A69E-E26FB34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FC9-D299-4649-9E41-0F2FBB5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0C4-773B-4400-B1FA-B99F4F61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D4D-619E-4C52-A148-A1E964E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9E79-D245-4D51-8C73-FB2E700B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newshour/bb/asia/july-dec05/china_10-04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hi/asia-pacific/6691691.stm" TargetMode="External"/><Relationship Id="rId2" Type="http://schemas.openxmlformats.org/officeDocument/2006/relationships/hyperlink" Target="http://www.nytimes.com/2007/01/18/world/asia/18cnd-china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vs. th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 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-chart and list examples in support or against the Key Question that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4800600"/>
            <a:ext cx="4647960" cy="1828800"/>
            <a:chOff x="1905120" y="4800600"/>
            <a:chExt cx="4647960" cy="1828800"/>
          </a:xfrm>
        </p:grpSpPr>
        <p:sp>
          <p:nvSpPr>
            <p:cNvPr id="45" name=""/>
            <p:cNvSpPr/>
            <p:nvPr/>
          </p:nvSpPr>
          <p:spPr>
            <a:xfrm>
              <a:off x="2666880" y="502920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9720" y="48006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5120" y="5638680"/>
              <a:ext cx="4647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conom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economic growth occurring in Ch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the Chinese economy compare to the US econom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se resources to answer the questions be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asia-pacific/6691691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at is the US worried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 would the US want China to disclose it’s military spen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2007/01/18/world/asia/18cnd-chi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are the consequences of China’s satellite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scribe the US reaction to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How is this similar to the Cold W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at would be your response to the Chinese government regarding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55:00Z</dcterms:created>
  <dc:creator>CFISD</dc:creator>
  <dc:description/>
  <dc:language>en-US</dc:language>
  <cp:lastModifiedBy>CFISD</cp:lastModifiedBy>
  <dcterms:modified xsi:type="dcterms:W3CDTF">2009-05-27T12:46:59Z</dcterms:modified>
  <cp:revision>2</cp:revision>
  <dc:subject/>
  <dc:title>China vs. the US</dc:title>
</cp:coreProperties>
</file>