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B06-AC2B-4416-A2D1-7CEE0241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3A7-A213-42DC-A80C-C4C83DC0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844-1A95-4769-BE19-28F6E8CC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6C9-DCBF-4F08-9230-C60BF839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311-1248-4A5A-8B07-243D520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86C-9FE0-4DB4-A8C2-4BBDEB76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4C6-F76A-436D-A28C-AC6E5F8C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8BA-AF22-4679-9890-94E7EDC8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663C-047A-4B06-94F3-EE8F67A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928-1B65-4FD3-B5E3-4BF725D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B18-7949-4303-9B6E-19CF0A1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B44-3347-4979-8CEC-80DC534B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6054-58B1-488F-82BB-F40D0668F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newshour/bb/asia/july-dec05/china_10-04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hi/asia-pacific/6691691.stm" TargetMode="External"/><Relationship Id="rId2" Type="http://schemas.openxmlformats.org/officeDocument/2006/relationships/hyperlink" Target="http://www.nytimes.com/2007/01/18/world/asia/18cnd-china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vs. th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 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-chart and list examples in support or against the Key Question that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4800600"/>
            <a:ext cx="4647960" cy="1828800"/>
            <a:chOff x="1905120" y="4800600"/>
            <a:chExt cx="4647960" cy="1828800"/>
          </a:xfrm>
        </p:grpSpPr>
        <p:sp>
          <p:nvSpPr>
            <p:cNvPr id="45" name=""/>
            <p:cNvSpPr/>
            <p:nvPr/>
          </p:nvSpPr>
          <p:spPr>
            <a:xfrm>
              <a:off x="2666880" y="502920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9720" y="48006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5120" y="5638680"/>
              <a:ext cx="4647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conom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economic growth occurring in Ch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the Chinese economy compare to the US econom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se resources to answer the questions be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asia-pacific/6691691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hat is the US worried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 would the US want China to disclose it’s military spend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2007/01/18/world/asia/18cnd-chi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are the consequences of China’s satellite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scribe the US reaction to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How is this similar to the Cold W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at would be your response to the Chinese government regarding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1:55:00Z</dcterms:created>
  <dc:creator>CFISD</dc:creator>
  <dc:description/>
  <dc:language>en-US</dc:language>
  <cp:lastModifiedBy>CFISD</cp:lastModifiedBy>
  <dcterms:modified xsi:type="dcterms:W3CDTF">2009-05-27T12:46:59Z</dcterms:modified>
  <cp:revision>2</cp:revision>
  <dc:subject/>
  <dc:title>China vs. the US</dc:title>
</cp:coreProperties>
</file>