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C134-1CEA-4AD9-82C5-8B1931916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6FDF-DCAD-4CF4-B3F5-5668236D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0FB0-8866-4347-AC37-FDF533C11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EEEC-8DFC-4AE4-AD91-8E062ECCA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E0F3-ABD5-492B-8CD4-B698483B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9E7E-52F3-48AF-8A9C-CCD2EF7A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1B39-9032-468F-8E28-5917592B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4DEA-162C-4DD9-A01E-294A1197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015E-A930-44D2-967F-8EEFCF17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2101-B76E-43FC-8CA4-73F14F43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583B-B5FA-4C83-8D39-BE324D1A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E3A4-8CE5-4AA5-971B-065F29D6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401A-B213-4A4D-A167-D4CBBAB95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c8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8120" y="2895480"/>
            <a:ext cx="2819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ubai Vacation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52480" y="3886200"/>
            <a:ext cx="5686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Cameron Smith &amp; Terry Luo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743200" cy="2316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7467480" y="4038480"/>
            <a:ext cx="1676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8001000" cy="2478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hotel of choice is the Grand Hyatt in Dub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have features such as multiple pools, flood lit tennis courts, &amp; is 16 stories high. The Grand Hyatt offers 24-hour concierge services and currency exchange. The hotel also has a nightclub, a shopping arcade, &amp; complimentary valet parking is avail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914400"/>
            <a:ext cx="861084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830, the small fishing settlement, Dubai, was taken over by the Bani Yas tribe, that was led by the Maktoum family, who still rules the emirate to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966, Dubai found its own source of oil, thus starting their attraction of business people &amp; economic grow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733920" y="228600"/>
            <a:ext cx="1333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Histo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581280" y="3059280"/>
            <a:ext cx="4692600" cy="31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4:08:56Z</dcterms:created>
  <dc:creator>cfisd</dc:creator>
  <dc:description/>
  <dc:language>en-US</dc:language>
  <cp:lastModifiedBy>cfisd</cp:lastModifiedBy>
  <dcterms:modified xsi:type="dcterms:W3CDTF">2009-02-19T14:10:08Z</dcterms:modified>
  <cp:revision>2</cp:revision>
  <dc:subject/>
  <dc:title>Slide 1</dc:title>
</cp:coreProperties>
</file>