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8739-EEFC-42FB-9787-872679AA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572A-0E93-45A6-ACC3-92F6A4E7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8805-276F-44CA-872D-FB3A2E422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48CA-A7B1-41D0-9758-B3C4CFC9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0A7A-B036-4B63-9EA3-43CBE002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B2DC-1F18-443D-9374-20EC9689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6A87-77E7-4658-9D2C-E93C7B09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A53F-3AAE-498F-BF11-CE292F97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06E6-6893-4E20-A825-497BF8DD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086E-01F4-4E08-9155-FBB69530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E5EA-C436-4839-B51B-8C8BA23F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4535-0BD0-4BD4-8E53-A2A21813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5051-77D3-4CF9-B95A-82C849DE6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c8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8120" y="2895480"/>
            <a:ext cx="2819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ubai Vacatio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752480" y="3886200"/>
            <a:ext cx="5686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Cameron Smith &amp; Terry Luo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743200" cy="2316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7467480" y="4038480"/>
            <a:ext cx="1676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8001000" cy="2478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hotel of choice is the Grand Hyatt in Du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have features such as multiple pools, flood lit tennis courts, &amp; is 16 stories high. The Grand Hyatt offers 24-hour concierge services and currency exchange. The hotel also has a nightclub, a shopping arcade, &amp; complimentary valet parking is avail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280" y="914400"/>
            <a:ext cx="86108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830, the small fishing settlement, Dubai, was taken over by the Bani Yas tribe, that was led by the Maktoum family, who still rules the emirate to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966, Dubai found its own source of oil, thus starting their attraction of business people &amp; economic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733920" y="228600"/>
            <a:ext cx="1333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Histo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581280" y="3059280"/>
            <a:ext cx="4692600" cy="31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4:08:56Z</dcterms:created>
  <dc:creator>cfisd</dc:creator>
  <dc:description/>
  <dc:language>en-US</dc:language>
  <cp:lastModifiedBy>cfisd</cp:lastModifiedBy>
  <dcterms:modified xsi:type="dcterms:W3CDTF">2009-02-19T14:10:08Z</dcterms:modified>
  <cp:revision>2</cp:revision>
  <dc:subject/>
  <dc:title>Slide 1</dc:title>
</cp:coreProperties>
</file>