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jpeg" ContentType="image/jpeg"/>
  <Override PartName="/ppt/media/image5.png" ContentType="image/png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7E28-5A44-46EA-8F8A-24650D15A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EF80-AE26-4C43-8A04-A14731858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7CDE-E287-4956-97B3-EF4025079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19B0-D57E-4ABA-A3A9-38F0ADB44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96A9-64E4-4F9F-B7F3-CAC816FDD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F909-12EB-4552-86DC-D7F3AD948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4560-FE7B-4230-BB12-5BFE74FB4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5E06-9B6C-4F99-B334-741B6A4C0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8236-EF42-4666-81AD-E5CD2C8AF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F3F7-86B4-4557-92CF-BA08F16ED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EB3E-13DC-4106-B51F-3C2369C3A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26B6-9085-4324-B036-44137CAC0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F0437-F232-4536-A85E-276BA9E9E5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c8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048120" y="2895480"/>
            <a:ext cx="28191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Dubai Vacation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752480" y="3886200"/>
            <a:ext cx="56865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Cameron Smith &amp; Terry Luon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743200" cy="23162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7467480" y="4038480"/>
            <a:ext cx="16765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17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0"/>
            <a:ext cx="8001000" cy="24789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 hotel of choice is the Grand Hyatt in Duba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y have features such as multiple pools, flood lit tennis courts, &amp; is 16 stories high. The Grand Hyatt offers 24-hour concierge services and currency exchange. The hotel also has a nightclub, a shopping arcade, &amp; complimentary valet parking is availab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52280" y="914400"/>
            <a:ext cx="861084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1830, the small fishing settlement, Dubai, was taken over by the Bani Yas tribe, that was led by the Maktoum family, who still rules the emirate toda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1966, Dubai found its own source of oil, thus starting their attraction of business people &amp; economic grow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733920" y="228600"/>
            <a:ext cx="1333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Histor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3581280" y="3059280"/>
            <a:ext cx="4692600" cy="319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6T14:08:56Z</dcterms:created>
  <dc:creator>cfisd</dc:creator>
  <dc:description/>
  <dc:language>en-US</dc:language>
  <cp:lastModifiedBy>cfisd</cp:lastModifiedBy>
  <dcterms:modified xsi:type="dcterms:W3CDTF">2009-02-19T14:10:08Z</dcterms:modified>
  <cp:revision>2</cp:revision>
  <dc:subject/>
  <dc:title>Slide 1</dc:title>
</cp:coreProperties>
</file>