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01A-4750-41AA-96FA-17CEA9BD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D41-1CEC-4760-91F6-48C4C60D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27A-950C-4648-9330-17DFAF30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EB7-AFEF-4CFF-BDA1-5937C754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19F-53E1-44C0-B619-FE72EE6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AF3-3574-4835-ADF2-544D238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59-62DA-4D0F-8E94-E638162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C97-0115-44A0-8089-FCA2319F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D2-3DE5-4083-80B9-D62E6CAC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4F3-AE19-45FE-8B11-B3944573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76A-B4B7-40E2-A13D-9295367C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EA1-55AC-45D8-82A0-85376630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ED4-0138-4982-9AA3-E0EBFC86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8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cfisd</cp:lastModifiedBy>
  <dcterms:modified xsi:type="dcterms:W3CDTF">2009-02-19T14:10:08Z</dcterms:modified>
  <cp:revision>2</cp:revision>
  <dc:subject/>
  <dc:title>Slide 1</dc:title>
</cp:coreProperties>
</file>