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2AF-B06C-48C5-BA2A-961568BD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E20-3D8A-41AD-A88F-5439694B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404-46D9-4D56-A2A7-11D4AD24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F8D-31F6-4B5D-9A00-73FFB81A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831-3686-45F0-91CD-29CF7B6A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E88-DD8D-4F22-A691-01164DE9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C64-B612-4A0F-91F5-4401BE49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171-D4CC-4BDA-A0A2-A506C8D5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12C-5CF5-4250-81BF-69374D94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B7A-B511-441C-8941-7FA203FB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814-2E92-41E4-A236-A0573490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25E-F374-47BA-ACF4-80B53F1D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6D14-01E1-4B0F-AEEC-7445A73D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c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8120" y="2895480"/>
            <a:ext cx="28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ubai Vaca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752480" y="3886200"/>
            <a:ext cx="568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Cameron Smith &amp; Terry Luo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Picture 6" descr="j0309924"/>
          <p:cNvPicPr/>
          <p:nvPr/>
        </p:nvPicPr>
        <p:blipFill>
          <a:blip r:embed="rId3"/>
          <a:stretch/>
        </p:blipFill>
        <p:spPr>
          <a:xfrm>
            <a:off x="0" y="0"/>
            <a:ext cx="2743200" cy="231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j0309910"/>
          <p:cNvPicPr/>
          <p:nvPr/>
        </p:nvPicPr>
        <p:blipFill>
          <a:blip r:embed="rId4"/>
          <a:stretch/>
        </p:blipFill>
        <p:spPr>
          <a:xfrm>
            <a:off x="7467480" y="4038480"/>
            <a:ext cx="167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EVT_3794-exter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0" y="0"/>
            <a:ext cx="8001000" cy="247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hotel of choice is the Grand Hyatt in Du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have features such as multiple pools, flood lit tennis courts, &amp; is 16 stories high. The Grand Hyatt offers 24-hour concierge services and currency exchange. The hotel also has a nightclub, a shopping arcade, &amp; complimentary valet parking is avail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152280" y="914400"/>
            <a:ext cx="8610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0, the small fishing settlement, Dubai, was taken over by the Bani Yas tribe, that was led by the Maktoum family, who still rules the emirat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66, Dubai found its own source of oil, thus starting their attraction of business people &amp; economic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3733920" y="228600"/>
            <a:ext cx="133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Picture 7" descr="j0195490"/>
          <p:cNvPicPr/>
          <p:nvPr/>
        </p:nvPicPr>
        <p:blipFill>
          <a:blip r:embed="rId2"/>
          <a:stretch/>
        </p:blipFill>
        <p:spPr>
          <a:xfrm>
            <a:off x="3581280" y="3059280"/>
            <a:ext cx="4692600" cy="31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atio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04920" y="1143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such a long flight, one must be hungry, so we’ll be eating at the Med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767740-NICE_ITALIAN_IN_AN_INTIMATE_SETTING-Dubai.jpg"/>
          <p:cNvPicPr/>
          <p:nvPr/>
        </p:nvPicPr>
        <p:blipFill>
          <a:blip r:embed="rId2"/>
          <a:stretch/>
        </p:blipFill>
        <p:spPr>
          <a:xfrm>
            <a:off x="4495680" y="2286000"/>
            <a:ext cx="4219560" cy="3014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343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of tertiary activities because we are paying for services and food. This represents modernization because people can go out and social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1219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better to get to know the Dubai culture than to see a movie at the CineStar Cine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ovie_theatre.jpg"/>
          <p:cNvPicPr/>
          <p:nvPr/>
        </p:nvPicPr>
        <p:blipFill>
          <a:blip r:embed="rId1"/>
          <a:stretch/>
        </p:blipFill>
        <p:spPr>
          <a:xfrm>
            <a:off x="4343400" y="3124080"/>
            <a:ext cx="4648320" cy="3314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609480" y="4038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odernization because of the technology required to be able to show a movie and is also is a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76320" y="1219320"/>
            <a:ext cx="90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’s many different little markets around and it’ll be fun to see how different it is from 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9_08_8---Fruit-and-Veg-Market-Stall_web.jpg"/>
          <p:cNvPicPr/>
          <p:nvPr/>
        </p:nvPicPr>
        <p:blipFill>
          <a:blip r:embed="rId1"/>
          <a:stretch/>
        </p:blipFill>
        <p:spPr>
          <a:xfrm>
            <a:off x="3048120" y="281952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228600" y="373392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tertiary activity because we are buying produce from the locals and is modernization because they have credit card machines al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b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1143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ll know what clubbing is like in America, but how much different is it here? We’ll be hitting up a popular location called the Atlant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lub9_470x350.jpg"/>
          <p:cNvPicPr/>
          <p:nvPr/>
        </p:nvPicPr>
        <p:blipFill>
          <a:blip r:embed="rId1"/>
          <a:stretch/>
        </p:blipFill>
        <p:spPr>
          <a:xfrm>
            <a:off x="4343400" y="3276720"/>
            <a:ext cx="4476600" cy="3333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57200" y="41148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odernization because of the lights, music and other modern technology required to run a popular clu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erial To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04920" y="1219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est way to end a night and get a nice view of the city is by helicop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Helicopter InAir .jpg"/>
          <p:cNvPicPr/>
          <p:nvPr/>
        </p:nvPicPr>
        <p:blipFill>
          <a:blip r:embed="rId1"/>
          <a:stretch/>
        </p:blipFill>
        <p:spPr>
          <a:xfrm>
            <a:off x="3962520" y="3267000"/>
            <a:ext cx="4978440" cy="3006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0" y="3733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of modernization because the helicopter is a modern inno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8:56Z</dcterms:created>
  <dc:creator>cfisd</dc:creator>
  <dc:description/>
  <dc:language>en-US</dc:language>
  <cp:lastModifiedBy>Halbert Ho</cp:lastModifiedBy>
  <dcterms:modified xsi:type="dcterms:W3CDTF">2009-02-23T03:57:33Z</dcterms:modified>
  <cp:revision>7</cp:revision>
  <dc:subject/>
  <dc:title>Slide 1</dc:title>
</cp:coreProperties>
</file>