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89FC-076F-4632-B8ED-E82A3CF9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05CC-7D8F-4B2E-880C-3CC9ED343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D7EB-99BC-4A25-BD4D-37D1F038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ED43-6126-494E-A126-02D317FA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F63-E343-4B5D-B115-08503315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A946-AF87-4F71-9CAF-9009EB9A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58D-4F6C-4FE6-9FD0-107A1D86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E68-A112-43E9-9CEC-69E2502E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F01-3B4B-41B2-BBD9-26CC3E8B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C173-E30F-40B1-A35E-D8922E95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DC60-E49C-431B-A256-B6C2835C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BFA-3E21-4882-AA0F-69302BE1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1B70-3FD6-4452-9E12-2726A645C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c9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048120" y="2895480"/>
            <a:ext cx="2819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Dubai Vacatio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1752480" y="3886200"/>
            <a:ext cx="5686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Cameron Smith &amp; Terry Luo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3" name="Picture 6" descr="j0309924"/>
          <p:cNvPicPr/>
          <p:nvPr/>
        </p:nvPicPr>
        <p:blipFill>
          <a:blip r:embed="rId3"/>
          <a:stretch/>
        </p:blipFill>
        <p:spPr>
          <a:xfrm>
            <a:off x="0" y="0"/>
            <a:ext cx="2743200" cy="2316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j0309910"/>
          <p:cNvPicPr/>
          <p:nvPr/>
        </p:nvPicPr>
        <p:blipFill>
          <a:blip r:embed="rId4"/>
          <a:stretch/>
        </p:blipFill>
        <p:spPr>
          <a:xfrm>
            <a:off x="7467480" y="4038480"/>
            <a:ext cx="167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EVT_3794-exter-1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0" y="0"/>
            <a:ext cx="8001000" cy="2478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hotel of choice is the Grand Hyatt in Du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have features such as multiple pools, flood lit tennis courts, &amp; is 16 stories high. The Grand Hyatt offers 24-hour concierge services and currency exchange. The hotel also has a nightclub, a shopping arcade, &amp; complimentary valet parking is avail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152280" y="914400"/>
            <a:ext cx="8610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830, the small fishing settlement, Dubai, was taken over by the Bani Yas tribe, that was led by the Maktoum family, who still rules the emirate toda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1966, Dubai found its own source of oil, thus starting their attraction of business people &amp; economic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3733920" y="228600"/>
            <a:ext cx="133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Histo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9" name="Picture 7" descr="j0195490"/>
          <p:cNvPicPr/>
          <p:nvPr/>
        </p:nvPicPr>
        <p:blipFill>
          <a:blip r:embed="rId2"/>
          <a:stretch/>
        </p:blipFill>
        <p:spPr>
          <a:xfrm>
            <a:off x="3581280" y="3059280"/>
            <a:ext cx="4692600" cy="31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cation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304920" y="11430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fter such a long flight, one must be hungry, so we’ll be eating at the Medz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2767740-NICE_ITALIAN_IN_AN_INTIMATE_SETTING-Dubai.jpg"/>
          <p:cNvPicPr/>
          <p:nvPr/>
        </p:nvPicPr>
        <p:blipFill>
          <a:blip r:embed="rId2"/>
          <a:stretch/>
        </p:blipFill>
        <p:spPr>
          <a:xfrm>
            <a:off x="4495680" y="2286000"/>
            <a:ext cx="4219560" cy="301464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3434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of tertiary activities because we are paying for services and food. This represents modernization because people can go out and social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0" y="1219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better to get to know the Dubai culture than to see a movie at the CineStar Cine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movie_theatre.jpg"/>
          <p:cNvPicPr/>
          <p:nvPr/>
        </p:nvPicPr>
        <p:blipFill>
          <a:blip r:embed="rId1"/>
          <a:stretch/>
        </p:blipFill>
        <p:spPr>
          <a:xfrm>
            <a:off x="4343400" y="3124080"/>
            <a:ext cx="4648320" cy="3314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609480" y="40384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odernization because of the technology required to be able to show a movie and is also is a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pp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76320" y="1219320"/>
            <a:ext cx="906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’s many different little markets around and it’ll be fun to see how different it is from Americ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09_08_8---Fruit-and-Veg-Market-Stall_web.jpg"/>
          <p:cNvPicPr/>
          <p:nvPr/>
        </p:nvPicPr>
        <p:blipFill>
          <a:blip r:embed="rId1"/>
          <a:stretch/>
        </p:blipFill>
        <p:spPr>
          <a:xfrm>
            <a:off x="3048120" y="2819520"/>
            <a:ext cx="5638680" cy="375912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228600" y="373392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tertiary activity because we are buying produce from the locals and is modernization because they have credit card machines al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ubb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0" y="11430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ll know what clubbing is like in America, but how much different is it here? We’ll be hitting up a popular location called the Atlant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lub9_470x350.jpg"/>
          <p:cNvPicPr/>
          <p:nvPr/>
        </p:nvPicPr>
        <p:blipFill>
          <a:blip r:embed="rId1"/>
          <a:stretch/>
        </p:blipFill>
        <p:spPr>
          <a:xfrm>
            <a:off x="4343400" y="3276720"/>
            <a:ext cx="4476600" cy="333360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57200" y="41148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modernization because of the lights, music and other modern technology required to run a popular clu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erial T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304920" y="12193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best way to end a night and get a nice view of the city is by helicop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Helicopter InAir .jpg"/>
          <p:cNvPicPr/>
          <p:nvPr/>
        </p:nvPicPr>
        <p:blipFill>
          <a:blip r:embed="rId1"/>
          <a:stretch/>
        </p:blipFill>
        <p:spPr>
          <a:xfrm>
            <a:off x="3962520" y="3267000"/>
            <a:ext cx="4978440" cy="3006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0" y="373392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n example of modernization because the helicopter is a modern inno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4:08:56Z</dcterms:created>
  <dc:creator>cfisd</dc:creator>
  <dc:description/>
  <dc:language>en-US</dc:language>
  <cp:lastModifiedBy>Halbert Ho</cp:lastModifiedBy>
  <dcterms:modified xsi:type="dcterms:W3CDTF">2009-02-23T03:57:33Z</dcterms:modified>
  <cp:revision>7</cp:revision>
  <dc:subject/>
  <dc:title>Slide 1</dc:title>
</cp:coreProperties>
</file>