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D6C-842D-418A-9CDF-A22BCAA3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1F1-7587-4B85-AF9F-48553B6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4A5-5758-4000-8964-1D58CF4B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034-AB42-4A0F-915A-F656EF4A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146-522E-4456-AA22-566E7089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D8D-BDE9-4D92-A989-429D3A1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B35-AC93-47E3-95F4-0E8F05E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DCF-A71C-40D6-9320-D456755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2E2-37D9-4316-9489-2995FDD0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622-CA55-42C0-8E33-8E05AA96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1F8-6407-4015-BED3-4EA6069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D35-5BF9-4A0F-93C1-3F0D1D9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D5CF-4CF1-4748-BA70-67342870F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Picture 6" descr="j0309924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309910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VT_3794-exte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Picture 7" descr="j0195490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04920" y="1143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such a long flight, one must be hungry, so we’ll be eating at the Med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767740-NICE_ITALIAN_IN_AN_INTIMATE_SETTING-Dubai.jpg"/>
          <p:cNvPicPr/>
          <p:nvPr/>
        </p:nvPicPr>
        <p:blipFill>
          <a:blip r:embed="rId2"/>
          <a:stretch/>
        </p:blipFill>
        <p:spPr>
          <a:xfrm>
            <a:off x="4495680" y="2286000"/>
            <a:ext cx="4219560" cy="301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343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tertiary activities because we are paying for services and food. This represents modernization because people can go out and social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better to get to know the Dubai culture than to see a movie at the CineStar Cin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ovie_theatre.jpg"/>
          <p:cNvPicPr/>
          <p:nvPr/>
        </p:nvPicPr>
        <p:blipFill>
          <a:blip r:embed="rId1"/>
          <a:stretch/>
        </p:blipFill>
        <p:spPr>
          <a:xfrm>
            <a:off x="4343400" y="3124080"/>
            <a:ext cx="4648320" cy="33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609480" y="4038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technology required to be able to show a movie and is also is a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6320" y="121932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’s many different little markets around and it’ll be fun to see how different it is from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9_08_8---Fruit-and-Veg-Market-Stall_web.jpg"/>
          <p:cNvPicPr/>
          <p:nvPr/>
        </p:nvPicPr>
        <p:blipFill>
          <a:blip r:embed="rId1"/>
          <a:stretch/>
        </p:blipFill>
        <p:spPr>
          <a:xfrm>
            <a:off x="3048120" y="281952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8600" y="37339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tertiary activity because we are buying produce from the locals and is modernization because they have credit card machines a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1143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ll know what clubbing is like in America, but how much different is it here? We’ll be hitting up a popular location called the Atlan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lub9_470x350.jpg"/>
          <p:cNvPicPr/>
          <p:nvPr/>
        </p:nvPicPr>
        <p:blipFill>
          <a:blip r:embed="rId1"/>
          <a:stretch/>
        </p:blipFill>
        <p:spPr>
          <a:xfrm>
            <a:off x="4343400" y="3276720"/>
            <a:ext cx="4476600" cy="3333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57200" y="4114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lights, music and other modern technology required to run a popular cl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erial T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04920" y="1219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est way to end a night and get a nice view of the city is by helicop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elicopter InAir .jpg"/>
          <p:cNvPicPr/>
          <p:nvPr/>
        </p:nvPicPr>
        <p:blipFill>
          <a:blip r:embed="rId1"/>
          <a:stretch/>
        </p:blipFill>
        <p:spPr>
          <a:xfrm>
            <a:off x="3962520" y="3267000"/>
            <a:ext cx="4978440" cy="3006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0" y="3733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modernization because the helicopter is a modern inno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Halbert Ho</cp:lastModifiedBy>
  <dcterms:modified xsi:type="dcterms:W3CDTF">2009-02-23T03:57:33Z</dcterms:modified>
  <cp:revision>7</cp:revision>
  <dc:subject/>
  <dc:title>Slide 1</dc:title>
</cp:coreProperties>
</file>