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C58-FEF3-4EBA-9F04-BD5B3754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DBD9-0AAA-472B-9828-0265AAEF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591F-88A3-4602-9E52-5C6BB1EC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723-9F03-49D8-A5DC-30AC8E470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6E82-98E8-4584-9AA9-FD507A0A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FA5-B92B-4519-9FD5-3CB6CE3F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484-C4D5-42FA-B800-57E69FEF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F383-FFB8-404F-BB29-157ADA6A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D16-4399-433D-B17A-99D56DA6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7F34-5F7D-4A4C-B2E6-5C359CC2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44E-2AF8-4624-BBA4-84B9D1C2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C4AF-0E3A-40F0-A2F8-52A1FEB0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3AFD-4D7E-4444-942E-A0DDFBB27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Picture 6" descr="j0309924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309910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EVT_3794-exte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Picture 7" descr="j0195490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04920" y="1143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such a long flight, one must be hungry, so we’ll be eating at the Med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767740-NICE_ITALIAN_IN_AN_INTIMATE_SETTING-Dubai.jpg"/>
          <p:cNvPicPr/>
          <p:nvPr/>
        </p:nvPicPr>
        <p:blipFill>
          <a:blip r:embed="rId2"/>
          <a:stretch/>
        </p:blipFill>
        <p:spPr>
          <a:xfrm>
            <a:off x="4495680" y="2286000"/>
            <a:ext cx="4219560" cy="3014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343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tertiary activities because we are paying for services and food. This represents modernization because people can go out and social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1219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better to get to know the Dubai culture than to see a movie at the CineStar Cine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ovie_theatre.jpg"/>
          <p:cNvPicPr/>
          <p:nvPr/>
        </p:nvPicPr>
        <p:blipFill>
          <a:blip r:embed="rId1"/>
          <a:stretch/>
        </p:blipFill>
        <p:spPr>
          <a:xfrm>
            <a:off x="4343400" y="3124080"/>
            <a:ext cx="4648320" cy="331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609480" y="4038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technology required to be able to show a movie and is also is a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6320" y="121932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’s many different little markets around and it’ll be fun to see how different it is from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9_08_8---Fruit-and-Veg-Market-Stall_web.jpg"/>
          <p:cNvPicPr/>
          <p:nvPr/>
        </p:nvPicPr>
        <p:blipFill>
          <a:blip r:embed="rId1"/>
          <a:stretch/>
        </p:blipFill>
        <p:spPr>
          <a:xfrm>
            <a:off x="3048120" y="281952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28600" y="37339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tertiary activity because we are buying produce from the locals and is modernization because they have credit card machines a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1143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ll know what clubbing is like in America, but how much different is it here? We’ll be hitting up a popular location called the Atlan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lub9_470x350.jpg"/>
          <p:cNvPicPr/>
          <p:nvPr/>
        </p:nvPicPr>
        <p:blipFill>
          <a:blip r:embed="rId1"/>
          <a:stretch/>
        </p:blipFill>
        <p:spPr>
          <a:xfrm>
            <a:off x="4343400" y="3276720"/>
            <a:ext cx="4476600" cy="3333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57200" y="41148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lights, music and other modern technology required to run a popular cl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erial T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04920" y="1219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est way to end a night and get a nice view of the city is by helicop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elicopter InAir .jpg"/>
          <p:cNvPicPr/>
          <p:nvPr/>
        </p:nvPicPr>
        <p:blipFill>
          <a:blip r:embed="rId1"/>
          <a:stretch/>
        </p:blipFill>
        <p:spPr>
          <a:xfrm>
            <a:off x="3962520" y="3267000"/>
            <a:ext cx="4978440" cy="3006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0" y="3733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modernization because the helicopter is a modern inno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Halbert Ho</cp:lastModifiedBy>
  <dcterms:modified xsi:type="dcterms:W3CDTF">2009-02-23T03:57:33Z</dcterms:modified>
  <cp:revision>7</cp:revision>
  <dc:subject/>
  <dc:title>Slide 1</dc:title>
</cp:coreProperties>
</file>