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213-803C-4B88-8459-1660F9F4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9FC-D70C-489E-A5D2-CA87DB86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5EF-336E-4B0C-A515-C08EF6F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FAA-D5E8-4DF2-A8C1-1ABEFD46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59C-6E9F-4586-9F25-DCB10AA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60B-4A06-4220-AC66-46FEF3A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79C-E20C-4500-B54F-5721FE18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47D-72D7-453A-9476-F8F7CC63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B1D-19ED-4FE9-83E7-4480B47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9B8-CEDB-4F92-B1F0-3025D63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4A4-3E82-4A02-9778-9A0CB54A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B78-6971-4677-9C02-E33E1838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FD69-1C36-45A5-A21F-D945F3D1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l Of Duty 4 : Modern Warf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emy P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0896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of the accident at Chernobyl from the g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4816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otel"/>
          <p:cNvPicPr/>
          <p:nvPr/>
        </p:nvPicPr>
        <p:blipFill>
          <a:blip r:embed="rId2"/>
          <a:stretch/>
        </p:blipFill>
        <p:spPr>
          <a:xfrm>
            <a:off x="4114800" y="342900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95880" cy="381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[Untitled]"/>
          <p:cNvPicPr/>
          <p:nvPr/>
        </p:nvPicPr>
        <p:blipFill>
          <a:blip r:embed="rId2"/>
          <a:stretch/>
        </p:blipFill>
        <p:spPr>
          <a:xfrm>
            <a:off x="4038480" y="350532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airground picture"/>
          <p:cNvPicPr/>
          <p:nvPr/>
        </p:nvPicPr>
        <p:blipFill>
          <a:blip r:embed="rId1"/>
          <a:stretch/>
        </p:blipFill>
        <p:spPr>
          <a:xfrm>
            <a:off x="4191120" y="28954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5262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ars"/>
          <p:cNvPicPr/>
          <p:nvPr/>
        </p:nvPicPr>
        <p:blipFill>
          <a:blip r:embed="rId1"/>
          <a:stretch/>
        </p:blipFill>
        <p:spPr>
          <a:xfrm>
            <a:off x="3809880" y="2666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5791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1:00:19Z</dcterms:created>
  <dc:creator>John</dc:creator>
  <dc:description/>
  <dc:language>en-US</dc:language>
  <cp:lastModifiedBy>John</cp:lastModifiedBy>
  <dcterms:modified xsi:type="dcterms:W3CDTF">2008-12-16T01:15:41Z</dcterms:modified>
  <cp:revision>2</cp:revision>
  <dc:subject/>
  <dc:title>Call Of Duty 4 : Modern Warfare vs. Real Life</dc:title>
</cp:coreProperties>
</file>