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A804-6BDE-4ABB-9747-0BBDA899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92AA-1910-458B-98FA-BF74CBF9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8347-58C2-40FC-B3C1-37C8573F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A7C-9CEE-436B-979A-76E8AD55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B085-03D2-428C-9A29-A9EE9F70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AE4-AD9A-4417-AA10-75A1AC350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61FA-8E55-4DC4-9074-1C2E5617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FDDC-449F-485C-A05D-A45681C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094-47AC-4352-94FF-49C3748F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24D-116E-4186-B772-D19192004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3E82-6144-43A2-91A7-8E422833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704-A158-4006-8787-F81F3CF7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332-C63E-468C-A519-404539B0A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all Of Duty 4 : Modern Warfa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al Lif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remy Ph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50896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990720" y="5638680"/>
            <a:ext cx="73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ture of the accident at Chernobyl from the g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6248160" cy="390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Hotel"/>
          <p:cNvPicPr/>
          <p:nvPr/>
        </p:nvPicPr>
        <p:blipFill>
          <a:blip r:embed="rId2"/>
          <a:stretch/>
        </p:blipFill>
        <p:spPr>
          <a:xfrm>
            <a:off x="4114800" y="3429000"/>
            <a:ext cx="47624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095880" cy="3818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[Untitled]"/>
          <p:cNvPicPr/>
          <p:nvPr/>
        </p:nvPicPr>
        <p:blipFill>
          <a:blip r:embed="rId2"/>
          <a:stretch/>
        </p:blipFill>
        <p:spPr>
          <a:xfrm>
            <a:off x="4038480" y="3505320"/>
            <a:ext cx="47628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Fairground picture"/>
          <p:cNvPicPr/>
          <p:nvPr/>
        </p:nvPicPr>
        <p:blipFill>
          <a:blip r:embed="rId1"/>
          <a:stretch/>
        </p:blipFill>
        <p:spPr>
          <a:xfrm>
            <a:off x="4191120" y="289548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5262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ars"/>
          <p:cNvPicPr/>
          <p:nvPr/>
        </p:nvPicPr>
        <p:blipFill>
          <a:blip r:embed="rId1"/>
          <a:stretch/>
        </p:blipFill>
        <p:spPr>
          <a:xfrm>
            <a:off x="3809880" y="2666880"/>
            <a:ext cx="476280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57913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1:00:19Z</dcterms:created>
  <dc:creator>John</dc:creator>
  <dc:description/>
  <dc:language>en-US</dc:language>
  <cp:lastModifiedBy>John</cp:lastModifiedBy>
  <dcterms:modified xsi:type="dcterms:W3CDTF">2008-12-16T01:15:41Z</dcterms:modified>
  <cp:revision>2</cp:revision>
  <dc:subject/>
  <dc:title>Call Of Duty 4 : Modern Warfare vs. Real Life</dc:title>
</cp:coreProperties>
</file>