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ECC-CC51-45C6-BDCC-0890994E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C1F-7ADB-4ED4-A933-D83B6B6D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5AE-5998-418D-9879-EC0039B4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2C9-4577-456B-966D-F32B63A8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826-C591-4BFD-8E79-05F72550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513-F1AC-4186-A46F-6258F392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DA7-292A-46AC-9139-0316367F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BA7-A9DD-485C-8C8D-8D6C64DE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CC0-2D34-4522-AAA1-2FCA27DA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874-17E0-4CAE-AF05-FFBEEDB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6E8-73D5-48C4-B02D-8D35F8F6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848-B2D8-4C97-8515-41AEA9B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F44A-3A98-4CB9-8A58-302F96367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l Of Duty 4 : Modern Warf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emy P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0896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907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of the accident at Chernobyl from the g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248160" cy="390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otel"/>
          <p:cNvPicPr/>
          <p:nvPr/>
        </p:nvPicPr>
        <p:blipFill>
          <a:blip r:embed="rId2"/>
          <a:stretch/>
        </p:blipFill>
        <p:spPr>
          <a:xfrm>
            <a:off x="4114800" y="342900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095880" cy="381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[Untitled]"/>
          <p:cNvPicPr/>
          <p:nvPr/>
        </p:nvPicPr>
        <p:blipFill>
          <a:blip r:embed="rId2"/>
          <a:stretch/>
        </p:blipFill>
        <p:spPr>
          <a:xfrm>
            <a:off x="4038480" y="350532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airground picture"/>
          <p:cNvPicPr/>
          <p:nvPr/>
        </p:nvPicPr>
        <p:blipFill>
          <a:blip r:embed="rId1"/>
          <a:stretch/>
        </p:blipFill>
        <p:spPr>
          <a:xfrm>
            <a:off x="4191120" y="28954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5262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ars"/>
          <p:cNvPicPr/>
          <p:nvPr/>
        </p:nvPicPr>
        <p:blipFill>
          <a:blip r:embed="rId1"/>
          <a:stretch/>
        </p:blipFill>
        <p:spPr>
          <a:xfrm>
            <a:off x="3809880" y="266688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57913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1:00:19Z</dcterms:created>
  <dc:creator>John</dc:creator>
  <dc:description/>
  <dc:language>en-US</dc:language>
  <cp:lastModifiedBy>John</cp:lastModifiedBy>
  <dcterms:modified xsi:type="dcterms:W3CDTF">2008-12-16T01:15:41Z</dcterms:modified>
  <cp:revision>2</cp:revision>
  <dc:subject/>
  <dc:title>Call Of Duty 4 : Modern Warfare vs. Real Life</dc:title>
</cp:coreProperties>
</file>