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8F7-E860-4B78-9207-E187C073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627-9304-45D7-910E-EAA29AB8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26C-6932-4DB1-8CC0-0FD5DB8C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956-33C3-4F50-87AB-2B6C79F5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831-EDD7-47BC-A20E-BCE0CA35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043-20C3-481D-A57B-55E03B9A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88B2-2F6A-4130-9F1A-C4C86C3A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61F7-CE56-47B7-96C8-C35999CD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461-2023-4438-9005-40A703B7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2FDA-F678-47A3-8CEA-66F3FD67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B609-DE8A-4784-ACB5-32552BE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A38-1E56-40EF-B1AB-0F5C8FCA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7927-0F97-49D2-96C5-82D6ABD31F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l Of Duty 4 : Modern Warf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emy P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0896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of the accident at Chernobyl from the g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4816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otel"/>
          <p:cNvPicPr/>
          <p:nvPr/>
        </p:nvPicPr>
        <p:blipFill>
          <a:blip r:embed="rId2"/>
          <a:stretch/>
        </p:blipFill>
        <p:spPr>
          <a:xfrm>
            <a:off x="4114800" y="342900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95880" cy="381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[Untitled]"/>
          <p:cNvPicPr/>
          <p:nvPr/>
        </p:nvPicPr>
        <p:blipFill>
          <a:blip r:embed="rId2"/>
          <a:stretch/>
        </p:blipFill>
        <p:spPr>
          <a:xfrm>
            <a:off x="4038480" y="350532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airground picture"/>
          <p:cNvPicPr/>
          <p:nvPr/>
        </p:nvPicPr>
        <p:blipFill>
          <a:blip r:embed="rId1"/>
          <a:stretch/>
        </p:blipFill>
        <p:spPr>
          <a:xfrm>
            <a:off x="4191120" y="28954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5262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ars"/>
          <p:cNvPicPr/>
          <p:nvPr/>
        </p:nvPicPr>
        <p:blipFill>
          <a:blip r:embed="rId1"/>
          <a:stretch/>
        </p:blipFill>
        <p:spPr>
          <a:xfrm>
            <a:off x="3809880" y="2666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5791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1:00:19Z</dcterms:created>
  <dc:creator>John</dc:creator>
  <dc:description/>
  <dc:language>en-US</dc:language>
  <cp:lastModifiedBy>John</cp:lastModifiedBy>
  <dcterms:modified xsi:type="dcterms:W3CDTF">2008-12-16T01:15:41Z</dcterms:modified>
  <cp:revision>2</cp:revision>
  <dc:subject/>
  <dc:title>Call Of Duty 4 : Modern Warfare vs. Real Life</dc:title>
</cp:coreProperties>
</file>