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2504-993F-4C1C-9310-13A15389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F968-E4FA-4DA0-B053-9F643B56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B9F7-8924-47E3-AA90-6850E229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31B8-07C9-42AE-9988-842308AAC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95F7E-5520-4B9B-85A0-4ABBFD8F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D220E-C4C3-43CC-B0C7-7B78ACC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93E74-FDA3-4000-AE33-8CD2402E4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858BF6-CB03-4DC8-8928-3EBC6236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6055E-AB69-49B3-BFC3-07DF7301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D0965-7ACA-4D62-9EB7-C647E73F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8B36E-14C3-420D-B528-6FA9A97A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4D36-7C2F-4A24-820B-A82CC977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BB3924-4855-4496-9C53-C14A8FDF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31C42-2381-476A-AE2A-4F3614F9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59D4A-EBE7-4C49-A2CB-138109288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62BF4-641B-43BE-8B39-F71E22A7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5B8A-376B-4BAC-BDFD-F31BD81D9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A634-4A1E-459E-B8FB-528F7FC4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AAC-7125-4FE5-9DBA-815601A5B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F26E-3403-4D74-A1B6-8FDE86C9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06B-AF97-43E0-81B1-317AC4D1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600-1C93-4917-BC7C-24AE96F6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C850-F97F-4CF5-AD38-542F649F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4046-E5E5-4D47-B391-465065CC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C41E-909B-4258-AE8C-2E05FC70AA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772-2A9B-43AA-BA79-A9EDE289D8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frica_satellite_orthographic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hyperlink" Target="http://upload.wikimedia.org/wikipedia/commons/b/b7/Old_San_Juan_aerial_view.jpg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C:/Documents%20and%20Settings/Admin/Local%20Settings/Temp/The_Colonial_Shipping_Trade__The_Triangular_Trade_Routes.asf" TargetMode="Externa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olonization of Latin America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What are the motivations for countries to colonize various parts to the worl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bsite Ques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. Click on Ecu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are the new leader’s positions regarding the U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Provide evidence of political instabilit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. Click on Boliv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What does the new leader believe his election symboliz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What was his previous job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How will he make the US angry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. Venezue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Describe the political instability in Venezuel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Who are Venezuela’s friends?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. Pick another cou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List the country and provide examples of political instability that have occurred the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conomic Imp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-Atlantic slave trade brought Africans to work on 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: sugar plantations in the Caribb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 imperialism created an unequal distribution of land and weal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ropeans and their relatives = r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ve Peoples and their relatives = p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Economic Effects – Triangular Trade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0" name="Picture 6" descr="A composite satellite image of Afric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6640" y="3465360"/>
            <a:ext cx="2924280" cy="327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" descr="j0309397"/>
          <p:cNvPicPr/>
          <p:nvPr/>
        </p:nvPicPr>
        <p:blipFill>
          <a:blip r:embed="rId3"/>
          <a:stretch/>
        </p:blipFill>
        <p:spPr>
          <a:xfrm>
            <a:off x="380880" y="1523880"/>
            <a:ext cx="3279960" cy="2186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Image:Old San Juan aerial view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3886200"/>
            <a:ext cx="3581280" cy="240840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4"/>
          <p:cNvSpPr/>
          <p:nvPr/>
        </p:nvSpPr>
        <p:spPr>
          <a:xfrm>
            <a:off x="2971800" y="3048120"/>
            <a:ext cx="3581280" cy="2209680"/>
          </a:xfrm>
          <a:prstGeom prst="rtTriangl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457200" y="990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olo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304920" y="62784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aribbe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6934320" y="2895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4495680" y="182880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Triangle Trade Vide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oci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ough colonization and the slave trade, Latin American culture is a blend of African, European, and native Latin American cultu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classes have developed resulting from economic inequalit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4956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http://koalainenglish.blogspot.com/"/>
          <p:cNvPicPr/>
          <p:nvPr/>
        </p:nvPicPr>
        <p:blipFill>
          <a:blip r:embed="rId2"/>
          <a:stretch/>
        </p:blipFill>
        <p:spPr>
          <a:xfrm>
            <a:off x="4419720" y="3635280"/>
            <a:ext cx="4724280" cy="32227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495680" y="0"/>
            <a:ext cx="464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able of Contents – L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28600" y="914400"/>
          <a:ext cx="8763120" cy="506088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ll of Communis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ssia After Communism – Political and Econom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**Latin America (LA)*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 Cover P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forest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/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onizati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228600" y="3886200"/>
            <a:ext cx="876312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e three sentences addressing the following promp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would school be different if all the principals and teachers left at noon today and never came bac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sentences must include one economic, one political, and one social sentenc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4"/>
          <p:cNvSpPr/>
          <p:nvPr/>
        </p:nvSpPr>
        <p:spPr>
          <a:xfrm>
            <a:off x="990720" y="2666880"/>
            <a:ext cx="739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had many economic, social and political impacts that are still present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2210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Different areas of Latin America were colonized by different countries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4444" r="0" b="2222"/>
          <a:stretch/>
        </p:blipFill>
        <p:spPr>
          <a:xfrm>
            <a:off x="2895480" y="0"/>
            <a:ext cx="579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3e3ff"/>
                </a:solidFill>
                <a:latin typeface="Arial"/>
              </a:rPr>
              <a:t>Effects of Colonization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04920" y="762120"/>
            <a:ext cx="3428640" cy="3124080"/>
            <a:chOff x="304920" y="762120"/>
            <a:chExt cx="3428640" cy="3124080"/>
          </a:xfrm>
        </p:grpSpPr>
        <p:grpSp>
          <p:nvGrpSpPr>
            <p:cNvPr id="135" name="Group 4"/>
            <p:cNvGrpSpPr/>
            <p:nvPr/>
          </p:nvGrpSpPr>
          <p:grpSpPr>
            <a:xfrm>
              <a:off x="304920" y="1447920"/>
              <a:ext cx="2971800" cy="2438280"/>
              <a:chOff x="304920" y="1447920"/>
              <a:chExt cx="2971800" cy="2438280"/>
            </a:xfrm>
          </p:grpSpPr>
          <p:sp>
            <p:nvSpPr>
              <p:cNvPr id="136" name="Oval 5"/>
              <p:cNvSpPr/>
              <p:nvPr/>
            </p:nvSpPr>
            <p:spPr>
              <a:xfrm>
                <a:off x="304920" y="1447920"/>
                <a:ext cx="2971800" cy="2438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6"/>
              <p:cNvSpPr/>
              <p:nvPr/>
            </p:nvSpPr>
            <p:spPr>
              <a:xfrm>
                <a:off x="914760" y="1600200"/>
                <a:ext cx="1828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Economic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7"/>
              <p:cNvSpPr/>
              <p:nvPr/>
            </p:nvSpPr>
            <p:spPr>
              <a:xfrm>
                <a:off x="609840" y="2133720"/>
                <a:ext cx="25909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Slave Trade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Plantations (Haciendas)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" name="Line 8"/>
            <p:cNvSpPr/>
            <p:nvPr/>
          </p:nvSpPr>
          <p:spPr>
            <a:xfrm flipH="1">
              <a:off x="2590560" y="762120"/>
              <a:ext cx="1143000" cy="9144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Group 9"/>
          <p:cNvGrpSpPr/>
          <p:nvPr/>
        </p:nvGrpSpPr>
        <p:grpSpPr>
          <a:xfrm>
            <a:off x="2362320" y="762120"/>
            <a:ext cx="3657600" cy="5715000"/>
            <a:chOff x="2362320" y="762120"/>
            <a:chExt cx="3657600" cy="5715000"/>
          </a:xfrm>
        </p:grpSpPr>
        <p:grpSp>
          <p:nvGrpSpPr>
            <p:cNvPr id="141" name="Group 10"/>
            <p:cNvGrpSpPr/>
            <p:nvPr/>
          </p:nvGrpSpPr>
          <p:grpSpPr>
            <a:xfrm>
              <a:off x="2362320" y="3886200"/>
              <a:ext cx="3657600" cy="2590920"/>
              <a:chOff x="2362320" y="3886200"/>
              <a:chExt cx="3657600" cy="2590920"/>
            </a:xfrm>
          </p:grpSpPr>
          <p:grpSp>
            <p:nvGrpSpPr>
              <p:cNvPr id="142" name="Group 11"/>
              <p:cNvGrpSpPr/>
              <p:nvPr/>
            </p:nvGrpSpPr>
            <p:grpSpPr>
              <a:xfrm>
                <a:off x="2362320" y="3886200"/>
                <a:ext cx="3657600" cy="2590920"/>
                <a:chOff x="2362320" y="3886200"/>
                <a:chExt cx="3657600" cy="2590920"/>
              </a:xfrm>
            </p:grpSpPr>
            <p:sp>
              <p:nvSpPr>
                <p:cNvPr id="143" name="Oval 12"/>
                <p:cNvSpPr/>
                <p:nvPr/>
              </p:nvSpPr>
              <p:spPr>
                <a:xfrm>
                  <a:off x="2362320" y="3886200"/>
                  <a:ext cx="3657600" cy="25909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3"/>
                <p:cNvSpPr/>
                <p:nvPr/>
              </p:nvSpPr>
              <p:spPr>
                <a:xfrm>
                  <a:off x="2971800" y="3962520"/>
                  <a:ext cx="23623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 u="sng">
                      <a:solidFill>
                        <a:srgbClr val="ffffff"/>
                      </a:solidFill>
                      <a:uFillTx/>
                      <a:latin typeface="Arial"/>
                    </a:rPr>
                    <a:t>Political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4"/>
              <p:cNvSpPr/>
              <p:nvPr/>
            </p:nvSpPr>
            <p:spPr>
              <a:xfrm>
                <a:off x="2743200" y="4724640"/>
                <a:ext cx="3048120" cy="138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Political Instabi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Juntas, Caudillos, Oligarchies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" name="Line 15"/>
            <p:cNvSpPr/>
            <p:nvPr/>
          </p:nvSpPr>
          <p:spPr>
            <a:xfrm flipH="1">
              <a:off x="4343040" y="762120"/>
              <a:ext cx="152280" cy="31240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Group 16"/>
          <p:cNvGrpSpPr/>
          <p:nvPr/>
        </p:nvGrpSpPr>
        <p:grpSpPr>
          <a:xfrm>
            <a:off x="5486400" y="762120"/>
            <a:ext cx="3429000" cy="3581280"/>
            <a:chOff x="5486400" y="762120"/>
            <a:chExt cx="3429000" cy="3581280"/>
          </a:xfrm>
        </p:grpSpPr>
        <p:grpSp>
          <p:nvGrpSpPr>
            <p:cNvPr id="148" name="Group 17"/>
            <p:cNvGrpSpPr/>
            <p:nvPr/>
          </p:nvGrpSpPr>
          <p:grpSpPr>
            <a:xfrm>
              <a:off x="5486400" y="2057400"/>
              <a:ext cx="3429000" cy="2286000"/>
              <a:chOff x="5486400" y="2057400"/>
              <a:chExt cx="3429000" cy="2286000"/>
            </a:xfrm>
          </p:grpSpPr>
          <p:sp>
            <p:nvSpPr>
              <p:cNvPr id="149" name="Oval 18"/>
              <p:cNvSpPr/>
              <p:nvPr/>
            </p:nvSpPr>
            <p:spPr>
              <a:xfrm>
                <a:off x="5486400" y="2057400"/>
                <a:ext cx="3429000" cy="22860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Text Box 19"/>
              <p:cNvSpPr/>
              <p:nvPr/>
            </p:nvSpPr>
            <p:spPr>
              <a:xfrm>
                <a:off x="6400800" y="2209680"/>
                <a:ext cx="1676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 u="sng">
                    <a:solidFill>
                      <a:srgbClr val="ffffff"/>
                    </a:solidFill>
                    <a:uFillTx/>
                    <a:latin typeface="Arial"/>
                  </a:rPr>
                  <a:t>Social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Text Box 20"/>
              <p:cNvSpPr/>
              <p:nvPr/>
            </p:nvSpPr>
            <p:spPr>
              <a:xfrm>
                <a:off x="5867280" y="2743200"/>
                <a:ext cx="2819520" cy="101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1. Cultural Mixing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2. Social Inequality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2" name="Line 21"/>
            <p:cNvSpPr/>
            <p:nvPr/>
          </p:nvSpPr>
          <p:spPr>
            <a:xfrm>
              <a:off x="5486400" y="762120"/>
              <a:ext cx="1447920" cy="1295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litical Instability – when violence and revolt does not allow a government to oper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s when a government is weak and can be overthrown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n effect of many years of coloniz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343400" y="1447920"/>
            <a:ext cx="48006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olitical Effects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ess the following website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news.bbc.co.uk/2/shared/spl/hi/americas/06/year_of_elections/html/nn1page1.s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website shows you the latest results of elections in Latin Americ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countries in Latin America have elections right around the same tim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72400" y="57150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ackground Informatio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1110" t="34261" r="62502" b="18519"/>
          <a:stretch/>
        </p:blipFill>
        <p:spPr>
          <a:xfrm>
            <a:off x="380880" y="1066680"/>
            <a:ext cx="3861000" cy="51818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876920" y="1143000"/>
            <a:ext cx="38098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heck out th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The colors represent the political beliefs of the political party that is currently in powe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ft-lean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political parties that are focused on helping those in poverty and providing free benefits for the citizens.  These governments usually do not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ter-righ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 political parties that are pro-business and set up policies to support industry rather than the poor.  These governments usually support the U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808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63416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9:14Z</dcterms:created>
  <dc:creator>cfisd</dc:creator>
  <dc:description/>
  <dc:language>en-US</dc:language>
  <cp:lastModifiedBy>CFISD</cp:lastModifiedBy>
  <dcterms:modified xsi:type="dcterms:W3CDTF">2009-01-28T15:54:20Z</dcterms:modified>
  <cp:revision>7</cp:revision>
  <dc:subject/>
  <dc:title>Colonization of Latin America</dc:title>
</cp:coreProperties>
</file>