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FD1-54C4-4F35-9826-D81F659A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6C5-22D9-409D-9763-03474BA6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9AC-6C4F-48E4-84B6-B22F2633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DF4-77F2-4AE4-A6D3-CBF1FDA4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430E5-A7E5-4F60-BD90-20D70728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CA878-3C3D-4EDC-97A9-7630A7D3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B696D-B0E2-4801-BCC7-D05217F9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F76A7-CB5A-4FE4-AA0C-288C23DA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81801-7A12-4BAE-871C-02C7CBEE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A653B-FB41-4D1B-91C0-C34A3680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3B08B-5BA8-4095-95DC-D667F44F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F2A-26E1-494B-B776-D7B67BE6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77F39-29D2-4724-9F60-1D10F1DA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3E3FD-3ECC-4E32-A86A-6D42C6A5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29714-1060-4F7E-A83D-B0B5BAC6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E1B8E-AC1B-4791-9CC1-82DAA26C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EBCA2-18E3-4EE8-9420-3F26E71F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41E-6EFE-458C-9D66-45E92B14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FF8-58C5-46BD-AF65-760FA2EE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13C-63A4-404D-A060-35C78F37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853-931D-4E36-84EE-66299AD0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601-7D54-4C90-92F8-D932DD8B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5DA-0D5D-4880-9B14-E2D36278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036-1C88-48CF-B9B6-353C1A47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DDED-620F-4878-BB75-D3E022F884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CA9D-6660-4C4E-B5DC-A255F64C3D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frica_satellite_orthographic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upload.wikimedia.org/wikipedia/commons/b/b7/Old_San_Juan_aerial_view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C:/Documents%20and%20Settings/Admin/Local%20Settings/Temp/The_Colonial_Shipping_Trade__The_Triangular_Trade_Routes.asf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olonization of Latin Americ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hat are the motivations for countries to colonize various parts to the wor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bsite 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. Click on Ecu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hat are the new leader’s positions regarding the U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rovide evidence of political instabi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. Click on Boliv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hat does the new leader believe his election symboliz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What was his previous job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How will he make the US angr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. Venez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Describe the political instability in Venezuel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Who are Venezuela’s friends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. Pick another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List the country and provide examples of political instability that have occurred the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conomic Imp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-Atlantic slave trade brought Africans to work on pla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ugar plantations in the Caribb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 imperialism created an unequal distribution of land and w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ans and their relatives = r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 Peoples and their relatives = p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conomic Effects – Triangular Trade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6" descr="A composite satellite image of Afric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6640" y="3465360"/>
            <a:ext cx="2924280" cy="327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j0309397"/>
          <p:cNvPicPr/>
          <p:nvPr/>
        </p:nvPicPr>
        <p:blipFill>
          <a:blip r:embed="rId3"/>
          <a:stretch/>
        </p:blipFill>
        <p:spPr>
          <a:xfrm>
            <a:off x="380880" y="1523880"/>
            <a:ext cx="3279960" cy="2186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Image:Old San Juan aerial view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3886200"/>
            <a:ext cx="3581280" cy="24084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4"/>
          <p:cNvSpPr/>
          <p:nvPr/>
        </p:nvSpPr>
        <p:spPr>
          <a:xfrm>
            <a:off x="2971800" y="3048120"/>
            <a:ext cx="3581280" cy="2209680"/>
          </a:xfrm>
          <a:prstGeom prst="rtTriangl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57200" y="990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Col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04920" y="62784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ribb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693432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4495680" y="1828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Triangle Trade 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cial Effe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ugh colonization and the slave trade, Latin American culture is a blend of African, European, and native Latin American cultu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classes have developed resulting from economic inequal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http://koalainenglish.blogspot.com/"/>
          <p:cNvPicPr/>
          <p:nvPr/>
        </p:nvPicPr>
        <p:blipFill>
          <a:blip r:embed="rId2"/>
          <a:stretch/>
        </p:blipFill>
        <p:spPr>
          <a:xfrm>
            <a:off x="4419720" y="3635280"/>
            <a:ext cx="4724280" cy="3222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able of Contents – L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914400"/>
          <a:ext cx="8763120" cy="50608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ssia After Communism – Political and Econom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Latin America (LA)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Cover P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ores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nizat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28600" y="3886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r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three sentences addressing the following promp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would school be different if all the principals and teachers left at noon today and never came bac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sentences must include one economic, one political, and one social sent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990720" y="26668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ation had many economic, social and political impacts that are still present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57150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221004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Different areas of Latin America were colonized by different countries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4444" r="0" b="2222"/>
          <a:stretch/>
        </p:blipFill>
        <p:spPr>
          <a:xfrm>
            <a:off x="289548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Effects of Colonization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304920" y="762120"/>
            <a:ext cx="3428640" cy="3124080"/>
            <a:chOff x="304920" y="762120"/>
            <a:chExt cx="3428640" cy="3124080"/>
          </a:xfrm>
        </p:grpSpPr>
        <p:grpSp>
          <p:nvGrpSpPr>
            <p:cNvPr id="135" name="Group 4"/>
            <p:cNvGrpSpPr/>
            <p:nvPr/>
          </p:nvGrpSpPr>
          <p:grpSpPr>
            <a:xfrm>
              <a:off x="304920" y="1447920"/>
              <a:ext cx="2971800" cy="2438280"/>
              <a:chOff x="304920" y="1447920"/>
              <a:chExt cx="2971800" cy="2438280"/>
            </a:xfrm>
          </p:grpSpPr>
          <p:sp>
            <p:nvSpPr>
              <p:cNvPr id="136" name="Oval 5"/>
              <p:cNvSpPr/>
              <p:nvPr/>
            </p:nvSpPr>
            <p:spPr>
              <a:xfrm>
                <a:off x="304920" y="1447920"/>
                <a:ext cx="2971800" cy="24382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6"/>
              <p:cNvSpPr/>
              <p:nvPr/>
            </p:nvSpPr>
            <p:spPr>
              <a:xfrm>
                <a:off x="914760" y="16002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Economic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7"/>
              <p:cNvSpPr/>
              <p:nvPr/>
            </p:nvSpPr>
            <p:spPr>
              <a:xfrm>
                <a:off x="609840" y="2133720"/>
                <a:ext cx="259092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Slave Trad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Plantations (Haciendas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Line 8"/>
            <p:cNvSpPr/>
            <p:nvPr/>
          </p:nvSpPr>
          <p:spPr>
            <a:xfrm flipH="1">
              <a:off x="2590560" y="762120"/>
              <a:ext cx="114300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2362320" y="762120"/>
            <a:ext cx="3657600" cy="5715000"/>
            <a:chOff x="2362320" y="762120"/>
            <a:chExt cx="3657600" cy="5715000"/>
          </a:xfrm>
        </p:grpSpPr>
        <p:grpSp>
          <p:nvGrpSpPr>
            <p:cNvPr id="141" name="Group 10"/>
            <p:cNvGrpSpPr/>
            <p:nvPr/>
          </p:nvGrpSpPr>
          <p:grpSpPr>
            <a:xfrm>
              <a:off x="2362320" y="3886200"/>
              <a:ext cx="3657600" cy="2590920"/>
              <a:chOff x="2362320" y="3886200"/>
              <a:chExt cx="3657600" cy="2590920"/>
            </a:xfrm>
          </p:grpSpPr>
          <p:grpSp>
            <p:nvGrpSpPr>
              <p:cNvPr id="142" name="Group 11"/>
              <p:cNvGrpSpPr/>
              <p:nvPr/>
            </p:nvGrpSpPr>
            <p:grpSpPr>
              <a:xfrm>
                <a:off x="2362320" y="3886200"/>
                <a:ext cx="3657600" cy="2590920"/>
                <a:chOff x="2362320" y="3886200"/>
                <a:chExt cx="3657600" cy="2590920"/>
              </a:xfrm>
            </p:grpSpPr>
            <p:sp>
              <p:nvSpPr>
                <p:cNvPr id="143" name="Oval 12"/>
                <p:cNvSpPr/>
                <p:nvPr/>
              </p:nvSpPr>
              <p:spPr>
                <a:xfrm>
                  <a:off x="2362320" y="3886200"/>
                  <a:ext cx="3657600" cy="25909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13"/>
                <p:cNvSpPr/>
                <p:nvPr/>
              </p:nvSpPr>
              <p:spPr>
                <a:xfrm>
                  <a:off x="2971800" y="3962520"/>
                  <a:ext cx="2362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 u="sng">
                      <a:solidFill>
                        <a:srgbClr val="ffffff"/>
                      </a:solidFill>
                      <a:uFillTx/>
                      <a:latin typeface="Arial"/>
                    </a:rPr>
                    <a:t>Political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Text Box 14"/>
              <p:cNvSpPr/>
              <p:nvPr/>
            </p:nvSpPr>
            <p:spPr>
              <a:xfrm>
                <a:off x="2743200" y="4724640"/>
                <a:ext cx="304812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Political Instabil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Juntas, Caudillos, Oligarchie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Line 15"/>
            <p:cNvSpPr/>
            <p:nvPr/>
          </p:nvSpPr>
          <p:spPr>
            <a:xfrm flipH="1">
              <a:off x="4343040" y="762120"/>
              <a:ext cx="152280" cy="3124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16"/>
          <p:cNvGrpSpPr/>
          <p:nvPr/>
        </p:nvGrpSpPr>
        <p:grpSpPr>
          <a:xfrm>
            <a:off x="5486400" y="762120"/>
            <a:ext cx="3429000" cy="3581280"/>
            <a:chOff x="5486400" y="762120"/>
            <a:chExt cx="3429000" cy="3581280"/>
          </a:xfrm>
        </p:grpSpPr>
        <p:grpSp>
          <p:nvGrpSpPr>
            <p:cNvPr id="148" name="Group 17"/>
            <p:cNvGrpSpPr/>
            <p:nvPr/>
          </p:nvGrpSpPr>
          <p:grpSpPr>
            <a:xfrm>
              <a:off x="5486400" y="2057400"/>
              <a:ext cx="3429000" cy="2286000"/>
              <a:chOff x="5486400" y="2057400"/>
              <a:chExt cx="3429000" cy="2286000"/>
            </a:xfrm>
          </p:grpSpPr>
          <p:sp>
            <p:nvSpPr>
              <p:cNvPr id="149" name="Oval 18"/>
              <p:cNvSpPr/>
              <p:nvPr/>
            </p:nvSpPr>
            <p:spPr>
              <a:xfrm>
                <a:off x="5486400" y="2057400"/>
                <a:ext cx="3429000" cy="22860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9"/>
              <p:cNvSpPr/>
              <p:nvPr/>
            </p:nvSpPr>
            <p:spPr>
              <a:xfrm>
                <a:off x="6400800" y="2209680"/>
                <a:ext cx="167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Social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20"/>
              <p:cNvSpPr/>
              <p:nvPr/>
            </p:nvSpPr>
            <p:spPr>
              <a:xfrm>
                <a:off x="5867280" y="2743200"/>
                <a:ext cx="28195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Cultural Mixing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Social Inequal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Line 21"/>
            <p:cNvSpPr/>
            <p:nvPr/>
          </p:nvSpPr>
          <p:spPr>
            <a:xfrm>
              <a:off x="5486400" y="762120"/>
              <a:ext cx="144792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al Instability – when violence and revolt does not allow a government to ope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s when a government is weak and can be overthrown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n effect of many years of colon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litical Effect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he following websi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news.bbc.co.uk/2/shared/spl/hi/americas/06/year_of_elections/html/nn1page1.s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ebsite shows you the latest results of elections in Latin Amer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countries in Latin America have elections right around the same ti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57150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ackground Informa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1110" t="34261" r="62502" b="18519"/>
          <a:stretch/>
        </p:blipFill>
        <p:spPr>
          <a:xfrm>
            <a:off x="380880" y="1066680"/>
            <a:ext cx="3861000" cy="5181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76920" y="1143000"/>
            <a:ext cx="38098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heck out th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he colors represent the political beliefs of the political party that is currently in pow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ft-lea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olitical parties that are focused on helping those in poverty and providing free benefits for the citizens.  These governments usually do not support the 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er-righ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political parties that are pro-business and set up policies to support industry rather than the poor.  These governments usually support the 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808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9:14Z</dcterms:created>
  <dc:creator>cfisd</dc:creator>
  <dc:description/>
  <dc:language>en-US</dc:language>
  <cp:lastModifiedBy>CFISD</cp:lastModifiedBy>
  <dcterms:modified xsi:type="dcterms:W3CDTF">2009-01-28T15:54:20Z</dcterms:modified>
  <cp:revision>7</cp:revision>
  <dc:subject/>
  <dc:title>Colonization of Latin America</dc:title>
</cp:coreProperties>
</file>