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A12-0736-48C7-AB1A-5CFE6E13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0EF-7CC7-4C8D-B0B5-4FCD3BB6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E707-119B-44D5-B448-E275D947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5294-80DB-4987-B576-8687CBDD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17029-51F6-45CB-A76F-D69B5045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916B7-B29D-48D4-9CBE-E9A11512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59232-BCE5-4E89-8016-60C53C60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3644B-44FC-493F-9730-29E87AD3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FFA81-F52F-43EB-868D-25BAC112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46AB8-E559-44F1-956F-411ED3BC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1DFCC-D6F9-4571-B02F-E47A539E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4A9-ABFB-400B-A1B0-4D07AE3C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F3B27-1DBA-4885-A2D9-8DAB0DB3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A4CE0-5A23-44BB-9F82-E82EE685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26DCE-2688-4EBB-BE0F-120301EF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C56F9-29FD-4A1D-B803-7063CADB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27AA1-5DD8-4327-8E07-BA96F483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530-D47C-4FDE-A847-9C8B65D1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E42D-3C9D-4205-B32C-94AC00C6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AA09-B60E-45DB-99C9-EDC8C930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36BC-5A6C-4495-8DE0-AC1459C2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0961-2FD3-43EC-90EB-03C7EC20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593-0A4C-4A3F-B849-AF8FD1CF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AF4-8730-43D9-B249-FD0983D4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32C9-0E4B-407A-A1B1-4DF4C813A5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3752-51C0-496A-B691-F6F2084B3F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frica_satellite_orthographic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upload.wikimedia.org/wikipedia/commons/b/b7/Old_San_Juan_aerial_view.jpg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C:/Documents%20and%20Settings/Admin/Local%20Settings/Temp/The_Colonial_Shipping_Trade__The_Triangular_Trade_Routes.asf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olonization of Latin Americ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What are the motivations for countries to colonize various parts to the wor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bsite 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. Click on Ecu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What are the new leader’s positions regarding the U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Provide evidence of political instabil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. Click on Boliv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What does the new leader believe his election symboliz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What was his previous job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How will he make the US angr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. Venez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Describe the political instability in Venezuel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Who are Venezuela’s friends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. Pick another cou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List the country and provide examples of political instability that have occurred the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conomic Imp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-Atlantic slave trade brought Africans to work on pla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sugar plantations in the Caribb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an imperialism created an unequal distribution of land and w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ropeans and their relatives = r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 Peoples and their relatives = p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conomic Effects – Triangular Trade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0" name="Picture 6" descr="A composite satellite image of Afric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6640" y="3465360"/>
            <a:ext cx="2924280" cy="3276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j0309397"/>
          <p:cNvPicPr/>
          <p:nvPr/>
        </p:nvPicPr>
        <p:blipFill>
          <a:blip r:embed="rId3"/>
          <a:stretch/>
        </p:blipFill>
        <p:spPr>
          <a:xfrm>
            <a:off x="380880" y="1523880"/>
            <a:ext cx="3279960" cy="2186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Image:Old San Juan aerial view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3886200"/>
            <a:ext cx="3581280" cy="24084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4"/>
          <p:cNvSpPr/>
          <p:nvPr/>
        </p:nvSpPr>
        <p:spPr>
          <a:xfrm>
            <a:off x="2971800" y="3048120"/>
            <a:ext cx="3581280" cy="2209680"/>
          </a:xfrm>
          <a:prstGeom prst="rtTriangl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457200" y="990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Colo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304920" y="62784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ribb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693432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4495680" y="18288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Triangle Trade 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cial Effe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ugh colonization and the slave trade, Latin American culture is a blend of African, European, and native Latin American cultu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classes have developed resulting from economic inequal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http://koalainenglish.blogspot.com/"/>
          <p:cNvPicPr/>
          <p:nvPr/>
        </p:nvPicPr>
        <p:blipFill>
          <a:blip r:embed="rId2"/>
          <a:stretch/>
        </p:blipFill>
        <p:spPr>
          <a:xfrm>
            <a:off x="4419720" y="3635280"/>
            <a:ext cx="4724280" cy="3222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able of Contents – L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28600" y="914400"/>
          <a:ext cx="8763120" cy="506088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l of Communis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ssia After Communism – Political and Econom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Latin America (LA)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Cover P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ores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nizati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228600" y="3886200"/>
            <a:ext cx="8763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tr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three sentences addressing the following promp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would school be different if all the principals and teachers left at noon today and never came bac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sentences must include one economic, one political, and one social sent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990720" y="266688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zation had many economic, social and political impacts that are still present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72400" y="57150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221004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Different areas of Latin America were colonized by different countries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4444" r="0" b="2222"/>
          <a:stretch/>
        </p:blipFill>
        <p:spPr>
          <a:xfrm>
            <a:off x="289548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Effects of Colonization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304920" y="762120"/>
            <a:ext cx="3428640" cy="3124080"/>
            <a:chOff x="304920" y="762120"/>
            <a:chExt cx="3428640" cy="3124080"/>
          </a:xfrm>
        </p:grpSpPr>
        <p:grpSp>
          <p:nvGrpSpPr>
            <p:cNvPr id="135" name="Group 4"/>
            <p:cNvGrpSpPr/>
            <p:nvPr/>
          </p:nvGrpSpPr>
          <p:grpSpPr>
            <a:xfrm>
              <a:off x="304920" y="1447920"/>
              <a:ext cx="2971800" cy="2438280"/>
              <a:chOff x="304920" y="1447920"/>
              <a:chExt cx="2971800" cy="2438280"/>
            </a:xfrm>
          </p:grpSpPr>
          <p:sp>
            <p:nvSpPr>
              <p:cNvPr id="136" name="Oval 5"/>
              <p:cNvSpPr/>
              <p:nvPr/>
            </p:nvSpPr>
            <p:spPr>
              <a:xfrm>
                <a:off x="304920" y="1447920"/>
                <a:ext cx="2971800" cy="24382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Text Box 6"/>
              <p:cNvSpPr/>
              <p:nvPr/>
            </p:nvSpPr>
            <p:spPr>
              <a:xfrm>
                <a:off x="914760" y="16002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Economic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7"/>
              <p:cNvSpPr/>
              <p:nvPr/>
            </p:nvSpPr>
            <p:spPr>
              <a:xfrm>
                <a:off x="609840" y="2133720"/>
                <a:ext cx="259092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. Slave Trad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. Plantations (Haciendas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" name="Line 8"/>
            <p:cNvSpPr/>
            <p:nvPr/>
          </p:nvSpPr>
          <p:spPr>
            <a:xfrm flipH="1">
              <a:off x="2590560" y="762120"/>
              <a:ext cx="1143000" cy="914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2362320" y="762120"/>
            <a:ext cx="3657600" cy="5715000"/>
            <a:chOff x="2362320" y="762120"/>
            <a:chExt cx="3657600" cy="5715000"/>
          </a:xfrm>
        </p:grpSpPr>
        <p:grpSp>
          <p:nvGrpSpPr>
            <p:cNvPr id="141" name="Group 10"/>
            <p:cNvGrpSpPr/>
            <p:nvPr/>
          </p:nvGrpSpPr>
          <p:grpSpPr>
            <a:xfrm>
              <a:off x="2362320" y="3886200"/>
              <a:ext cx="3657600" cy="2590920"/>
              <a:chOff x="2362320" y="3886200"/>
              <a:chExt cx="3657600" cy="2590920"/>
            </a:xfrm>
          </p:grpSpPr>
          <p:grpSp>
            <p:nvGrpSpPr>
              <p:cNvPr id="142" name="Group 11"/>
              <p:cNvGrpSpPr/>
              <p:nvPr/>
            </p:nvGrpSpPr>
            <p:grpSpPr>
              <a:xfrm>
                <a:off x="2362320" y="3886200"/>
                <a:ext cx="3657600" cy="2590920"/>
                <a:chOff x="2362320" y="3886200"/>
                <a:chExt cx="3657600" cy="2590920"/>
              </a:xfrm>
            </p:grpSpPr>
            <p:sp>
              <p:nvSpPr>
                <p:cNvPr id="143" name="Oval 12"/>
                <p:cNvSpPr/>
                <p:nvPr/>
              </p:nvSpPr>
              <p:spPr>
                <a:xfrm>
                  <a:off x="2362320" y="3886200"/>
                  <a:ext cx="3657600" cy="25909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13"/>
                <p:cNvSpPr/>
                <p:nvPr/>
              </p:nvSpPr>
              <p:spPr>
                <a:xfrm>
                  <a:off x="2971800" y="3962520"/>
                  <a:ext cx="2362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 u="sng">
                      <a:solidFill>
                        <a:srgbClr val="ffffff"/>
                      </a:solidFill>
                      <a:uFillTx/>
                      <a:latin typeface="Arial"/>
                    </a:rPr>
                    <a:t>Political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Text Box 14"/>
              <p:cNvSpPr/>
              <p:nvPr/>
            </p:nvSpPr>
            <p:spPr>
              <a:xfrm>
                <a:off x="2743200" y="4724640"/>
                <a:ext cx="304812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. Political Instabilit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. Juntas, Caudillos, Oligarchies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Line 15"/>
            <p:cNvSpPr/>
            <p:nvPr/>
          </p:nvSpPr>
          <p:spPr>
            <a:xfrm flipH="1">
              <a:off x="4343040" y="762120"/>
              <a:ext cx="152280" cy="3124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16"/>
          <p:cNvGrpSpPr/>
          <p:nvPr/>
        </p:nvGrpSpPr>
        <p:grpSpPr>
          <a:xfrm>
            <a:off x="5486400" y="762120"/>
            <a:ext cx="3429000" cy="3581280"/>
            <a:chOff x="5486400" y="762120"/>
            <a:chExt cx="3429000" cy="3581280"/>
          </a:xfrm>
        </p:grpSpPr>
        <p:grpSp>
          <p:nvGrpSpPr>
            <p:cNvPr id="148" name="Group 17"/>
            <p:cNvGrpSpPr/>
            <p:nvPr/>
          </p:nvGrpSpPr>
          <p:grpSpPr>
            <a:xfrm>
              <a:off x="5486400" y="2057400"/>
              <a:ext cx="3429000" cy="2286000"/>
              <a:chOff x="5486400" y="2057400"/>
              <a:chExt cx="3429000" cy="2286000"/>
            </a:xfrm>
          </p:grpSpPr>
          <p:sp>
            <p:nvSpPr>
              <p:cNvPr id="149" name="Oval 18"/>
              <p:cNvSpPr/>
              <p:nvPr/>
            </p:nvSpPr>
            <p:spPr>
              <a:xfrm>
                <a:off x="5486400" y="2057400"/>
                <a:ext cx="3429000" cy="22860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9"/>
              <p:cNvSpPr/>
              <p:nvPr/>
            </p:nvSpPr>
            <p:spPr>
              <a:xfrm>
                <a:off x="6400800" y="2209680"/>
                <a:ext cx="1676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Social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20"/>
              <p:cNvSpPr/>
              <p:nvPr/>
            </p:nvSpPr>
            <p:spPr>
              <a:xfrm>
                <a:off x="5867280" y="2743200"/>
                <a:ext cx="28195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. Cultural Mixing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. Social Inequalit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Line 21"/>
            <p:cNvSpPr/>
            <p:nvPr/>
          </p:nvSpPr>
          <p:spPr>
            <a:xfrm>
              <a:off x="5486400" y="762120"/>
              <a:ext cx="144792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litical Effe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tical Instability – when violence and revolt does not allow a government to oper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rs when a government is weak and can be overthrown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n effect of many years of coloniz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480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litical Effect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he following websi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news.bbc.co.uk/2/shared/spl/hi/americas/06/year_of_elections/html/nn1page1.s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ebsite shows you the latest results of elections in Latin Americ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countries in Latin America have elections right around the same tim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57150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ackground Informa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11110" t="34261" r="62502" b="18519"/>
          <a:stretch/>
        </p:blipFill>
        <p:spPr>
          <a:xfrm>
            <a:off x="380880" y="1066680"/>
            <a:ext cx="3861000" cy="5181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876920" y="1143000"/>
            <a:ext cx="38098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heck out the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The colors represent the political beliefs of the political party that is currently in pow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ft-lea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olitical parties that are focused on helping those in poverty and providing free benefits for the citizens.  These governments usually do not support the U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er-righ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political parties that are pro-business and set up policies to support industry rather than the poor.  These governments usually support the U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808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9:14Z</dcterms:created>
  <dc:creator>cfisd</dc:creator>
  <dc:description/>
  <dc:language>en-US</dc:language>
  <cp:lastModifiedBy>CFISD</cp:lastModifiedBy>
  <dcterms:modified xsi:type="dcterms:W3CDTF">2009-01-28T15:54:20Z</dcterms:modified>
  <cp:revision>7</cp:revision>
  <dc:subject/>
  <dc:title>Colonization of Latin America</dc:title>
</cp:coreProperties>
</file>