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3914-0DF6-4D37-9862-A6C09F176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0F53-6024-4F32-9BB5-00BA9D0BA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AABB-C35C-43C2-8B0A-227632080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25C6-1FDB-4D5C-A836-356C5193E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F0F4-1DEA-4E1A-8DE2-0096C26A6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E5C6-6801-4F93-ABDC-007F27770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6507-F892-480E-998B-42783CACD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C822-FDDC-4758-8B3E-488DF22B9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3F43-C208-4EBC-9813-24094CF93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2110-1F70-4C3B-844B-52A989A32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52C0-2656-4ABB-BC0C-A4F6076C4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36BD-2DD6-49E5-93DB-C1B7BF733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ffffff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AC795-2366-4A89-80E1-60E369FACF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50000">
              <a:srgbClr val="ffffff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457200" y="1066680"/>
          <a:ext cx="8229600" cy="5562720"/>
        </p:xfrm>
        <a:graphic>
          <a:graphicData uri="http://schemas.openxmlformats.org/drawingml/2006/table">
            <a:tbl>
              <a:tblPr/>
              <a:tblGrid>
                <a:gridCol w="2514600"/>
                <a:gridCol w="5715000"/>
              </a:tblGrid>
              <a:tr h="111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vers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,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isper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to help ki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l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Orso,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ebook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text, other ki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estion of the D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swer focus q’s (3 min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ve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, get notebook as you ent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, use hand signa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cip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ght = sitting, writing, help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ong = no binder, no Q of D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" name=""/>
          <p:cNvSpPr/>
          <p:nvPr/>
        </p:nvSpPr>
        <p:spPr>
          <a:xfrm>
            <a:off x="1905120" y="341280"/>
            <a:ext cx="495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ity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o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6T16:32:17Z</dcterms:created>
  <dc:creator>cfisd</dc:creator>
  <dc:description/>
  <dc:language>en-US</dc:language>
  <cp:lastModifiedBy>cfisd</cp:lastModifiedBy>
  <dcterms:modified xsi:type="dcterms:W3CDTF">2008-08-26T16:32:31Z</dcterms:modified>
  <cp:revision>1</cp:revision>
  <dc:subject/>
  <dc:title>Slide 1</dc:title>
</cp:coreProperties>
</file>