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1FF-C4F3-4C83-8293-F86C87F8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7F0-5B78-47D9-8A08-1B44F477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D35-228A-46BA-8080-3B9327DB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E05-2DD7-4CB1-977E-C2AF1AA3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1F4-3B4E-45B4-A5D9-705A56AB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0F7-C9F9-43D8-ACB3-B65A849C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3A1-EC4C-4768-8B02-1B0F6DB6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1C1-931D-4027-BDDD-B11EC649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BB6-1D67-47EA-8B6B-A1E3EC44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354-E848-475D-85E7-99B9AA57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F4A-B06D-4041-9073-DA6D8B28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3FC-DE9B-46F6-B0DF-DEA8F0E8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E168-A64B-4B6B-B336-8C7B3A199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066680"/>
          <a:ext cx="8229600" cy="556272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spe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o help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rs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boo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ext,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focus q’s (3 mi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get notebook as you 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use hand sign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= sitting, writing, hel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= no binder, no Q of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905120" y="34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6:32:17Z</dcterms:created>
  <dc:creator>cfisd</dc:creator>
  <dc:description/>
  <dc:language>en-US</dc:language>
  <cp:lastModifiedBy>cfisd</cp:lastModifiedBy>
  <dcterms:modified xsi:type="dcterms:W3CDTF">2008-08-26T16:32:31Z</dcterms:modified>
  <cp:revision>1</cp:revision>
  <dc:subject/>
  <dc:title>Slide 1</dc:title>
</cp:coreProperties>
</file>