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252B-15EE-4D03-BF2F-595D01C6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956-0646-4F7B-A09E-68539CF4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385-CFA5-4725-A950-EC7D3E8A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EC6-1F9A-4B8F-AB37-560F05A9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167A-85D0-4502-B7F2-E5C496AC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722-2664-4607-8EC2-5869D5A4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D589-92D1-46F9-B6CD-27315C54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E267-F7C6-44B8-8F6B-C22AF96B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A33-5294-4696-9474-F32EA145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DD0D-9467-49A5-A440-34A37A41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06D5-B23E-45BA-8762-506E4AFC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26DC-93A7-448E-A961-AD643CF3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7F3C7-B88E-4C2A-9D54-CEFFE48BC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066680"/>
          <a:ext cx="8229600" cy="556272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spe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o help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rs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boo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ext,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focus q’s (3 mi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get notebook as you 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use hand sign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= sitting, writing, hel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= no binder, no Q of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905120" y="34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6:32:17Z</dcterms:created>
  <dc:creator>cfisd</dc:creator>
  <dc:description/>
  <dc:language>en-US</dc:language>
  <cp:lastModifiedBy>cfisd</cp:lastModifiedBy>
  <dcterms:modified xsi:type="dcterms:W3CDTF">2008-08-26T16:32:31Z</dcterms:modified>
  <cp:revision>1</cp:revision>
  <dc:subject/>
  <dc:title>Slide 1</dc:title>
</cp:coreProperties>
</file>