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22E-5F12-4BFA-B3FE-430AF29D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FF3-E9E8-47ED-BB05-D176DA25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EDF-489A-4EA8-B490-AE5281EC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D88-608D-4752-8307-15ED7DF8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DF9-4FA5-45DF-BFB9-C29BE39C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BBC-5127-4F55-A44E-CB8A1191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280-AEF0-43E6-9032-A9870716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A58-B83E-4E4F-BA37-E7A0DD4F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503-55F0-446B-B7DB-E8E4E9B6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E3A-3D34-4851-9D37-1816D397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208-E441-4D6F-8CD1-09879FC7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592-EE09-46C1-B6F7-AA0CDE40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F5EB-A601-46F0-8C6C-5D29473CE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is used to set up classroom procedures for each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–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when I’m doing it r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like if its done wro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2971800"/>
          <a:ext cx="7848720" cy="3580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ing, aw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talking, not wr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- 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tal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 to wh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u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I know when to be sil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-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need help what do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 to help others when I am fini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a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-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m I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inished produ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tep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-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get out of my s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, h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9:16:33Z</dcterms:created>
  <dc:creator>CFISD</dc:creator>
  <dc:description/>
  <dc:language>en-US</dc:language>
  <cp:lastModifiedBy>cfisd</cp:lastModifiedBy>
  <dcterms:modified xsi:type="dcterms:W3CDTF">2008-08-27T15:26:15Z</dcterms:modified>
  <cp:revision>6</cp:revision>
  <dc:subject/>
  <dc:title>CHAMPs System</dc:title>
</cp:coreProperties>
</file>