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424-6BE1-454F-8504-D1BDAA3B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D75-B85B-4FA8-81AE-FDB1CAA8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FBFA-5AA8-4B75-8E95-88ED4C4B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0E1-17BE-4C0D-B065-48E9769C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1C7-9660-4919-A29E-35C7DC25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9E65-6B1C-4525-B6AD-3866F9CD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893E-417C-4540-8BA1-818790CA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A7B3-5F45-4EB2-B2DD-7E0A883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EDC0-C7E1-4DE4-8D3D-390CC2A3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6E8-F49C-44CE-8FEF-8D151DE8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3A0F-E5E1-41DF-A134-9649B5B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DC02-E170-47CB-86F3-6B31B54A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6707-4976-4C56-9F18-DD4341323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MPs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ystem is used to set up classroom procedures for each acti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 –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when I’m doing it righ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it look like if its done wro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838080" y="2971800"/>
          <a:ext cx="7848720" cy="358092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 =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en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ing, aw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= talking, not wr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 - Conver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t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 to wh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u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ill I know when to be silen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 -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 need help what do I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I l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t ok to help others when I am fini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at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-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m I do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finished produ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tep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 -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get out of my s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es, how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838080"/>
          <a:ext cx="8229600" cy="5821560"/>
        </p:xfrm>
        <a:graphic>
          <a:graphicData uri="http://schemas.openxmlformats.org/drawingml/2006/table">
            <a:tbl>
              <a:tblPr/>
              <a:tblGrid>
                <a:gridCol w="2514600"/>
                <a:gridCol w="5715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ver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a hand to spea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write comments in the margin to say during a commercial bre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se ha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otebook, text, NO other ki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ing not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earing directions, explaining info, important new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bathroom during 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hand signal for penci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1066680" y="152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acher Instruction (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19:16:33Z</dcterms:created>
  <dc:creator>CFISD</dc:creator>
  <dc:description/>
  <dc:language>en-US</dc:language>
  <cp:lastModifiedBy>cfisd</cp:lastModifiedBy>
  <dcterms:modified xsi:type="dcterms:W3CDTF">2008-08-27T15:26:15Z</dcterms:modified>
  <cp:revision>6</cp:revision>
  <dc:subject/>
  <dc:title>CHAMPs System</dc:title>
</cp:coreProperties>
</file>