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D406-E0AC-45D2-88CC-28FABD7C1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29C1-7644-453F-A6DB-4A6B92E5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0804-84D6-46EA-B14A-CD05D5A46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0B04-6451-4DFC-8242-1C86C547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3B60-4883-44B2-B52A-3B91460F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DAFE-DB4A-4FED-9AC6-1AC22EB5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E19A-4BC8-4C5F-94B6-C5B3D99F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5786-C16D-41FD-BB7D-B336B9EA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A1A6-9A15-424B-AAC1-0E1E3B85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E6F5-F07D-4252-B19F-87983362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12C6-5E2A-4DA1-9286-BEC7F01C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94CF-BB74-4317-AE5C-6D873EA0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C5E3-9A1B-4EA6-96E2-445DFBCD3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MP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ystem is used to set up classroom procedures for each activ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 – Particip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it look when I’m doing it righ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it look like if its done wro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38080" y="2971800"/>
          <a:ext cx="7848720" cy="358092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57200" y="838080"/>
          <a:ext cx="8229600" cy="5821560"/>
        </p:xfrm>
        <a:graphic>
          <a:graphicData uri="http://schemas.openxmlformats.org/drawingml/2006/table">
            <a:tbl>
              <a:tblPr/>
              <a:tblGrid>
                <a:gridCol w="2514600"/>
                <a:gridCol w="5715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a hand to spea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rite comments in the margin to say during a commercial bre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ha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notebook, text, NO other k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ing not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hearing directions, explaining info, important new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bathroom during 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hand signal for penc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 =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en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riting, aw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= talking, not wri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1066680" y="15228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acher Instruction (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 - Conver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 talk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es to who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ou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I know when to be sile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57200" y="838080"/>
          <a:ext cx="8229600" cy="5821560"/>
        </p:xfrm>
        <a:graphic>
          <a:graphicData uri="http://schemas.openxmlformats.org/drawingml/2006/table">
            <a:tbl>
              <a:tblPr/>
              <a:tblGrid>
                <a:gridCol w="2514600"/>
                <a:gridCol w="5715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a hand to spea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rite comments in the margin to say during a commercial bre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1066680" y="15228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acher Instruction (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 - 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 need help what do I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I loo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ok to help others when I am finish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at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57200" y="838080"/>
          <a:ext cx="8229600" cy="5821560"/>
        </p:xfrm>
        <a:graphic>
          <a:graphicData uri="http://schemas.openxmlformats.org/drawingml/2006/table">
            <a:tbl>
              <a:tblPr/>
              <a:tblGrid>
                <a:gridCol w="2514600"/>
                <a:gridCol w="5715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a hand to spea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rite comments in the margin to say during a commercial bre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ha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notebook, text, NO other k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1066680" y="15228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acher Instruction (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-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m I do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finished produc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step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57200" y="838080"/>
          <a:ext cx="8229600" cy="5821560"/>
        </p:xfrm>
        <a:graphic>
          <a:graphicData uri="http://schemas.openxmlformats.org/drawingml/2006/table">
            <a:tbl>
              <a:tblPr/>
              <a:tblGrid>
                <a:gridCol w="2514600"/>
                <a:gridCol w="5715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a hand to spea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rite comments in the margin to say during a commercial bre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ha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notebook, text, NO other k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ing not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hearing directions, explaining info, important new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1066680" y="15228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acher Instruction (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 -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 get out of my se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es, how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838080"/>
          <a:ext cx="8229600" cy="5821560"/>
        </p:xfrm>
        <a:graphic>
          <a:graphicData uri="http://schemas.openxmlformats.org/drawingml/2006/table">
            <a:tbl>
              <a:tblPr/>
              <a:tblGrid>
                <a:gridCol w="2514600"/>
                <a:gridCol w="5715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a hand to spea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rite comments in the margin to say during a commercial bre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ha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notebook, text, NO other k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ing not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hearing directions, explaining info, important new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bathroom during 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hand signal for penc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1066680" y="15228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acher Instruction (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3T19:16:33Z</dcterms:created>
  <dc:creator>CFISD</dc:creator>
  <dc:description/>
  <dc:language>en-US</dc:language>
  <cp:lastModifiedBy>cfisd</cp:lastModifiedBy>
  <dcterms:modified xsi:type="dcterms:W3CDTF">2008-08-27T15:26:15Z</dcterms:modified>
  <cp:revision>6</cp:revision>
  <dc:subject/>
  <dc:title>CHAMPs System</dc:title>
</cp:coreProperties>
</file>