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4E9-BF89-4B27-BD72-07A78ECA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975-6DAE-480B-ACD9-71AFE566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DB6-0498-473F-A770-62A8B3B9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1A8-3B66-4621-9370-05EEF06E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099-275F-425D-A20F-E83BA8E1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8D5-9E9A-4F6E-A5A1-1F5DA75E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42C-212B-4432-81B4-AFAA15D0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BBF-ED14-416A-A1CB-23F913C8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CFB-4FCC-4977-A3CB-8759EA20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6B7-2929-46E8-8578-FC695FD8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586-DA9F-4E60-A9AB-5298D55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A90-9739-435C-9521-B27D51E3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EDC6-519C-4101-9C45-64BE70EA6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066680"/>
          <a:ext cx="8229600" cy="556272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sp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o help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rs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boo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ext,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focus q’s (3 mi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get notebook as you 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use hand sign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sitting, writing, hel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no binder, no Q of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05120" y="34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6:32:17Z</dcterms:created>
  <dc:creator>cfisd</dc:creator>
  <dc:description/>
  <dc:language>en-US</dc:language>
  <cp:lastModifiedBy>cfisd</cp:lastModifiedBy>
  <dcterms:modified xsi:type="dcterms:W3CDTF">2008-08-26T16:32:31Z</dcterms:modified>
  <cp:revision>1</cp:revision>
  <dc:subject/>
  <dc:title>Slide 1</dc:title>
</cp:coreProperties>
</file>