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A43-21B5-4A61-BCB3-A961BE74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A573-61C7-49F0-BD47-9D1244C7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688-2365-48D6-8795-F152508D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DF47-C1CA-415C-AC06-F8AFF158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AFF-F605-405A-BA53-C301CF13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C1A-90E6-43BA-8C0F-27AB33B3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3042-2549-4975-BAC7-E49B8CC7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238-A2F2-4393-A93B-95C499BB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AC8-E795-4FAA-A24B-92FA67EA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FD74-432A-44A2-8833-F41EC1A1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E05-EA1D-4813-A316-AEEE120B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CDE7-0331-473D-B8A2-6C4C1748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4705-15F0-4064-9FEF-FB72243E3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066680"/>
          <a:ext cx="8229600" cy="556272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sp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o help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rs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boo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ext,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focus q’s (3 mi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get notebook as you 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use hand sign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= sitting, writing, hel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= no binder, no Q of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05120" y="34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6:32:17Z</dcterms:created>
  <dc:creator>cfisd</dc:creator>
  <dc:description/>
  <dc:language>en-US</dc:language>
  <cp:lastModifiedBy>cfisd</cp:lastModifiedBy>
  <dcterms:modified xsi:type="dcterms:W3CDTF">2008-08-26T16:32:31Z</dcterms:modified>
  <cp:revision>1</cp:revision>
  <dc:subject/>
  <dc:title>Slide 1</dc:title>
</cp:coreProperties>
</file>