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DD6-C1E3-497F-8076-D3803E6D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2CC-4B40-439C-B884-DD071BE1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29B1-0366-4956-B1CB-CB3BB6C5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430E-A9D2-41EB-9484-D58CA38A4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5DC-7799-4ECF-B11B-5475199A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933-0A77-49A1-8707-E11EB583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626-0088-4A9E-9703-4F438A2A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748-89FC-4416-9C9A-95DCDB01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0AA-B818-4A0C-AD8C-508CE370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5DD8-CFB1-4E25-8B2F-173A8905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FB8-BE9E-4920-AFC3-3DA5CB0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076-A17A-4830-9D58-8A3983F2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7722-8CBE-4CD6-A4E7-FD9DC2148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MP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ystem is used to set up classroom procedures for each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–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when I’m doing it righ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like if its done wro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2971800"/>
          <a:ext cx="7848720" cy="3580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throom during 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and signal for p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=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ing, aw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= talking, not wr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- 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tal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 to wh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u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I know when to be sil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-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need help what do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l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ok to help others when I am fini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a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-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m I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inished produ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tep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-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get out of my s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, h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throom during 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and signal for p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19:16:33Z</dcterms:created>
  <dc:creator>CFISD</dc:creator>
  <dc:description/>
  <dc:language>en-US</dc:language>
  <cp:lastModifiedBy>cfisd</cp:lastModifiedBy>
  <dcterms:modified xsi:type="dcterms:W3CDTF">2008-08-27T15:26:15Z</dcterms:modified>
  <cp:revision>6</cp:revision>
  <dc:subject/>
  <dc:title>CHAMPs System</dc:title>
</cp:coreProperties>
</file>