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333-EFBE-49B5-93D0-CF6C9D58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B48-F22E-45C2-963E-34EC1B50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F71-E40C-4470-BFAE-47E307B7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2EE-CB64-4339-A4D3-9596464D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8BA-8A63-4151-A57A-6D150F32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BC7-879A-4974-8953-F645F6DC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49D-E03F-4451-A3D5-4FFD174C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5B5-6388-4CC3-A53F-93215FDE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880-8013-4C37-A935-0E05D163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783-2B60-4723-903E-B554CF90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0F3-3B5A-4B85-B329-BBA5C54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FC4-3D3B-46F4-80A8-0141FF9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0F34-51C6-4326-95A4-B61884B92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is used to set up classroom procedures for each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–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when I’m doing it r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like if its done wro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2971800"/>
          <a:ext cx="7848720" cy="3580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ing, aw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talking, not wr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- 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tal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 to wh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u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I know when to be sil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-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need help what do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 to help others when I am fini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a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-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m I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inished produ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tep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-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get out of my s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, h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9:16:33Z</dcterms:created>
  <dc:creator>CFISD</dc:creator>
  <dc:description/>
  <dc:language>en-US</dc:language>
  <cp:lastModifiedBy>cfisd</cp:lastModifiedBy>
  <dcterms:modified xsi:type="dcterms:W3CDTF">2008-08-27T15:26:15Z</dcterms:modified>
  <cp:revision>6</cp:revision>
  <dc:subject/>
  <dc:title>CHAMPs System</dc:title>
</cp:coreProperties>
</file>