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C5F98-DF56-479A-A5FA-FD4F3DF1A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27C81-5A16-4A0D-BBFE-809E1FF1B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4FF8E-FCB3-483E-8876-B1A4AC0A4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AA447-9ADA-44C2-A308-577594566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04865-015E-4F77-81E6-DF977662E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34E76-08CE-4004-823C-659B52CBC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A6E63-11B8-4107-BA3F-C88B02420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E3918-FBED-4533-8528-74177925A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B6116-14FB-4DD3-93CD-059B66AA6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B0143-6483-40F5-A11F-B386870BC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DE3FE-C4E4-4B11-B05A-28E3F4190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CDB1E-50CF-4E49-B404-A55E10794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6D82-D19A-4CB3-BBB9-B454CD2C2A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Orso Univers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ky Flore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9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hich of these locations has the most/least earthquakes, hurricanes, floods, e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hat is the climate like in these plac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far away is the college from most of the students hou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hat is the population in each of these loca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What percent of the population is about the average age to go to colle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hat is the land like around the area that the college will be built 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plains</a:t>
            </a:r>
            <a:endParaRPr b="0" lang="en-US" sz="4400" spc="-1" strike="noStrike">
              <a:solidFill>
                <a:srgbClr val="000000"/>
              </a:solidFill>
              <a:latin typeface="Arial"/>
            </a:endParaRPr>
          </a:p>
        </p:txBody>
      </p:sp>
      <p:graphicFrame>
        <p:nvGraphicFramePr>
          <p:cNvPr id="46" name=""/>
          <p:cNvGraphicFramePr/>
          <p:nvPr/>
        </p:nvGraphicFramePr>
        <p:xfrm>
          <a:off x="3505320" y="1371600"/>
          <a:ext cx="5181480" cy="4440240"/>
        </p:xfrm>
        <a:graphic>
          <a:graphicData uri="http://schemas.openxmlformats.org/drawingml/2006/table">
            <a:tbl>
              <a:tblPr/>
              <a:tblGrid>
                <a:gridCol w="1295280"/>
                <a:gridCol w="1295280"/>
                <a:gridCol w="1295640"/>
                <a:gridCol w="1295280"/>
              </a:tblGrid>
              <a:tr h="788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created explanation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s of floodplain in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potential flood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ley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near a creek valley. It does not affect a very large range of hou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east portion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uses higher up and farther from the creek valley are safer from the flood and houses lower down and closer to the creek valley are more likely to get floode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1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River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deep and big and there is only one in Hous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es not high up will most likely flood. Can last for week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floodplain is shallow………. And does not affect a very large range of hous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county, no specific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es don’t get too badly flooded and this type of flood usually only lasts a few hour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0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stal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located near the oce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ast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houses can be affected by ground subsidence . Lower houses by a normal storm surg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
          <p:cNvSpPr/>
          <p:nvPr/>
        </p:nvSpPr>
        <p:spPr>
          <a:xfrm>
            <a:off x="228600" y="2133720"/>
            <a:ext cx="3200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three different categories of floods? Rank them in order from strongest to weak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500 year flood or 0.2% chance floo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100 year flood or 1% chance fl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10 year flood or 10% chance flood</a:t>
            </a:r>
            <a:endParaRPr b="0" lang="en-US" sz="1800" spc="-1" strike="noStrike">
              <a:solidFill>
                <a:srgbClr val="000000"/>
              </a:solidFill>
              <a:latin typeface="Arial"/>
            </a:endParaRPr>
          </a:p>
        </p:txBody>
      </p:sp>
      <p:sp>
        <p:nvSpPr>
          <p:cNvPr id="48" name=""/>
          <p:cNvSpPr/>
          <p:nvPr/>
        </p:nvSpPr>
        <p:spPr>
          <a:xfrm>
            <a:off x="3505320" y="5791320"/>
            <a:ext cx="5181480" cy="83808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80060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09588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39152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3505320" y="51814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3505320" y="5334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505320" y="57913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h flood scenario</a:t>
            </a:r>
            <a:endParaRPr b="0" lang="en-US" sz="1000" spc="-1" strike="noStrike">
              <a:solidFill>
                <a:srgbClr val="000000"/>
              </a:solidFill>
              <a:latin typeface="Arial"/>
            </a:endParaRPr>
          </a:p>
        </p:txBody>
      </p:sp>
      <p:sp>
        <p:nvSpPr>
          <p:cNvPr id="55" name=""/>
          <p:cNvSpPr/>
          <p:nvPr/>
        </p:nvSpPr>
        <p:spPr>
          <a:xfrm>
            <a:off x="6095880" y="5791320"/>
            <a:ext cx="1295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rea, can happen anywhere.</a:t>
            </a:r>
            <a:endParaRPr b="0" lang="en-US" sz="1000" spc="-1" strike="noStrike">
              <a:solidFill>
                <a:srgbClr val="000000"/>
              </a:solidFill>
              <a:latin typeface="Arial"/>
            </a:endParaRPr>
          </a:p>
        </p:txBody>
      </p:sp>
      <p:sp>
        <p:nvSpPr>
          <p:cNvPr id="56" name=""/>
          <p:cNvSpPr/>
          <p:nvPr/>
        </p:nvSpPr>
        <p:spPr>
          <a:xfrm>
            <a:off x="7467480" y="5867280"/>
            <a:ext cx="114300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nger the flood lasts the more houses that get flooded. </a:t>
            </a:r>
            <a:endParaRPr b="0" lang="en-US" sz="1000" spc="-1" strike="noStrike">
              <a:solidFill>
                <a:srgbClr val="000000"/>
              </a:solidFill>
              <a:latin typeface="Arial"/>
            </a:endParaRPr>
          </a:p>
        </p:txBody>
      </p:sp>
      <p:sp>
        <p:nvSpPr>
          <p:cNvPr id="57" name=""/>
          <p:cNvSpPr/>
          <p:nvPr/>
        </p:nvSpPr>
        <p:spPr>
          <a:xfrm>
            <a:off x="4800600" y="5867280"/>
            <a:ext cx="129528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4876920" y="5791320"/>
            <a:ext cx="1218960" cy="824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loodplain starts at a bayou or a sewer and can reach far away houses by “ponding” in the street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 Data</a:t>
            </a:r>
            <a:endParaRPr b="0" lang="en-US" sz="4400" spc="-1" strike="noStrike">
              <a:solidFill>
                <a:srgbClr val="000000"/>
              </a:solidFill>
              <a:latin typeface="Arial"/>
            </a:endParaRPr>
          </a:p>
        </p:txBody>
      </p:sp>
      <p:graphicFrame>
        <p:nvGraphicFramePr>
          <p:cNvPr id="60"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sh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wa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Hurricane Data</a:t>
            </a:r>
            <a:endParaRPr b="0" lang="en-US" sz="4400" spc="-1" strike="noStrike">
              <a:solidFill>
                <a:srgbClr val="000000"/>
              </a:solidFill>
              <a:latin typeface="Arial"/>
            </a:endParaRPr>
          </a:p>
        </p:txBody>
      </p:sp>
      <p:graphicFrame>
        <p:nvGraphicFramePr>
          <p:cNvPr id="62" name=""/>
          <p:cNvGraphicFramePr/>
          <p:nvPr/>
        </p:nvGraphicFramePr>
        <p:xfrm>
          <a:off x="3505320" y="1676520"/>
          <a:ext cx="5029200" cy="3873240"/>
        </p:xfrm>
        <a:graphic>
          <a:graphicData uri="http://schemas.openxmlformats.org/drawingml/2006/table">
            <a:tbl>
              <a:tblPr/>
              <a:tblGrid>
                <a:gridCol w="1257480"/>
                <a:gridCol w="1257120"/>
                <a:gridCol w="1257480"/>
                <a:gridCol w="1257120"/>
              </a:tblGrid>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533520" y="1752480"/>
            <a:ext cx="2133360" cy="4510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What is storm surge? Storm surge is a large dome of water often 50 to 100 miles wide that sweeps across the coastline near where a hurricane makes landfa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Why is storm surge such a huge problem in the Gulf of Mexico instead of places like the Atlantic Ocean? Because there are no structures to be knocked down or broken in the Atlantic oce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Explain the three causes of storm surge. A hurricane creates high and low pressure areas, the low pressure starts to suck the ocean towards the middle of the storm, and the wave and current action associated with the tide all contribute to a storm sur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What makes storm surge so devastating? Most buildings are not designed to withstand that kind of force so practically anything in the storm surges way gets knocked dow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ault Data</a:t>
            </a:r>
            <a:endParaRPr b="0" lang="en-US" sz="4400" spc="-1" strike="noStrike">
              <a:solidFill>
                <a:srgbClr val="000000"/>
              </a:solidFill>
              <a:latin typeface="Arial"/>
            </a:endParaRPr>
          </a:p>
        </p:txBody>
      </p:sp>
      <p:graphicFrame>
        <p:nvGraphicFramePr>
          <p:cNvPr id="65" name=""/>
          <p:cNvGraphicFramePr/>
          <p:nvPr/>
        </p:nvGraphicFramePr>
        <p:xfrm>
          <a:off x="3200400" y="1752480"/>
          <a:ext cx="5562360" cy="3733920"/>
        </p:xfrm>
        <a:graphic>
          <a:graphicData uri="http://schemas.openxmlformats.org/drawingml/2006/table">
            <a:tbl>
              <a:tblPr/>
              <a:tblGrid>
                <a:gridCol w="1854000"/>
                <a:gridCol w="1856520"/>
                <a:gridCol w="1851840"/>
              </a:tblGrid>
              <a:tr h="793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Repair Cos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5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
          <p:cNvSpPr/>
          <p:nvPr/>
        </p:nvSpPr>
        <p:spPr>
          <a:xfrm>
            <a:off x="609480" y="2133720"/>
            <a:ext cx="1676520" cy="2890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The images included on the map are examples of which kind of weather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How far are Harris County’s faults moving per y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How would faults and weathering impact your University?</a:t>
            </a:r>
            <a:r>
              <a:rPr b="0" lang="en-US" sz="1200" spc="-1" strike="noStrike">
                <a:solidFill>
                  <a:srgbClr val="ff0000"/>
                </a:solidFill>
                <a:latin typeface="Arial"/>
              </a:rPr>
              <a:t> </a:t>
            </a:r>
            <a:endParaRPr b="0" lang="en-US" sz="12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20:25:21Z</dcterms:created>
  <dc:creator>.</dc:creator>
  <dc:description/>
  <dc:language>en-US</dc:language>
  <cp:lastModifiedBy>CFISD</cp:lastModifiedBy>
  <dcterms:modified xsi:type="dcterms:W3CDTF">2008-09-11T11:39:05Z</dcterms:modified>
  <cp:revision>5</cp:revision>
  <dc:subject/>
  <dc:title>Building Orso University</dc:title>
</cp:coreProperties>
</file>