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7E4EFB-1803-45A7-B63F-EC61789171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69CC2B-9C15-4DEB-9C6B-C58B62F0D2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2F6986-99A5-427E-AF23-2D6FF1A61E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569846-6FD1-4726-911F-19FBA41D56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343C64-AC4A-40D0-960A-02FD083A6F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D94DEA-C156-4E1D-A523-FDA6E291CD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829248-52A0-4468-9612-F402412365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9F9157-95C3-42CD-BD6F-12A4A13591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3A9427-BDB6-45B5-BA76-A94AB8E468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58C74-0493-4E5B-8264-D468F74B58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43E9D-38CA-47E8-80FB-F49AE30AED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902507-8C89-473A-8856-FE7A3BD00B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FB281-01D5-44B4-927D-562A634F1A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04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ilding Orso University</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cky Flores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ptember 9 2008</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k</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Which of these locations has the most/least earthquakes, hurricanes, floods, ec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What is the climate like in these plac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How far away is the college from most of the students hous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What is the population in each of these location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What percent of the population is about the average age to go to colleg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What is the land like around the area that the college will be built on?</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quire-Floodplains</a:t>
            </a:r>
            <a:endParaRPr b="0" lang="en-US" sz="4400" spc="-1" strike="noStrike">
              <a:solidFill>
                <a:srgbClr val="000000"/>
              </a:solidFill>
              <a:latin typeface="Arial"/>
            </a:endParaRPr>
          </a:p>
        </p:txBody>
      </p:sp>
      <p:graphicFrame>
        <p:nvGraphicFramePr>
          <p:cNvPr id="46" name=""/>
          <p:cNvGraphicFramePr/>
          <p:nvPr/>
        </p:nvGraphicFramePr>
        <p:xfrm>
          <a:off x="3505320" y="1371600"/>
          <a:ext cx="5181480" cy="4440240"/>
        </p:xfrm>
        <a:graphic>
          <a:graphicData uri="http://schemas.openxmlformats.org/drawingml/2006/table">
            <a:tbl>
              <a:tblPr/>
              <a:tblGrid>
                <a:gridCol w="1295280"/>
                <a:gridCol w="1295280"/>
                <a:gridCol w="1295640"/>
                <a:gridCol w="1295280"/>
              </a:tblGrid>
              <a:tr h="78840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of floodplai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created explanation of floodplai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tions of floodplain in Harris Coun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lanation of potential flooding</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91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lley Floodplai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floodplain is near a creek valley. It does not affect a very large range of hous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rtheast portion of Harris coun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ouses higher up and farther from the creek valley are safer from the flood and houses lower down and closer to the creek valley are more likely to get flooded</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1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jor River Floodplai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floodplain is deep and big and there is only one in Houst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ong the San Jacinto River.</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uses not high up will most likely flood. Can last for weeks.</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553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llow Floodplai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floodplain is shallow………. And does not affect a very large range of house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t of the county, no specific are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uses don’t get too badly flooded and this type of flood usually only lasts a few hours.</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400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astal Floodplai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floodplain is located near the ocea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theast part of Harris coun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houses can be affected by ground subsidence . Lower houses by a normal storm surge</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7" name=""/>
          <p:cNvSpPr/>
          <p:nvPr/>
        </p:nvSpPr>
        <p:spPr>
          <a:xfrm>
            <a:off x="228600" y="2133720"/>
            <a:ext cx="32004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are the three different categories of floods? Rank them in order from strongest to weake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500 year flood or 0.2% chance floo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100 year flood or 1% chance floo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10 year flood or 10% chance flood</a:t>
            </a:r>
            <a:endParaRPr b="0" lang="en-US" sz="1800" spc="-1" strike="noStrike">
              <a:solidFill>
                <a:srgbClr val="000000"/>
              </a:solidFill>
              <a:latin typeface="Arial"/>
            </a:endParaRPr>
          </a:p>
        </p:txBody>
      </p:sp>
      <p:sp>
        <p:nvSpPr>
          <p:cNvPr id="48" name=""/>
          <p:cNvSpPr/>
          <p:nvPr/>
        </p:nvSpPr>
        <p:spPr>
          <a:xfrm>
            <a:off x="3505320" y="5791320"/>
            <a:ext cx="5181480" cy="83808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4800600" y="579132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6095880" y="579132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7391520" y="579132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flipV="1">
            <a:off x="3505320" y="5181480"/>
            <a:ext cx="0" cy="10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flipV="1">
            <a:off x="3505320" y="533412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3505320" y="5791320"/>
            <a:ext cx="1295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fth flood scenario</a:t>
            </a:r>
            <a:endParaRPr b="0" lang="en-US" sz="1000" spc="-1" strike="noStrike">
              <a:solidFill>
                <a:srgbClr val="000000"/>
              </a:solidFill>
              <a:latin typeface="Arial"/>
            </a:endParaRPr>
          </a:p>
        </p:txBody>
      </p:sp>
      <p:sp>
        <p:nvSpPr>
          <p:cNvPr id="55" name=""/>
          <p:cNvSpPr/>
          <p:nvPr/>
        </p:nvSpPr>
        <p:spPr>
          <a:xfrm>
            <a:off x="6095880" y="5791320"/>
            <a:ext cx="12956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area, can happen anywhere.</a:t>
            </a:r>
            <a:endParaRPr b="0" lang="en-US" sz="1000" spc="-1" strike="noStrike">
              <a:solidFill>
                <a:srgbClr val="000000"/>
              </a:solidFill>
              <a:latin typeface="Arial"/>
            </a:endParaRPr>
          </a:p>
        </p:txBody>
      </p:sp>
      <p:sp>
        <p:nvSpPr>
          <p:cNvPr id="56" name=""/>
          <p:cNvSpPr/>
          <p:nvPr/>
        </p:nvSpPr>
        <p:spPr>
          <a:xfrm>
            <a:off x="7467480" y="5867280"/>
            <a:ext cx="1143000" cy="7030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onger the flood lasts the more houses that get flooded. </a:t>
            </a:r>
            <a:endParaRPr b="0" lang="en-US" sz="1000" spc="-1" strike="noStrike">
              <a:solidFill>
                <a:srgbClr val="000000"/>
              </a:solidFill>
              <a:latin typeface="Arial"/>
            </a:endParaRPr>
          </a:p>
        </p:txBody>
      </p:sp>
      <p:sp>
        <p:nvSpPr>
          <p:cNvPr id="57" name=""/>
          <p:cNvSpPr/>
          <p:nvPr/>
        </p:nvSpPr>
        <p:spPr>
          <a:xfrm>
            <a:off x="4800600" y="5867280"/>
            <a:ext cx="1295280" cy="2145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4876920" y="5791320"/>
            <a:ext cx="1218960" cy="8240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floodplain starts at a bayou or a sewer and can reach far away houses by “ponding” in the streets</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quire-Flood Data</a:t>
            </a:r>
            <a:endParaRPr b="0" lang="en-US" sz="4400" spc="-1" strike="noStrike">
              <a:solidFill>
                <a:srgbClr val="000000"/>
              </a:solidFill>
              <a:latin typeface="Arial"/>
            </a:endParaRPr>
          </a:p>
        </p:txBody>
      </p:sp>
      <p:graphicFrame>
        <p:nvGraphicFramePr>
          <p:cNvPr id="60" name=""/>
          <p:cNvGraphicFramePr/>
          <p:nvPr/>
        </p:nvGraphicFramePr>
        <p:xfrm>
          <a:off x="457200" y="1600200"/>
          <a:ext cx="8229600" cy="4525920"/>
        </p:xfrm>
        <a:graphic>
          <a:graphicData uri="http://schemas.openxmlformats.org/drawingml/2006/table">
            <a:tbl>
              <a:tblPr/>
              <a:tblGrid>
                <a:gridCol w="2057400"/>
                <a:gridCol w="2057400"/>
                <a:gridCol w="2057400"/>
                <a:gridCol w="2057400"/>
              </a:tblGrid>
              <a:tr h="7570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tio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of floodplai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atershe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looding Threat  Level</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09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328 Bay Area Blvd. Houston,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of lowest ris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40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688 FM 1960, Huffman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of lowest ris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74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9608 Liberty Ln., Tomball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of lowest ris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09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0 Oats Rd. Houston,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loodwa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70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00 Travis St., Houston,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of lowest ris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quire-Hurricane Data</a:t>
            </a:r>
            <a:endParaRPr b="0" lang="en-US" sz="4400" spc="-1" strike="noStrike">
              <a:solidFill>
                <a:srgbClr val="000000"/>
              </a:solidFill>
              <a:latin typeface="Arial"/>
            </a:endParaRPr>
          </a:p>
        </p:txBody>
      </p:sp>
      <p:graphicFrame>
        <p:nvGraphicFramePr>
          <p:cNvPr id="62" name=""/>
          <p:cNvGraphicFramePr/>
          <p:nvPr/>
        </p:nvGraphicFramePr>
        <p:xfrm>
          <a:off x="3505320" y="1676520"/>
          <a:ext cx="5029200" cy="3873240"/>
        </p:xfrm>
        <a:graphic>
          <a:graphicData uri="http://schemas.openxmlformats.org/drawingml/2006/table">
            <a:tbl>
              <a:tblPr/>
              <a:tblGrid>
                <a:gridCol w="1257480"/>
                <a:gridCol w="1257120"/>
                <a:gridCol w="1257480"/>
                <a:gridCol w="1257120"/>
              </a:tblGrid>
              <a:tr h="7030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tio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egory of hurricane that would require an evacu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orm surge height that would flood the campu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rricane Threat Level</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328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328 Bay Area Blvd. Houston, TX</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egory 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46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688 FM 1960, Huffman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46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9608 Liberty Ln., Tomball TX</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28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0 Oats Rd. Houston,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50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00 Travis St., Houston,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3" name=""/>
          <p:cNvSpPr/>
          <p:nvPr/>
        </p:nvSpPr>
        <p:spPr>
          <a:xfrm>
            <a:off x="533520" y="1752480"/>
            <a:ext cx="2133360" cy="4510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What is storm surge? Storm surge is a large dome of water often 50 to 100 miles wide that sweeps across the coastline near where a hurricane makes landfal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Why is storm surge such a huge problem in the Gulf of Mexico instead of places like the Atlantic Ocean? Because there are no structures to be knocked down or broken in the Atlantic ocea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 Explain the three causes of storm surge. A hurricane creates high and low pressure areas, the low pressure starts to suck the ocean towards the middle of the storm, and the wave and current action associated with the tide all contribute to a storm surg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 What makes storm surge so devastating? Most buildings are not designed to withstand that kind of force so practically anything in the storm surges way gets knocked dow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quire-Fault Data</a:t>
            </a:r>
            <a:endParaRPr b="0" lang="en-US" sz="4400" spc="-1" strike="noStrike">
              <a:solidFill>
                <a:srgbClr val="000000"/>
              </a:solidFill>
              <a:latin typeface="Arial"/>
            </a:endParaRPr>
          </a:p>
        </p:txBody>
      </p:sp>
      <p:graphicFrame>
        <p:nvGraphicFramePr>
          <p:cNvPr id="65" name=""/>
          <p:cNvGraphicFramePr/>
          <p:nvPr/>
        </p:nvGraphicFramePr>
        <p:xfrm>
          <a:off x="3200400" y="1752480"/>
          <a:ext cx="5562360" cy="3733920"/>
        </p:xfrm>
        <a:graphic>
          <a:graphicData uri="http://schemas.openxmlformats.org/drawingml/2006/table">
            <a:tbl>
              <a:tblPr/>
              <a:tblGrid>
                <a:gridCol w="1854000"/>
                <a:gridCol w="1856520"/>
                <a:gridCol w="1851840"/>
              </a:tblGrid>
              <a:tr h="7938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ults Nearby (High, Medium, Low)</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ed Repair Costs</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954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328 Bay Area Blvd. Houston,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diu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79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688 FM 1960, Huffman TX</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w</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68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9608 Liberty Ln. Tomball TX</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w</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18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0 Oats Rd. Houston,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gh</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79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00 Travis St., Houston, TX</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diu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6" name=""/>
          <p:cNvSpPr/>
          <p:nvPr/>
        </p:nvSpPr>
        <p:spPr>
          <a:xfrm>
            <a:off x="609480" y="2133720"/>
            <a:ext cx="1676520" cy="28904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 The images included on the map are examples of which kind of weathering?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How far are Harris County’s faults moving per year?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How would faults and weathering impact your University?</a:t>
            </a:r>
            <a:r>
              <a:rPr b="0" lang="en-US" sz="1200" spc="-1" strike="noStrike">
                <a:solidFill>
                  <a:srgbClr val="ff0000"/>
                </a:solidFill>
                <a:latin typeface="Arial"/>
              </a:rPr>
              <a:t> </a:t>
            </a:r>
            <a:endParaRPr b="0" lang="en-US" sz="12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20:25:21Z</dcterms:created>
  <dc:creator>.</dc:creator>
  <dc:description/>
  <dc:language>en-US</dc:language>
  <cp:lastModifiedBy>CFISD</cp:lastModifiedBy>
  <dcterms:modified xsi:type="dcterms:W3CDTF">2008-09-11T11:39:05Z</dcterms:modified>
  <cp:revision>5</cp:revision>
  <dc:subject/>
  <dc:title>Building Orso University</dc:title>
</cp:coreProperties>
</file>