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DC9-32CB-44DF-B410-DBB2415B9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F46-D893-4D06-ADC4-E5024FED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DD3-8F53-4E12-98E9-66588608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1D93-41AB-448A-ADEB-A84EB960C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D2A-0D5E-4C1B-B41A-25A7B947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008-4A6B-43E0-B9C3-2291D047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2069-C92F-4965-A888-658488B1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839-4DEC-424C-BEB8-1BF29EF5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280E-27E1-4921-863A-DF12C0D3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562E-F74D-4828-ADE6-4096ADBB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1116-916E-4FE8-8A08-0CF9C7D1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D6C-9CF6-4723-ACBE-1CF91328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71B9-A2E0-42E4-838F-41D25AAE9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East India Company gained control of all Indian tra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17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East India Company defeated the Nawab of Bengal and installed a puppet ruler, which enabled British business to begin in the region and allowed the Company to control tra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British Government establishes rule over In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, 1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Company controlled most of India by 1858, British Parliament passes India Act. The India Act gave British crown control of In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an National Congress foun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dian National Congress, most of the time, was able to govern by consensus.The years before independence, the Indian National Congress was split by faction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slim League wants a separate Pakistani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lim League propose a separate Pakistani state, but found little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2:44:09Z</dcterms:created>
  <dc:creator>cfisd</dc:creator>
  <dc:description/>
  <dc:language>en-US</dc:language>
  <cp:lastModifiedBy>cfisd</cp:lastModifiedBy>
  <dcterms:modified xsi:type="dcterms:W3CDTF">2009-03-26T13:07:20Z</dcterms:modified>
  <cp:revision>2</cp:revision>
  <dc:subject/>
  <dc:title>The British East India Company gained control of all Indian trade</dc:title>
</cp:coreProperties>
</file>