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EBE-C4D8-43B9-8415-205FB957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FC8-3D7F-4CA0-85B1-8D505B08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267-CC16-46CB-8686-0AA32959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E30-7D2D-4C13-8AC8-05787F9D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ED2-0544-4384-9631-EE11790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3B0-DBE0-4D59-A242-8654831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D32-C56E-4886-B83C-32881608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47C-EBB8-4DBC-A15F-7B9C479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7FF-59EC-4060-BFA0-634F2C7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3E4-B30C-4B18-8521-5DFDB825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FB2-ECEA-478B-AF35-1FC5F2F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B89-2C8D-4DE9-902D-186233F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C0BE-AFB7-42ED-BAD8-1F2969B8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East India Company defeated the Nawab of Bengal and installed a puppet ruler, which enabled British business to begin in the region and allowed the Company to control t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Government establishes rule over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, 1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Company controlled most of India by 1858, British Parliament passes India Act. The India Act gave British crown control of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an National Congress, most of the time, was able to govern by consensus.The years before independence, the Indian National Congress was split by fac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League propose a separate Pakistani state, but found little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44:09Z</dcterms:created>
  <dc:creator>cfisd</dc:creator>
  <dc:description/>
  <dc:language>en-US</dc:language>
  <cp:lastModifiedBy>cfisd</cp:lastModifiedBy>
  <dcterms:modified xsi:type="dcterms:W3CDTF">2009-03-26T13:07:20Z</dcterms:modified>
  <cp:revision>2</cp:revision>
  <dc:subject/>
  <dc:title>The British East India Company gained control of all Indian trade</dc:title>
</cp:coreProperties>
</file>