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B960-D3AD-421D-8C13-E380CA0B1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24E-E267-474F-BF09-EA3FE3A7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E3DB-A986-4CE9-8BAF-EA6193E3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BD80-8909-4543-AABA-5A6BEF49F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567-6A56-4A76-91EF-2BC28AFF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A5F8-4DD6-44AA-965F-0876ED78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860-CB78-4E21-BDCA-957BDC61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6A0-E59B-47BF-84E1-0A40FA31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221F-D948-4B55-A0E5-588B5FAE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2C8E-E903-4DB6-8EEE-03012261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3FDA-481E-49CE-B8E5-85D40828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69E-6838-4604-8D17-AB4899A7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BD65-624E-4A3E-AA30-A6AC7F451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East India Company defeated the Nawab of Bengal and installed a puppet ruler, which enabled British business to begin in the region and allowed the Company to control t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Government establishes rule over 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, 1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Company controlled most of India by 1858, British Parliament passes India Act. The India Act gave British crown control of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an National Congress, most of the time, was able to govern by consensus.The years before independence, the Indian National Congress was split by fac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 League propose a separate Pakistani state, but found little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44:09Z</dcterms:created>
  <dc:creator>cfisd</dc:creator>
  <dc:description/>
  <dc:language>en-US</dc:language>
  <cp:lastModifiedBy>cfisd</cp:lastModifiedBy>
  <dcterms:modified xsi:type="dcterms:W3CDTF">2009-03-26T13:07:20Z</dcterms:modified>
  <cp:revision>2</cp:revision>
  <dc:subject/>
  <dc:title>The British East India Company gained control of all Indian trade</dc:title>
</cp:coreProperties>
</file>