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2FC-0D89-4D1D-AF02-CA933354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28E-1F22-48C2-B1AF-DF69C7D8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CF3-73E9-405E-8AAC-5AA91F82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A25-0255-419B-A737-69D27D51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698-79A6-4FA5-BB65-898ACC29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4C1-4FB0-433B-908B-16E85B83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7D6-0A21-4505-8A1D-2CFA7391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759-73A8-48C9-A7A6-D0F3F636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89B-6F20-47AF-97B7-907B1065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645-CF1F-497E-9258-90C8DDC7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91D-EEFE-4271-ADD7-3B48F027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A51-6B18-400A-9150-3E12DF52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58C9-94DC-4887-902C-C2ECBFB2B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East India Company gained control of all Indian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7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East India Company defeated the Nawab of Bengal and installed a puppet ruler, which enabled British business to begin in the region and allowed the Company to control t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Government establishes rule over 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, 1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Company controlled most of India by 1858, British Parliament passes India Act. The India Act gave British crown control of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an National Congress foun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dian National Congress, most of the time, was able to govern by consensus.The years before independence, the Indian National Congress was split by faction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lim League wants a separate Pakistani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 League propose a separate Pakistani state, but found little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44:09Z</dcterms:created>
  <dc:creator>cfisd</dc:creator>
  <dc:description/>
  <dc:language>en-US</dc:language>
  <cp:lastModifiedBy>cfisd</cp:lastModifiedBy>
  <dcterms:modified xsi:type="dcterms:W3CDTF">2009-03-26T13:07:20Z</dcterms:modified>
  <cp:revision>2</cp:revision>
  <dc:subject/>
  <dc:title>The British East India Company gained control of all Indian trade</dc:title>
</cp:coreProperties>
</file>