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4E7B-D250-4EBB-92B0-BA1744375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4AE2-1748-4848-8458-50EE4290F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7C2C-4939-4B3F-8B76-5414D5FC6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1503-DAA1-41A0-AC7A-C35A1D20D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C3D8-DDA6-474B-9882-84C183C3C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EFD5-59DE-4511-A4E2-6CE6D6F13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F9B9-EEEB-4D93-B6A0-840B2B40C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2145-FE79-4CE6-AEF2-B895E4317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B291-3E88-4C6C-AB1A-12B0FB671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60F0-51B8-442D-8F00-32086BB65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34B3-1E59-4409-A4EF-2666184ED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449E-0EBF-4C4C-90F3-0D17402ED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3B39C-A7D6-4227-BDAE-5229517A3A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4.png"/><Relationship Id="rId7" Type="http://schemas.openxmlformats.org/officeDocument/2006/relationships/hyperlink" Target="http://en.wikipedia.org/wiki/Image:Astraeus.commons.b737-300.g-stra.arp.2.jpg" TargetMode="External"/><Relationship Id="rId8" Type="http://schemas.openxmlformats.org/officeDocument/2006/relationships/image" Target="../media/image6.jpe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Astraeus.commons.b737-300.g-stra.arp.2.jpg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cfisd.net/" TargetMode="External"/><Relationship Id="rId4" Type="http://schemas.openxmlformats.org/officeDocument/2006/relationships/hyperlink" Target="http://www.cfisd.net/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ak of Bul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1"/>
          <a:srcRect l="18867" t="20599" r="5663" b="1399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reak of Bul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8"/>
          <p:cNvSpPr txBox="1"/>
          <p:nvPr/>
        </p:nvSpPr>
        <p:spPr>
          <a:xfrm>
            <a:off x="1523880" y="2286000"/>
            <a:ext cx="2629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an Francisco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Line 9"/>
          <p:cNvSpPr/>
          <p:nvPr/>
        </p:nvSpPr>
        <p:spPr>
          <a:xfrm flipH="1">
            <a:off x="380880" y="2590920"/>
            <a:ext cx="99072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rcRect l="20758" t="20599" r="39625" b="13993"/>
          <a:stretch/>
        </p:blipFill>
        <p:spPr>
          <a:xfrm>
            <a:off x="4343400" y="0"/>
            <a:ext cx="48006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"/>
          <p:cNvPicPr/>
          <p:nvPr/>
        </p:nvPicPr>
        <p:blipFill>
          <a:blip r:embed="rId2"/>
          <a:srcRect l="42139" t="43136" r="26417" b="49599"/>
          <a:stretch/>
        </p:blipFill>
        <p:spPr>
          <a:xfrm>
            <a:off x="-2362320" y="4572000"/>
            <a:ext cx="2590920" cy="631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reak of Bul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6095880" y="1676520"/>
            <a:ext cx="2629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an Francisco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Line 6"/>
          <p:cNvSpPr/>
          <p:nvPr/>
        </p:nvSpPr>
        <p:spPr>
          <a:xfrm flipH="1">
            <a:off x="4723920" y="2209680"/>
            <a:ext cx="121932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05556E-006 -2.5029E-006 C 0.06285 0.00232 0.12431 -0.00255 0.18698 -0.0044 C 0.19428 -0.01112 0.20139 -0.01367 0.2099 -0.01761 C 0.22379 -0.03638 0.2382 -0.04195 0.25747 -0.04589 C 0.26563 -0.04959 0.27605 -0.05238 0.28369 -0.0591 C 0.29219 -0.06674 0.29688 -0.07462 0.30643 -0.0788 C 0.31129 -0.08853 0.31754 -0.09154 0.32466 -0.09641 C 0.32639 -0.09757 0.32778 -0.09965 0.32952 -0.10081 C 0.33264 -0.10267 0.33924 -0.10498 0.33924 -0.10498 C 0.35018 -0.11981 0.33855 -0.10614 0.34896 -0.11379 C 0.36598 -0.1263 0.35278 -0.12005 0.36389 -0.12468 C 0.37553 -0.13488 0.39011 -0.13766 0.40313 -0.14229 C 0.42032 -0.15782 0.39428 -0.13534 0.41476 -0.14878 C 0.41823 -0.1511 0.42136 -0.15458 0.42466 -0.15759 C 0.42622 -0.15898 0.42778 -0.1606 0.42935 -0.16199 C 0.43091 -0.16338 0.43421 -0.1664 0.43421 -0.1664 C 0.43803 -0.17984 0.44705 -0.18494 0.45573 -0.19258 C 0.46129 -0.19768 0.46303 -0.2051 0.46876 -0.2102 C 0.47171 -0.22155 0.4757 -0.21831 0.48195 -0.22549 C 0.48924 -0.23407 0.49063 -0.23917 0.49653 -0.24728 E">
                                      <p:cBhvr>
                                        <p:cTn id="11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rcRect l="20758" t="20599" r="39625" b="13993"/>
          <a:stretch/>
        </p:blipFill>
        <p:spPr>
          <a:xfrm>
            <a:off x="1219320" y="0"/>
            <a:ext cx="792468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"/>
          <p:cNvPicPr/>
          <p:nvPr/>
        </p:nvPicPr>
        <p:blipFill>
          <a:blip r:embed="rId2"/>
          <a:srcRect l="42139" t="43136" r="26417" b="49599"/>
          <a:stretch/>
        </p:blipFill>
        <p:spPr>
          <a:xfrm>
            <a:off x="228600" y="2514600"/>
            <a:ext cx="1447920" cy="500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Nike Promotion Truck"/>
          <p:cNvPicPr/>
          <p:nvPr/>
        </p:nvPicPr>
        <p:blipFill>
          <a:blip r:embed="rId3"/>
          <a:stretch/>
        </p:blipFill>
        <p:spPr>
          <a:xfrm>
            <a:off x="1371600" y="2133720"/>
            <a:ext cx="1600200" cy="479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"/>
          <p:cNvPicPr/>
          <p:nvPr/>
        </p:nvPicPr>
        <p:blipFill>
          <a:blip r:embed="rId4"/>
          <a:srcRect l="15054" t="25811" r="45162" b="34050"/>
          <a:stretch/>
        </p:blipFill>
        <p:spPr>
          <a:xfrm>
            <a:off x="228600" y="2438280"/>
            <a:ext cx="762120" cy="577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BNSF_5350_20040808_Prairie_du_Chien_WI"/>
          <p:cNvPicPr/>
          <p:nvPr/>
        </p:nvPicPr>
        <p:blipFill>
          <a:blip r:embed="rId5"/>
          <a:srcRect l="34640" t="28275" r="13369" b="16419"/>
          <a:stretch/>
        </p:blipFill>
        <p:spPr>
          <a:xfrm>
            <a:off x="1219320" y="2743200"/>
            <a:ext cx="1600200" cy="838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"/>
          <p:cNvPicPr/>
          <p:nvPr/>
        </p:nvPicPr>
        <p:blipFill>
          <a:blip r:embed="rId6"/>
          <a:srcRect l="15054" t="25811" r="45162" b="34050"/>
          <a:stretch/>
        </p:blipFill>
        <p:spPr>
          <a:xfrm>
            <a:off x="228600" y="2666880"/>
            <a:ext cx="685800" cy="51912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6"/>
          <p:cNvSpPr/>
          <p:nvPr/>
        </p:nvSpPr>
        <p:spPr>
          <a:xfrm>
            <a:off x="4343400" y="22860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eak of Bul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8" descr="180px-Astraeus">
            <a:hlinkClick r:id="rId7"/>
          </p:cNvPr>
          <p:cNvPicPr/>
          <p:nvPr/>
        </p:nvPicPr>
        <p:blipFill>
          <a:blip r:embed="rId8"/>
          <a:srcRect l="0" t="18611" r="6661" b="25577"/>
          <a:stretch/>
        </p:blipFill>
        <p:spPr>
          <a:xfrm>
            <a:off x="1143000" y="2438280"/>
            <a:ext cx="1600200" cy="685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"/>
          <p:cNvPicPr/>
          <p:nvPr/>
        </p:nvPicPr>
        <p:blipFill>
          <a:blip r:embed="rId9"/>
          <a:srcRect l="15054" t="25811" r="45162" b="34050"/>
          <a:stretch/>
        </p:blipFill>
        <p:spPr>
          <a:xfrm>
            <a:off x="228600" y="2895480"/>
            <a:ext cx="609480" cy="4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1.00811E-006 C 0.00191 -0.00533 0.01111 -0.03222 0.01476 -0.03708 C 0.01788 -0.04125 0.02048 -0.04195 0.02448 -0.0438 C 0.0283 -0.05817 0.02969 -0.07231 0.03767 -0.0832 C 0.04062 -0.09572 0.0368 -0.08436 0.04427 -0.09409 C 0.04566 -0.09595 0.04618 -0.09896 0.04757 -0.10058 C 0.05989 -0.11495 0.06371 -0.11402 0.08021 -0.11588 C 0.09774 -0.11518 0.11528 -0.11495 0.13281 -0.11379 C 0.15278 -0.11263 0.14774 -0.11356 0.16232 -0.10707 C 0.16562 -0.10568 0.17205 -0.1029 0.17205 -0.1029 C 0.17743 -0.08227 0.17378 -0.0985 0.17378 -0.05238 E">
                                      <p:cBhvr>
                                        <p:cTn id="32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4.75087E-006 C 0.00608 0.0007 0.01216 0.0007 0.01806 0.00209 C 0.02413 0.00348 0.03143 0.01043 0.03768 0.01089 C 0.05729 0.01228 0.07709 0.01252 0.0967 0.01321 C 0.09827 0.01391 0.09983 0.01483 0.10157 0.0153 C 0.10747 0.01692 0.11372 0.01761 0.11962 0.0197 C 0.12483 0.02155 0.13021 0.02804 0.13594 0.02851 C 0.15174 0.0299 0.16771 0.0299 0.18351 0.03059 C 0.20382 0.03963 0.18993 0.03476 0.22622 0.03708 C 0.2316 0.03963 0.23716 0.04125 0.24254 0.0438 C 0.27309 0.04172 0.30018 0.03662 0.33108 0.03499 C 0.36233 0.02851 0.39584 0.02897 0.42622 0.04148 C 0.42674 0.0438 0.42639 0.04681 0.42778 0.0482 C 0.42952 0.05006 0.43212 0.04936 0.43438 0.05029 C 0.44063 0.05261 0.44601 0.05516 0.45243 0.05678 C 0.45348 0.08204 0.45712 0.09154 0.45243 0.1117 C 0.45782 0.11402 0.45556 0.11379 0.45903 0.11379 E">
                                      <p:cBhvr>
                                        <p:cTn id="36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-6.48899E-006 C 0.00417 -0.0153 0.00955 -0.01507 0.01979 -0.02411 C 0.02604 -0.02967 0.03281 -0.0306 0.03941 -0.035 C 0.05226 -0.04381 0.06771 -0.04867 0.08212 -0.05238 C 0.09167 -0.0503 0.10035 -0.04682 0.1099 -0.04381 C 0.11893 -0.0408 0.12847 -0.04219 0.13785 -0.04149 C 0.14931 -0.03662 0.14913 -0.01577 0.15261 -0.00209 C 0.15365 0.00231 0.15486 0.00671 0.1559 0.01112 C 0.15643 0.0132 0.15747 0.01761 0.15747 0.01761 C 0.1559 0.03568 0.15729 0.03638 0.14601 0.04171 C 0.14774 0.04889 0.14584 0.0482 0.14931 0.0482 E">
                                      <p:cBhvr>
                                        <p:cTn id="41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2.54925E-007 C 0.00052 -0.00208 0.00139 -0.00417 0.00174 -0.00648 C 0.0026 -0.01228 0.00208 -0.0183 0.0033 -0.0241 C 0.00781 -0.04635 0.04028 -0.04495 0.05087 -0.04588 C 0.05833 -0.0526 0.05972 -0.05909 0.06892 -0.06349 C 0.08993 -0.06187 0.09913 -0.06187 0.11649 -0.05469 C 0.11684 -0.05191 0.11771 -0.03916 0.11979 -0.03499 C 0.12431 -0.02618 0.1342 -0.01761 0.14097 -0.01297 C 0.14618 0.00626 0.14271 0.02573 0.14271 0.04589 E">
                                      <p:cBhvr>
                                        <p:cTn id="56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1.00811E-006 C 0.00452 0.00208 0.01997 0.01274 0.02448 0.01761 C 0.02987 0.0234 0.03247 0.02781 0.03924 0.03059 C 0.04896 0.03916 0.05105 0.04078 0.06216 0.0438 C 0.07032 0.04611 0.08681 0.05029 0.08681 0.05029 C 0.10174 0.06025 0.08386 0.04936 0.10313 0.05701 C 0.11007 0.05979 0.11632 0.06605 0.12292 0.06998 C 0.12605 0.07184 0.12952 0.0723 0.13264 0.07439 C 0.14254 0.08111 0.15174 0.09594 0.16216 0.10058 C 0.17882 0.10799 0.18994 0.11193 0.20816 0.11379 C 0.21615 0.11657 0.22257 0.11865 0.23108 0.12027 C 0.25035 0.11888 0.26476 0.1161 0.28351 0.11379 C 0.28507 0.11309 0.28681 0.11263 0.28837 0.1117 C 0.29011 0.11054 0.29132 0.1073 0.29341 0.1073 C 0.31962 0.1066 0.34584 0.10869 0.37205 0.10938 C 0.37796 0.11216 0.38403 0.11402 0.39011 0.1161 C 0.39514 0.12584 0.40296 0.12607 0.40973 0.13348 C 0.42744 0.15272 0.41441 0.14577 0.42622 0.1511 C 0.43455 0.16222 0.45487 0.18354 0.46546 0.19049 C 0.47414 0.19629 0.48542 0.19861 0.49497 0.20139 C 0.51615 0.20764 0.53525 0.21251 0.5573 0.21436 C 0.56372 0.21738 0.57084 0.22132 0.57691 0.22549 C 0.58108 0.22827 0.58195 0.23151 0.58681 0.23198 C 0.59879 0.23314 0.61094 0.23337 0.62292 0.23406 C 0.63959 0.23708 0.65521 0.24287 0.67205 0.24287 E">
                                      <p:cBhvr>
                                        <p:cTn id="60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8.74855E-006 C 0.00191 -0.01043 0.00243 -0.01437 0.00816 -0.02202 C 0.00868 -0.03291 0.00885 -0.04404 0.00972 -0.05493 C 0.01042 -0.06235 0.01806 -0.07463 0.01806 -0.07463 C 0.02187 -0.09016 0.03385 -0.10174 0.04427 -0.10962 C 0.04601 -0.11101 0.04757 -0.1124 0.04913 -0.11403 C 0.05087 -0.11588 0.05208 -0.11889 0.05399 -0.12052 C 0.05746 -0.12353 0.06198 -0.12399 0.06562 -0.127 C 0.07899 -0.1379 0.07483 -0.13488 0.0901 -0.14021 C 0.11233 -0.13952 0.1349 -0.13929 0.15729 -0.1379 C 0.1625 -0.13767 0.17205 -0.13141 0.17205 -0.13141 C 0.17448 -0.12191 0.17639 -0.1124 0.17865 -0.1029 C 0.17917 -0.08761 0.17934 -0.07231 0.18038 -0.05702 C 0.18056 -0.0547 0.18073 -0.05215 0.18194 -0.05053 C 0.18316 -0.04891 0.18681 -0.04821 0.18681 -0.04821 E">
                                      <p:cBhvr>
                                        <p:cTn id="75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2.47972E-006 C 0.07275 0.00417 0.14514 0.00741 0.21806 0.0088 C 0.23733 0.00788 0.25504 0.00788 0.27379 0.0044 C 0.28733 0.00185 0.3 -0.00441 0.3132 -0.00858 C 0.31927 -0.01275 0.32466 -0.01901 0.33108 -0.02179 C 0.33681 -0.02434 0.34323 -0.02457 0.34914 -0.02619 C 0.35712 -0.03268 0.36546 -0.03639 0.37379 -0.04149 C 0.38004 -0.04519 0.38542 -0.05122 0.39167 -0.05469 C 0.39549 -0.05678 0.39948 -0.05771 0.4033 -0.0591 C 0.40764 -0.06072 0.41632 -0.06327 0.41632 -0.06327 C 0.43455 -0.07926 0.45365 -0.0832 0.47379 -0.09177 C 0.48351 -0.10475 0.49827 -0.10267 0.51146 -0.10498 C 0.51684 -0.1073 0.5224 -0.10916 0.52778 -0.11147 C 0.53264 -0.12121 0.54011 -0.12399 0.54757 -0.12909 C 0.54931 -0.13025 0.5507 -0.13233 0.55243 -0.13349 C 0.55556 -0.13534 0.56233 -0.13766 0.56233 -0.13766 C 0.58733 -0.13558 0.59375 -0.13372 0.61962 -0.13558 C 0.63125 -0.14044 0.64202 -0.14461 0.65417 -0.14647 C 0.65973 -0.14902 0.66546 -0.15342 0.67049 -0.15736 C 0.67396 -0.16014 0.68039 -0.16617 0.68039 -0.16617 C 0.68091 -0.16848 0.68056 -0.1715 0.68195 -0.17289 C 0.68473 -0.17567 0.69184 -0.17706 0.69184 -0.17706 C 0.69896 -0.19166 0.69028 -0.17729 0.70157 -0.18587 C 0.71823 -0.19861 0.69688 -0.18841 0.71146 -0.19467 C 0.7125 -0.19676 0.7132 -0.19954 0.71476 -0.20116 C 0.71615 -0.20255 0.71841 -0.20186 0.71962 -0.20348 C 0.72136 -0.2058 0.72136 -0.20974 0.72292 -0.21228 E">
                                      <p:cBhvr>
                                        <p:cTn id="79" dur="1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80520" y="914040"/>
            <a:ext cx="853452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eak of Bul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the process of placing imported cargo on trains, planes, and trucks to transport them to tertiary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etch break of bulk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art O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art Tw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10"/>
          <p:cNvGrpSpPr/>
          <p:nvPr/>
        </p:nvGrpSpPr>
        <p:grpSpPr>
          <a:xfrm>
            <a:off x="838080" y="4952880"/>
            <a:ext cx="1905120" cy="1511280"/>
            <a:chOff x="838080" y="4952880"/>
            <a:chExt cx="1905120" cy="1511280"/>
          </a:xfrm>
        </p:grpSpPr>
        <p:pic>
          <p:nvPicPr>
            <p:cNvPr id="63" name="Picture 4" descr=""/>
            <p:cNvPicPr/>
            <p:nvPr/>
          </p:nvPicPr>
          <p:blipFill>
            <a:blip r:embed="rId1"/>
            <a:srcRect l="42139" t="43136" r="26417" b="49599"/>
            <a:stretch/>
          </p:blipFill>
          <p:spPr>
            <a:xfrm>
              <a:off x="838080" y="4952880"/>
              <a:ext cx="1828800" cy="5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8"/>
            <p:cNvSpPr/>
            <p:nvPr/>
          </p:nvSpPr>
          <p:spPr>
            <a:xfrm>
              <a:off x="838080" y="563868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hip comes to the port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Text Box 9"/>
          <p:cNvSpPr/>
          <p:nvPr/>
        </p:nvSpPr>
        <p:spPr>
          <a:xfrm>
            <a:off x="5715000" y="480060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s leave using railroads, airports, and high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5" descr="180px-Astraeus">
            <a:hlinkClick r:id="rId1"/>
          </p:cNvPr>
          <p:cNvPicPr/>
          <p:nvPr/>
        </p:nvPicPr>
        <p:blipFill>
          <a:blip r:embed="rId2"/>
          <a:srcRect l="0" t="18611" r="6661" b="25577"/>
          <a:stretch/>
        </p:blipFill>
        <p:spPr>
          <a:xfrm>
            <a:off x="5410080" y="2895480"/>
            <a:ext cx="1600200" cy="6858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ssignment Help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 _x000b_</a:t>
            </a:r>
            <a:br>
              <a:rPr sz="28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int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on’t confuse infrastructure with type of transportation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406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rastructure = Air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 of transportation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rastructure = Highw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 of transportation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8" descr="Nike Promotion Truck"/>
          <p:cNvPicPr/>
          <p:nvPr/>
        </p:nvPicPr>
        <p:blipFill>
          <a:blip r:embed="rId5"/>
          <a:stretch/>
        </p:blipFill>
        <p:spPr>
          <a:xfrm>
            <a:off x="5562720" y="5486400"/>
            <a:ext cx="2743200" cy="824040"/>
          </a:xfrm>
          <a:prstGeom prst="rect">
            <a:avLst/>
          </a:prstGeom>
          <a:ln w="0">
            <a:noFill/>
          </a:ln>
        </p:spPr>
      </p:pic>
      <p:sp>
        <p:nvSpPr>
          <p:cNvPr id="70" name="Oval 7"/>
          <p:cNvSpPr/>
          <p:nvPr/>
        </p:nvSpPr>
        <p:spPr>
          <a:xfrm>
            <a:off x="3429000" y="2286000"/>
            <a:ext cx="2133720" cy="76212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8"/>
          <p:cNvSpPr/>
          <p:nvPr/>
        </p:nvSpPr>
        <p:spPr>
          <a:xfrm>
            <a:off x="3657600" y="4114800"/>
            <a:ext cx="2133720" cy="76212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Group 11"/>
          <p:cNvGrpSpPr/>
          <p:nvPr/>
        </p:nvGrpSpPr>
        <p:grpSpPr>
          <a:xfrm>
            <a:off x="5486400" y="2895480"/>
            <a:ext cx="1447920" cy="609840"/>
            <a:chOff x="5486400" y="2895480"/>
            <a:chExt cx="1447920" cy="609840"/>
          </a:xfrm>
        </p:grpSpPr>
        <p:sp>
          <p:nvSpPr>
            <p:cNvPr id="73" name="Line 9"/>
            <p:cNvSpPr/>
            <p:nvPr/>
          </p:nvSpPr>
          <p:spPr>
            <a:xfrm>
              <a:off x="5486400" y="2895480"/>
              <a:ext cx="1447920" cy="609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10"/>
            <p:cNvSpPr/>
            <p:nvPr/>
          </p:nvSpPr>
          <p:spPr>
            <a:xfrm flipH="1">
              <a:off x="5638320" y="2895480"/>
              <a:ext cx="1219320" cy="6098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Group 12"/>
          <p:cNvGrpSpPr/>
          <p:nvPr/>
        </p:nvGrpSpPr>
        <p:grpSpPr>
          <a:xfrm>
            <a:off x="5867280" y="5334120"/>
            <a:ext cx="2133360" cy="990000"/>
            <a:chOff x="5867280" y="5334120"/>
            <a:chExt cx="2133360" cy="990000"/>
          </a:xfrm>
        </p:grpSpPr>
        <p:sp>
          <p:nvSpPr>
            <p:cNvPr id="76" name="Line 13"/>
            <p:cNvSpPr/>
            <p:nvPr/>
          </p:nvSpPr>
          <p:spPr>
            <a:xfrm>
              <a:off x="5867280" y="5334120"/>
              <a:ext cx="2133360" cy="990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4"/>
            <p:cNvSpPr/>
            <p:nvPr/>
          </p:nvSpPr>
          <p:spPr>
            <a:xfrm flipH="1">
              <a:off x="6091560" y="5334120"/>
              <a:ext cx="1796400" cy="990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3T21:23:26Z</dcterms:created>
  <dc:creator>cfisd</dc:creator>
  <dc:description/>
  <dc:language>en-US</dc:language>
  <cp:lastModifiedBy>cfisd</cp:lastModifiedBy>
  <dcterms:modified xsi:type="dcterms:W3CDTF">2008-11-03T21:23:34Z</dcterms:modified>
  <cp:revision>1</cp:revision>
  <dc:subject/>
  <dc:title>Break of Bulk</dc:title>
</cp:coreProperties>
</file>