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81424-1234-49D2-A996-824AF30D4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FD2AD-54A7-48C3-8D9A-938009989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E1E03-E119-4B81-BFCF-EF67A525C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8F6EB-3285-4F3D-9C0C-2C715305B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10E25-DA60-4BB3-896A-A635BD61A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67C4D-14BE-492A-B6BC-6D300EB6A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37526-8820-49A1-B198-F5C2ECDA2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DE724-E324-4788-A3AF-EBE3993B4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0EF0C-7F47-4D1D-BD86-2220C55BF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DDB2F-F582-487F-BBCB-1B1E68C8D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79D2-A7A7-4C80-96E0-22B577E07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A32A-40E7-4510-9B00-0092500D4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CDEA-2E2F-4E0E-8DAD-C5E429EE0C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2" name=""/>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ncouraged the initial process of deforestation and are in favor of developing the rainfore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2T14:12:33Z</dcterms:modified>
  <cp:revision>2</cp:revision>
  <dc:subject/>
  <dc:title>Slide 1</dc:title>
</cp:coreProperties>
</file>