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715308-8E7A-4721-A6F6-8969D835C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6DA2B-6928-4C50-862F-D9FADF9E5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B537E1-E002-4EA5-899A-CB2BB2CA3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D82DD-CE14-4442-BB5C-F4F5D521C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DD9FF-682C-4462-8C19-404A427A3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EEA33-EBC1-44A7-8C6C-34B530B27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D02E7-356F-45CC-AF8F-2B6464F7F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D34AC-9A3F-4F2B-A2CD-17526C51F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0AA41-FED0-4C0B-A0A6-995F4DB99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D825C-2580-4D9D-8C69-9C0FB984C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137F0-159F-475B-9AA1-87918582B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A7B09-1007-4551-A63A-773B7E76A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FCD25-B863-4B12-BC46-C0BA6CBF91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Pha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an Ramchandani</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
        <p:nvSpPr>
          <p:cNvPr id="42" name=""/>
          <p:cNvSpPr txBox="1"/>
          <p:nvPr/>
        </p:nvSpPr>
        <p:spPr>
          <a:xfrm>
            <a:off x="1809720" y="495360"/>
            <a:ext cx="527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overnment Official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encouraged the initial process of deforestation and are in favor of developing the rainfores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changes that must be made, and are willing to be accepting to new “prime” sources of our econom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we are in charge of providing forms of infrastructure as well encouraging the action of settling in the rainforest, we cannot provide these necessities without the use of the rainforest, therefore the rainforest will either be of constant use, or our economy will suf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la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nderstand the seriousness of the situation (with the possibility of the rainforest being “used up” completely) and are prepared to take suggestions from the people of the country in order to allow different forms of economic benef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10:49Z</dcterms:created>
  <dc:creator>cfisd</dc:creator>
  <dc:description/>
  <dc:language>en-US</dc:language>
  <cp:lastModifiedBy>cfisd</cp:lastModifiedBy>
  <dcterms:modified xsi:type="dcterms:W3CDTF">2009-01-22T14:12:33Z</dcterms:modified>
  <cp:revision>2</cp:revision>
  <dc:subject/>
  <dc:title>Slide 1</dc:title>
</cp:coreProperties>
</file>