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9FFA6-A736-4839-99AD-954F09758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CF675-F9FB-44B0-87BA-70B60EB62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92297-8140-4D78-8004-BFB0F37EA1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1FEAC-67BB-49C0-9612-E38978E523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3B1B9-A27B-494E-BFD6-0BF176A07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7148B-E567-4CF5-A65E-27972B040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2A47C-5678-4F6C-9EE4-2EDC90ED1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9DD31-42EB-4F34-8600-11193D6D8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22CA2-AED9-4111-95B4-EDF61903A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A1693-3A19-4D51-B460-B6ACB4AB8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90095-E6CD-4A32-A4D1-8D5D622CF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03878-0921-4CBB-B3AD-04B11AE79D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8CD5F-260B-4D7B-8A42-F6AF69BA86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remy Phan</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an Ramchandani</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y Vu</a:t>
            </a:r>
            <a:endParaRPr b="0" lang="en-US" sz="3200" spc="-1" strike="noStrike">
              <a:solidFill>
                <a:srgbClr val="000000"/>
              </a:solidFill>
              <a:latin typeface="Arial"/>
            </a:endParaRPr>
          </a:p>
        </p:txBody>
      </p:sp>
      <p:sp>
        <p:nvSpPr>
          <p:cNvPr id="42" name="WordArt 4"/>
          <p:cNvSpPr txBox="1"/>
          <p:nvPr/>
        </p:nvSpPr>
        <p:spPr>
          <a:xfrm>
            <a:off x="1809720" y="495360"/>
            <a:ext cx="5276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overnment Official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Argumen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encouraged the initial process of deforestation and are in favor of developing the rainfor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Reason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we are the officials of the government, a few of our reasons for using the rainforest for economic development ar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he excess of rainforest land in order to develop airports for tourism and the ability of trade with the help of infrastructur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use the coastal areas of the rainforest in order to create ports which can be used to manage the imports and exports that relate to the region in which the port exist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establish a sense of road-ways so the idea of break-of-bulk can be carried out to its full extent with the option of multiple routes in order for “deliveries” and jobs to be comple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osi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nderstand the changes that must be made, and are willing to be accepting to new “prime” sources of our econom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we are in charge of providing forms of infrastructure as well encouraging the action of settling in the rainforest, we cannot provide these necessities without the use of the rainforest, therefore the rainforest will either be of constant use, or our economy will suf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la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understand the seriousness of the situation (with the possibility of the rainforest being “used up” completely) and are prepared to take suggestions from the people of the country in order to allow different forms of economic benef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2T14:10:49Z</dcterms:created>
  <dc:creator>cfisd</dc:creator>
  <dc:description/>
  <dc:language>en-US</dc:language>
  <cp:lastModifiedBy>cfisd</cp:lastModifiedBy>
  <dcterms:modified xsi:type="dcterms:W3CDTF">2009-01-23T14:14:34Z</dcterms:modified>
  <cp:revision>3</cp:revision>
  <dc:subject/>
  <dc:title>Slide 1</dc:title>
</cp:coreProperties>
</file>