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D5302-868C-436D-AFAE-1752E5FBA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98D0-A979-4F96-A963-E3CECD86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5AAFF-B8EF-46A4-8589-9924FCA61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7F10E-9B92-4D93-9507-512922A1E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4B12-B5DB-489B-9DA0-C59C9E618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0709-5128-42E3-B212-B51E8FB0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022AE-81E3-4BA0-B64B-5296DEC1C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F9826-CC60-46D7-B967-AF4E5DE8A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4FC5A-9B23-42DA-9B1C-2C796D53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5D26-3512-44D5-8EB9-70A9BF879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CA2E-BF1C-4198-953D-93020905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0F4D-F178-4067-A3F7-EEDA93F5A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0F75-DB85-4ADE-B28F-059236294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3T14:14:34Z</dcterms:modified>
  <cp:revision>3</cp:revision>
  <dc:subject/>
  <dc:title>Slide 1</dc:title>
</cp:coreProperties>
</file>