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7ED21D-F484-4D51-8BFA-ED0CC133C0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CE08A-6CE4-4CCF-8D65-232328434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BE5C4-4B83-4A56-8442-7A4A47B83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672AC-BE64-4E7D-962C-78C5A8946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29CE2-5581-4737-B05F-CD4F7948B3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68FE7-413A-435E-9C20-9E01647B7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B0AD3-081E-410F-BA08-1761F8B19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33082-2CB3-413B-A1CE-27D185881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530A2-047C-4C23-B19B-89B29619F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7D9EB-2652-4343-887A-B711595BC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392C8-B10D-4643-BFC5-395C8A4DC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75F51-5754-4DFB-B8B4-964A5CF65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7931-F066-4D03-A111-8A7E383DD4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3T14:14:34Z</dcterms:modified>
  <cp:revision>3</cp:revision>
  <dc:subject/>
  <dc:title>Slide 1</dc:title>
</cp:coreProperties>
</file>