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.wmf" ContentType="image/x-wmf"/>
  <Override PartName="/ppt/media/image3.gif" ContentType="image/gif"/>
  <Override PartName="/ppt/media/image4.png" ContentType="image/png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E163-2B0D-48F7-89B8-88C64C1FE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BC99-6FA6-440B-8DFD-57F9D7D301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893D-DD57-4D78-A63E-A039230ED1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A133-B214-465A-BDE2-3966E8D9B4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49F0-80EF-4C41-AA11-79A2A02A3A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817E-9E27-4B13-8753-3E0B6039676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4636-214F-4726-B8E2-94D7821ACE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FBB7-12A3-4418-9EFA-BA658E1316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2F55-0F09-44FE-867D-829BAE338E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59C4-1D65-4063-A97D-A1E0F76775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53DF-5DFD-4F99-B77A-76B5AB4074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5CB-BFDC-46D4-A2FF-A7960B79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DD24-78E5-40F4-A826-9C13892B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4865-17DB-4DAA-BF96-FB881AB5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D828-BE1A-4560-9301-A5B50FBA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2BF4-FDD5-46C4-BABC-DE681FF6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B8C8-88DD-47E1-B07C-9C9DFF071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DA34-2FC2-47C2-A719-EC429B61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F383-0B74-4457-8A8D-23B058776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311-739D-45B3-B4BF-C60B5676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37D6-AA77-4DB9-BCC7-88D844C3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A0FC-73D1-4BBC-9311-9C43C849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93B5-E0C2-4389-803E-2C643AB4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55C17-1A67-4806-B858-16866D3B2E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bsnews.com/stories/2006/04/13/60minutes/main1496589.shtml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cd.ecitizen.gov.sg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Population Growth in East and Southeast Asi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5" descr="MCj00787080000[1]"/>
          <p:cNvPicPr/>
          <p:nvPr/>
        </p:nvPicPr>
        <p:blipFill>
          <a:blip r:embed="rId2"/>
          <a:stretch/>
        </p:blipFill>
        <p:spPr>
          <a:xfrm>
            <a:off x="2286000" y="2286000"/>
            <a:ext cx="4280040" cy="4016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j0254488"/>
          <p:cNvPicPr/>
          <p:nvPr/>
        </p:nvPicPr>
        <p:blipFill>
          <a:blip r:embed="rId3"/>
          <a:stretch/>
        </p:blipFill>
        <p:spPr>
          <a:xfrm>
            <a:off x="76320" y="228600"/>
            <a:ext cx="1069920" cy="153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0254488"/>
          <p:cNvPicPr/>
          <p:nvPr/>
        </p:nvPicPr>
        <p:blipFill>
          <a:blip r:embed="rId4"/>
          <a:stretch/>
        </p:blipFill>
        <p:spPr>
          <a:xfrm>
            <a:off x="7997760" y="304920"/>
            <a:ext cx="106992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If you ignore the one child polic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229600" cy="3962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n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Fines can amount to 5%-10% of their income for up to ten yea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b Discrimina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They can also be denied job promotions and other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57200" y="5791320"/>
            <a:ext cx="78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Clip</a:t>
            </a:r>
            <a:r>
              <a:rPr b="0" lang="en-US" sz="4000" spc="-1" strike="noStrike" u="sng">
                <a:solidFill>
                  <a:srgbClr val="e5ffff"/>
                </a:solidFill>
                <a:uFillTx/>
                <a:latin typeface="Tahoma"/>
              </a:rPr>
              <a:t> – Effects of China’s One Child Polic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a list of the positive and negative effects of China’s One Child Polic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TIVE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3886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GATIVE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3733920"/>
            <a:ext cx="0" cy="2743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4648320"/>
            <a:ext cx="7162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Do a Good Job in Family Planning to Promote Economic Development, 1986"/>
          <p:cNvPicPr/>
          <p:nvPr/>
        </p:nvPicPr>
        <p:blipFill>
          <a:blip r:embed="rId2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0" y="4343400"/>
            <a:ext cx="9144000" cy="2022480"/>
          </a:xfrm>
          <a:prstGeom prst="rect">
            <a:avLst/>
          </a:prstGeom>
          <a:solidFill>
            <a:srgbClr val="0099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 a good job in family planning to promote economic development.  (198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One Child Policy helped China increase its economic grow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rcRect l="47002" t="22016" r="20937" b="13540"/>
          <a:stretch/>
        </p:blipFill>
        <p:spPr>
          <a:xfrm>
            <a:off x="3075120" y="0"/>
            <a:ext cx="60688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52280" y="762120"/>
            <a:ext cx="26672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 Graying Pop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Japan 2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-127,433,494 (est. July, 2007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Population Pyramid for Japan: 2000"/>
          <p:cNvPicPr/>
          <p:nvPr/>
        </p:nvPicPr>
        <p:blipFill>
          <a:blip r:embed="rId2"/>
          <a:stretch/>
        </p:blipFill>
        <p:spPr>
          <a:xfrm>
            <a:off x="380880" y="2322360"/>
            <a:ext cx="87631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078440" y="762120"/>
            <a:ext cx="5065560" cy="55623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33520" y="609480"/>
            <a:ext cx="2361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228600"/>
            <a:ext cx="3657600" cy="59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a result of healthier diets and lifestyles, Japanese live longer than most of the world's peopl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fact, combined with the trend towards families having fewer children means that Japan is "graying.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y 2020, as the chart to the right shows, over one quarter of Japanese will be over age 65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304920" y="380880"/>
            <a:ext cx="8381880" cy="2057400"/>
          </a:xfrm>
          <a:prstGeom prst="rect">
            <a:avLst/>
          </a:prstGeom>
          <a:solidFill>
            <a:srgbClr val="ffffff"/>
          </a:solidFill>
          <a:ln w="381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Tahoma"/>
              </a:rPr>
              <a:t>Japan’s Problem – population growth rate has sharply declined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914400"/>
            <a:ext cx="7238880" cy="5029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trategies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ngel Pla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(1994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Free health care until the child enters schoo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Women receive $5,000 dollars for having their fourth chil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8229600" y="609480"/>
            <a:ext cx="0" cy="5181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ther Strategi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33530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 Government provides the following when the kids turn 3,5, and 7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duced land and house pric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9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sh to par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22254" t="15627" r="10980" b="10420"/>
          <a:stretch/>
        </p:blipFill>
        <p:spPr>
          <a:xfrm>
            <a:off x="0" y="1163520"/>
            <a:ext cx="9144000" cy="5694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228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GAPORE – Graying Popu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5715000"/>
            <a:ext cx="914400" cy="5335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ingapore 2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-4,553,009 (est. July, 2007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4" descr="Population Pyramid for Singapore: 2000"/>
          <p:cNvPicPr/>
          <p:nvPr/>
        </p:nvPicPr>
        <p:blipFill>
          <a:blip r:embed="rId2"/>
          <a:stretch/>
        </p:blipFill>
        <p:spPr>
          <a:xfrm>
            <a:off x="457200" y="1828800"/>
            <a:ext cx="7924680" cy="46656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solidFill>
            <a:srgbClr val="ffffff"/>
          </a:solidFill>
          <a:ln w="2844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b5481"/>
                </a:solidFill>
                <a:latin typeface="Arial"/>
              </a:rPr>
              <a:t>Problem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- The birthrate in Singapore is extremely 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Table of Contents – SE Asi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4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so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munis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pu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/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verpopulation/Graying Popul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28600" y="1600200"/>
            <a:ext cx="8763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rcRect l="28112" t="29168" r="6882" b="15627"/>
          <a:stretch/>
        </p:blipFill>
        <p:spPr>
          <a:xfrm>
            <a:off x="0" y="2492280"/>
            <a:ext cx="9144000" cy="4365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4920" y="228600"/>
            <a:ext cx="883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ingapore is a tiny urban island with heavy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No farmin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mports all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240" y="1295280"/>
            <a:ext cx="8001000" cy="274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Government programs to increase the birthrate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 Programs that encourage marriag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 Provides tips on dating, how to act in a relationshi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Singapore’s Pla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rec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Complete the notes on your chart – Do Japan and Singapo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Complete the box on your purple packet for “Populatio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Finish your packet, it is due tomorrow.  Don’t do the conclusion part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1405080"/>
            <a:ext cx="9144000" cy="545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352680" y="3049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-up part 2: Why is overpopulation negativ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6765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2743200" cy="2113200"/>
          </a:xfrm>
          <a:prstGeom prst="rect">
            <a:avLst/>
          </a:prstGeom>
          <a:solidFill>
            <a:srgbClr val="e5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Arial"/>
              </a:rPr>
              <a:t>Direction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5481"/>
                </a:solidFill>
                <a:latin typeface="Arial"/>
              </a:rPr>
              <a:t>Record your answer on your Overpopulation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57200" y="533520"/>
          <a:ext cx="8153280" cy="5790960"/>
        </p:xfrm>
        <a:graphic>
          <a:graphicData uri="http://schemas.openxmlformats.org/drawingml/2006/table">
            <a:tbl>
              <a:tblPr/>
              <a:tblGrid>
                <a:gridCol w="1841400"/>
                <a:gridCol w="2654280"/>
                <a:gridCol w="3657600"/>
              </a:tblGrid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pulation Probl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eir Pl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ingapor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543800" y="228600"/>
            <a:ext cx="16002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5481"/>
                </a:solidFill>
                <a:latin typeface="Arial"/>
              </a:rPr>
              <a:t>COPY THIS CHART</a:t>
            </a:r>
            <a:r>
              <a:rPr b="1" lang="en-US" sz="1800" spc="-1" strike="noStrike">
                <a:solidFill>
                  <a:srgbClr val="2b548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a - Overpopul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4" descr="j0215093"/>
          <p:cNvPicPr/>
          <p:nvPr/>
        </p:nvPicPr>
        <p:blipFill>
          <a:blip r:embed="rId2"/>
          <a:stretch/>
        </p:blipFill>
        <p:spPr>
          <a:xfrm>
            <a:off x="228600" y="1676520"/>
            <a:ext cx="2903400" cy="1877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j0324212"/>
          <p:cNvPicPr/>
          <p:nvPr/>
        </p:nvPicPr>
        <p:blipFill>
          <a:blip r:embed="rId3"/>
          <a:stretch/>
        </p:blipFill>
        <p:spPr>
          <a:xfrm>
            <a:off x="6934320" y="304920"/>
            <a:ext cx="1631880" cy="1825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MCTR00518_0000[1]"/>
          <p:cNvPicPr/>
          <p:nvPr/>
        </p:nvPicPr>
        <p:blipFill>
          <a:blip r:embed="rId4"/>
          <a:stretch/>
        </p:blipFill>
        <p:spPr>
          <a:xfrm>
            <a:off x="5773680" y="4356000"/>
            <a:ext cx="1787760" cy="1487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MCFL00164_0000[1]"/>
          <p:cNvPicPr/>
          <p:nvPr/>
        </p:nvPicPr>
        <p:blipFill>
          <a:blip r:embed="rId5"/>
          <a:stretch/>
        </p:blipFill>
        <p:spPr>
          <a:xfrm>
            <a:off x="3505320" y="1828800"/>
            <a:ext cx="3205080" cy="2260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MCj03644720000[1]"/>
          <p:cNvPicPr/>
          <p:nvPr/>
        </p:nvPicPr>
        <p:blipFill>
          <a:blip r:embed="rId6"/>
          <a:stretch/>
        </p:blipFill>
        <p:spPr>
          <a:xfrm>
            <a:off x="1563840" y="4371840"/>
            <a:ext cx="182376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032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6"/>
          <p:cNvSpPr/>
          <p:nvPr/>
        </p:nvSpPr>
        <p:spPr>
          <a:xfrm>
            <a:off x="4114800" y="2971800"/>
            <a:ext cx="4495680" cy="25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b5481"/>
                </a:solidFill>
                <a:latin typeface="Arial"/>
              </a:rPr>
              <a:t>Problem - </a:t>
            </a:r>
            <a:r>
              <a:rPr b="1" lang="en-US" sz="4000" spc="-1" strike="noStrike">
                <a:solidFill>
                  <a:srgbClr val="2b5481"/>
                </a:solidFill>
                <a:latin typeface="Arial"/>
              </a:rPr>
              <a:t>China has major overpopulation problems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0"/>
          <p:cNvSpPr/>
          <p:nvPr/>
        </p:nvSpPr>
        <p:spPr>
          <a:xfrm flipV="1">
            <a:off x="8991720" y="533520"/>
            <a:ext cx="0" cy="5943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a’s Plan – One Child Polic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1828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One child polic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rban families can have one chi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ral families can have tw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1905120"/>
            <a:ext cx="73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Chinese government acted forcefully to reduce the number of children in Chi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hina 2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pulation- 1,321,851,888 (est. July 2007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4" descr="Population Pyramid for China: 2000"/>
          <p:cNvPicPr/>
          <p:nvPr/>
        </p:nvPicPr>
        <p:blipFill>
          <a:blip r:embed="rId2"/>
          <a:stretch/>
        </p:blipFill>
        <p:spPr>
          <a:xfrm>
            <a:off x="228600" y="2057400"/>
            <a:ext cx="8610480" cy="4313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228600"/>
            <a:ext cx="3810240" cy="2297880"/>
          </a:xfrm>
          <a:prstGeom prst="rect">
            <a:avLst/>
          </a:prstGeom>
          <a:solidFill>
            <a:srgbClr val="ffffff"/>
          </a:solidFill>
          <a:ln w="93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One Child Policy is enacted in 1979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- Check out it’s initial effec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447560" y="2209680"/>
            <a:ext cx="1447560" cy="2819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152280"/>
            <a:ext cx="3581280" cy="2531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b54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5481"/>
                </a:solidFill>
                <a:latin typeface="Arial"/>
              </a:rPr>
              <a:t>Introduction of the Free Market System has also reduced the birthrat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2286000"/>
            <a:ext cx="304920" cy="3200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One Child Policy – Benefits, if you follow i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5053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Provides 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Pension – money and financial subsid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Free education, better hous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Family benefits like lower health care cos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21:03Z</dcterms:created>
  <dc:creator>Admin</dc:creator>
  <dc:description/>
  <dc:language>en-US</dc:language>
  <cp:lastModifiedBy>CFISD</cp:lastModifiedBy>
  <dcterms:modified xsi:type="dcterms:W3CDTF">2009-04-22T16:42:12Z</dcterms:modified>
  <cp:revision>68</cp:revision>
  <dc:subject/>
  <dc:title>Population comparisons</dc:title>
</cp:coreProperties>
</file>