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wmf" ContentType="image/x-wmf"/>
  <Override PartName="/ppt/media/image3.gif" ContentType="image/gif"/>
  <Override PartName="/ppt/media/image4.png" ContentType="image/png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7AE6-B270-4DD8-B8F0-709FBCA3C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0228-0BB7-4D57-915E-F999AA1583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9DCD-0F00-4DE8-9203-4CFDBAD119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69B1-81A2-43C9-917B-E2CC3CF909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A98F-30D5-49D8-97B8-158C79D7CB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E504-5B45-4D7E-A442-624855FC7F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B2A8-CED5-4CA5-984B-AFB030F498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D0DF-8AFF-4A2C-893B-93A6EFA5F4C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D865-FC7F-4156-9BEA-94B28BBAEE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CD63-4C8E-4004-AE59-E72C2A389D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3A85-921C-4566-ADAB-0D8934440A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293-0F2A-44FC-A9D0-331CC100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D9CA-19E0-43AF-B635-95BF3026A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362C-5667-4C0E-8F07-23276B14C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4EED-0188-4BFF-BB33-A5B74CEF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7187-0210-4E37-992A-29D7E21C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D75A-B50E-4F48-BB19-45C969FC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36D-0C7B-40C4-8484-AE56091F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50D-F922-4865-BC1E-B48FD2C3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D04-EE04-4F7E-960E-73ECECAC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85B-D755-4E99-A3CE-84AF0B38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2871-083B-4C42-B359-9C46A882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2B1D-F387-4A51-87FC-3E4DAA61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BE89-958F-4CA6-AC85-FD6F5567A2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bsnews.com/stories/2006/04/13/60minutes/main1496589.s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cd.ecitizen.gov.sg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opulation Growth in East and Southeast As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5" descr="MCj00787080000[1]"/>
          <p:cNvPicPr/>
          <p:nvPr/>
        </p:nvPicPr>
        <p:blipFill>
          <a:blip r:embed="rId2"/>
          <a:stretch/>
        </p:blipFill>
        <p:spPr>
          <a:xfrm>
            <a:off x="2286000" y="2286000"/>
            <a:ext cx="4280040" cy="401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j0254488"/>
          <p:cNvPicPr/>
          <p:nvPr/>
        </p:nvPicPr>
        <p:blipFill>
          <a:blip r:embed="rId3"/>
          <a:stretch/>
        </p:blipFill>
        <p:spPr>
          <a:xfrm>
            <a:off x="76320" y="228600"/>
            <a:ext cx="1069920" cy="153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254488"/>
          <p:cNvPicPr/>
          <p:nvPr/>
        </p:nvPicPr>
        <p:blipFill>
          <a:blip r:embed="rId4"/>
          <a:stretch/>
        </p:blipFill>
        <p:spPr>
          <a:xfrm>
            <a:off x="7997760" y="304920"/>
            <a:ext cx="106992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If you ignore the one child poli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396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Fines can amount to 5%-10% of their income for up to ten yea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b Discrimi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hey can also be denied job promotions and other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57200" y="5791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Clip</a:t>
            </a: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 – Effects of China’s One Child Poli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list of the positive and negative effects of China’s One Child Polic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ATIV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373392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64832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o a Good Job in Family Planning to Promote Economic Development, 1986"/>
          <p:cNvPicPr/>
          <p:nvPr/>
        </p:nvPicPr>
        <p:blipFill>
          <a:blip r:embed="rId2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0" y="4343400"/>
            <a:ext cx="9144000" cy="202248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a good job in family planning to promote economic development.  (198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One Child Policy helped China increase its economic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47002" t="22016" r="20937" b="13540"/>
          <a:stretch/>
        </p:blipFill>
        <p:spPr>
          <a:xfrm>
            <a:off x="3075120" y="0"/>
            <a:ext cx="60688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762120"/>
            <a:ext cx="26672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Graying Pop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pan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127,433,494 (est. July,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Population Pyramid for Japan: 2000"/>
          <p:cNvPicPr/>
          <p:nvPr/>
        </p:nvPicPr>
        <p:blipFill>
          <a:blip r:embed="rId2"/>
          <a:stretch/>
        </p:blipFill>
        <p:spPr>
          <a:xfrm>
            <a:off x="380880" y="2322360"/>
            <a:ext cx="87631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078440" y="762120"/>
            <a:ext cx="5065560" cy="5562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3520" y="60948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28600"/>
            <a:ext cx="365760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a result of healthier diets and lifestyles, Japanese live longer than most of the world's peop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fact, combined with the trend towards families having fewer children means that Japan is "graying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2020, as the chart to the right shows, over one quarter of Japanese will be over age 65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04920" y="380880"/>
            <a:ext cx="83818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Japan’s Problem – population growth rate has sharply declined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7238880" cy="5029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ategies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ngel Pla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1994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Free health care until the child enters scho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Women receive $5,000 dollars for having their fourth chi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8229600" y="609480"/>
            <a:ext cx="0" cy="518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ther Strateg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 Government provides the following when the kids turn 3,5, and 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duced land and house pri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sh to par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22254" t="15627" r="10980" b="10420"/>
          <a:stretch/>
        </p:blipFill>
        <p:spPr>
          <a:xfrm>
            <a:off x="0" y="116352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GAPORE – Graying Pop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715000"/>
            <a:ext cx="91440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ngapore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4,553,009 (est. July, 2007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Population Pyramid for Singapore: 2000"/>
          <p:cNvPicPr/>
          <p:nvPr/>
        </p:nvPicPr>
        <p:blipFill>
          <a:blip r:embed="rId2"/>
          <a:stretch/>
        </p:blipFill>
        <p:spPr>
          <a:xfrm>
            <a:off x="457200" y="1828800"/>
            <a:ext cx="7924680" cy="46656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solidFill>
            <a:srgbClr val="ffffff"/>
          </a:solidFill>
          <a:ln w="2844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481"/>
                </a:solidFill>
                <a:latin typeface="Arial"/>
              </a:rPr>
              <a:t>Problem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- The birthrate in Singapore is extremely 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able of Contents – SE As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mun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pu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rcRect l="28112" t="29168" r="6882" b="15627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22860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ngapore is a tiny urban island with heavy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No farmin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mports all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0010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overnment programs to increase the birthrat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Programs that encourage marria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Provides tips on dating, how to act in a relationshi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Singapore’s P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Complete the notes on your chart – Do Japan and Singap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Complete the box on your purple packet for “Populati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Finish your packet, it is due tomorrow.  Don’t do the conclusion par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352680" y="3049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-up part 2: Why is overpopulation negativ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6765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2743200" cy="211320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Arial"/>
              </a:rPr>
              <a:t>Direc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Arial"/>
              </a:rPr>
              <a:t>Record your answer on your Overpopulation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57200" y="533520"/>
          <a:ext cx="8153280" cy="5790960"/>
        </p:xfrm>
        <a:graphic>
          <a:graphicData uri="http://schemas.openxmlformats.org/drawingml/2006/table">
            <a:tbl>
              <a:tblPr/>
              <a:tblGrid>
                <a:gridCol w="1841400"/>
                <a:gridCol w="2654280"/>
                <a:gridCol w="3657600"/>
              </a:tblGrid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pulation Probl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ir P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gap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543800" y="228600"/>
            <a:ext cx="1600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Arial"/>
              </a:rPr>
              <a:t>COPY THIS CHART</a:t>
            </a:r>
            <a:r>
              <a:rPr b="1" lang="en-US" sz="1800" spc="-1" strike="noStrike">
                <a:solidFill>
                  <a:srgbClr val="2b548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 - Overpopul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4" descr="j0215093"/>
          <p:cNvPicPr/>
          <p:nvPr/>
        </p:nvPicPr>
        <p:blipFill>
          <a:blip r:embed="rId2"/>
          <a:stretch/>
        </p:blipFill>
        <p:spPr>
          <a:xfrm>
            <a:off x="228600" y="1676520"/>
            <a:ext cx="2903400" cy="187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j0324212"/>
          <p:cNvPicPr/>
          <p:nvPr/>
        </p:nvPicPr>
        <p:blipFill>
          <a:blip r:embed="rId3"/>
          <a:stretch/>
        </p:blipFill>
        <p:spPr>
          <a:xfrm>
            <a:off x="6934320" y="304920"/>
            <a:ext cx="1631880" cy="1825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MCTR00518_0000[1]"/>
          <p:cNvPicPr/>
          <p:nvPr/>
        </p:nvPicPr>
        <p:blipFill>
          <a:blip r:embed="rId4"/>
          <a:stretch/>
        </p:blipFill>
        <p:spPr>
          <a:xfrm>
            <a:off x="5773680" y="4356000"/>
            <a:ext cx="1787760" cy="1487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MCFL00164_0000[1]"/>
          <p:cNvPicPr/>
          <p:nvPr/>
        </p:nvPicPr>
        <p:blipFill>
          <a:blip r:embed="rId5"/>
          <a:stretch/>
        </p:blipFill>
        <p:spPr>
          <a:xfrm>
            <a:off x="3505320" y="1828800"/>
            <a:ext cx="3205080" cy="2260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MCj03644720000[1]"/>
          <p:cNvPicPr/>
          <p:nvPr/>
        </p:nvPicPr>
        <p:blipFill>
          <a:blip r:embed="rId6"/>
          <a:stretch/>
        </p:blipFill>
        <p:spPr>
          <a:xfrm>
            <a:off x="1563840" y="4371840"/>
            <a:ext cx="182376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32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4114800" y="2971800"/>
            <a:ext cx="4495680" cy="25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Arial"/>
              </a:rPr>
              <a:t>Problem - </a:t>
            </a:r>
            <a:r>
              <a:rPr b="1" lang="en-US" sz="4000" spc="-1" strike="noStrike">
                <a:solidFill>
                  <a:srgbClr val="2b5481"/>
                </a:solidFill>
                <a:latin typeface="Arial"/>
              </a:rPr>
              <a:t>China has major overpopulation problem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 flipV="1">
            <a:off x="8991720" y="533520"/>
            <a:ext cx="0" cy="5943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’s Plan – One Child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1828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ne child polic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ban families can have one chi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ral families can have tw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9051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hinese government acted forcefully to reduce the number of children in Ch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 1,321,851,888 (est. July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Population Pyramid for China: 2000"/>
          <p:cNvPicPr/>
          <p:nvPr/>
        </p:nvPicPr>
        <p:blipFill>
          <a:blip r:embed="rId2"/>
          <a:stretch/>
        </p:blipFill>
        <p:spPr>
          <a:xfrm>
            <a:off x="228600" y="2057400"/>
            <a:ext cx="8610480" cy="4313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228600"/>
            <a:ext cx="3810240" cy="229788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One Child Policy is enacted in 1979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- Check out it’s initial effec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47560" y="2209680"/>
            <a:ext cx="1447560" cy="2819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52280"/>
            <a:ext cx="3581280" cy="253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Introduction of the Free Market System has also reduced the birthra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2286000"/>
            <a:ext cx="30492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e Child Policy – Benefits, if you follow i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05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vides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Pension – money and financial subsid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Free education, better hous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Family benefits like lower health care cos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21:03Z</dcterms:created>
  <dc:creator>Admin</dc:creator>
  <dc:description/>
  <dc:language>en-US</dc:language>
  <cp:lastModifiedBy>CFISD</cp:lastModifiedBy>
  <dcterms:modified xsi:type="dcterms:W3CDTF">2009-04-22T16:42:12Z</dcterms:modified>
  <cp:revision>68</cp:revision>
  <dc:subject/>
  <dc:title>Population comparisons</dc:title>
</cp:coreProperties>
</file>