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3791-7E93-49F9-8900-23661156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FE08-A24D-4D60-B90A-C951B5EF2E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5027-8833-442F-B7B6-81944CE6AB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A881-2D40-4F75-ABAF-250961F4C5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C5A-BE0C-4C81-B9ED-51B19206E0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F61-77A7-4E64-9818-83C280C75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FEE3-423F-4B13-9BC1-AFE23FE9EB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2B8-86BA-4868-BB2B-C376965DC0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96D9-2D91-4F5F-AA3F-7C07D4CA7A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FBE-AB8A-42A5-A442-9A17ADE26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9247-5AE3-4A45-8A9D-40BC47303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AD7-0767-403F-AF76-00F4C7F4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C67-8D1A-4400-876B-C6D536E2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A38-7124-4048-9A8C-4EF52030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E8E-EED8-452C-A3F1-4768975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275-D690-4AB8-90A2-DCD9B05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8F7-49C9-46C6-8CC5-A65F6BF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8D3-B2AE-402B-96A0-B24CE0E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6B9-30F4-4B97-AE79-7AADFEE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56B-8ED2-4EB7-942E-7F00625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308-EEBB-4362-8762-2496D9E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37B-DCF4-4394-A240-121852E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B79-E13B-4583-ABC8-EB33C36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596C-FDC1-495E-ABCD-464AE64EA7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bsnews.com/stories/2006/04/13/60minutes/main1496589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d.ecitizen.gov.s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pulation Growth in East and Southeast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MCj00787080000[1]"/>
          <p:cNvPicPr/>
          <p:nvPr/>
        </p:nvPicPr>
        <p:blipFill>
          <a:blip r:embed="rId2"/>
          <a:stretch/>
        </p:blipFill>
        <p:spPr>
          <a:xfrm>
            <a:off x="2286000" y="2286000"/>
            <a:ext cx="4280040" cy="401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254488"/>
          <p:cNvPicPr/>
          <p:nvPr/>
        </p:nvPicPr>
        <p:blipFill>
          <a:blip r:embed="rId3"/>
          <a:stretch/>
        </p:blipFill>
        <p:spPr>
          <a:xfrm>
            <a:off x="76320" y="228600"/>
            <a:ext cx="1069920" cy="153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54488"/>
          <p:cNvPicPr/>
          <p:nvPr/>
        </p:nvPicPr>
        <p:blipFill>
          <a:blip r:embed="rId4"/>
          <a:stretch/>
        </p:blipFill>
        <p:spPr>
          <a:xfrm>
            <a:off x="7997760" y="304920"/>
            <a:ext cx="10699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f you ignore the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nes can amount to 5%-10% of their income for up to ten yea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cr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also be denied job promotions and other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5791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lip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 – Effects of China’s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list of the positive and negative effects of China’s One Child Poli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7339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6483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o a Good Job in Family Planning to Promote Economic Development, 1986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4343400"/>
            <a:ext cx="9144000" cy="20224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a good job in family planning to promote economic development.  (19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One Child Policy helped China increase its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7002" t="22016" r="20937" b="1354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762120"/>
            <a:ext cx="266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pan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127,433,494 (est. July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pulation Pyramid for Japan: 2000"/>
          <p:cNvPicPr/>
          <p:nvPr/>
        </p:nvPicPr>
        <p:blipFill>
          <a:blip r:embed="rId2"/>
          <a:stretch/>
        </p:blipFill>
        <p:spPr>
          <a:xfrm>
            <a:off x="380880" y="2322360"/>
            <a:ext cx="8763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78440" y="762120"/>
            <a:ext cx="50655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609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36576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 of healthier diets and lifestyles, Japanese live longer than most of the world's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fact, combined with the trend towards families having fewer children means that Japan is "graying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2020, as the chart to the right shows, over one quarter of Japanese will be over age 6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4920" y="380880"/>
            <a:ext cx="83818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apan’s Problem – population growth rate has sharply declined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7238880" cy="502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i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gel Pl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1994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Free health care until the child enters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Women receive $5,000 dollars for having their fourth ch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8229600" y="609480"/>
            <a:ext cx="0" cy="518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her Strateg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Government provides the following when the kids turn 3,5, and 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duced land and house pri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sh to par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2254" t="15627" r="10980" b="10420"/>
          <a:stretch/>
        </p:blipFill>
        <p:spPr>
          <a:xfrm>
            <a:off x="0" y="11635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APORE –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9144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gapore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4,553,009 (est. July, 2007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opulation Pyramid for Singapore: 2000"/>
          <p:cNvPicPr/>
          <p:nvPr/>
        </p:nvPicPr>
        <p:blipFill>
          <a:blip r:embed="rId2"/>
          <a:stretch/>
        </p:blipFill>
        <p:spPr>
          <a:xfrm>
            <a:off x="457200" y="1828800"/>
            <a:ext cx="7924680" cy="4665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481"/>
                </a:solidFill>
                <a:latin typeface="Arial"/>
              </a:rPr>
              <a:t>Problem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The birthrate in Singapore is extremely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ble of Contents – SE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28112" t="29168" r="6882" b="1562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gapore is a tiny urban island with heavy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far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orts all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programs to increase the birthr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ograms that encourage marri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Provides tips on dating, how to act in a relation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ngapore’s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mplete the notes on your chart – Do Japan and Singap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omplete the box on your purple packet for “Popul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Finish your packet, it is due tomorrow.  Don’t do the conclusion par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-up part 2: Why is overpopulation nega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43200" cy="21132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Record your answer on your Overpopulation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drawingml/2006/table">
            <a:tbl>
              <a:tblPr/>
              <a:tblGrid>
                <a:gridCol w="1841400"/>
                <a:gridCol w="2654280"/>
                <a:gridCol w="36576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 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ap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43800" y="228600"/>
            <a:ext cx="1600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Arial"/>
              </a:rPr>
              <a:t>COPY THIS CHART</a:t>
            </a: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- Overpop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j0215093"/>
          <p:cNvPicPr/>
          <p:nvPr/>
        </p:nvPicPr>
        <p:blipFill>
          <a:blip r:embed="rId2"/>
          <a:stretch/>
        </p:blipFill>
        <p:spPr>
          <a:xfrm>
            <a:off x="228600" y="1676520"/>
            <a:ext cx="29034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324212"/>
          <p:cNvPicPr/>
          <p:nvPr/>
        </p:nvPicPr>
        <p:blipFill>
          <a:blip r:embed="rId3"/>
          <a:stretch/>
        </p:blipFill>
        <p:spPr>
          <a:xfrm>
            <a:off x="6934320" y="304920"/>
            <a:ext cx="163188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TR00518_0000[1]"/>
          <p:cNvPicPr/>
          <p:nvPr/>
        </p:nvPicPr>
        <p:blipFill>
          <a:blip r:embed="rId4"/>
          <a:stretch/>
        </p:blipFill>
        <p:spPr>
          <a:xfrm>
            <a:off x="5773680" y="4356000"/>
            <a:ext cx="1787760" cy="14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CFL00164_0000[1]"/>
          <p:cNvPicPr/>
          <p:nvPr/>
        </p:nvPicPr>
        <p:blipFill>
          <a:blip r:embed="rId5"/>
          <a:stretch/>
        </p:blipFill>
        <p:spPr>
          <a:xfrm>
            <a:off x="3505320" y="1828800"/>
            <a:ext cx="320508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3644720000[1]"/>
          <p:cNvPicPr/>
          <p:nvPr/>
        </p:nvPicPr>
        <p:blipFill>
          <a:blip r:embed="rId6"/>
          <a:stretch/>
        </p:blipFill>
        <p:spPr>
          <a:xfrm>
            <a:off x="1563840" y="4371840"/>
            <a:ext cx="18237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114800" y="2971800"/>
            <a:ext cx="449568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Arial"/>
              </a:rPr>
              <a:t>Problem -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</a:rPr>
              <a:t>China has major overpopulation problem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8991720" y="533520"/>
            <a:ext cx="0" cy="594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’s Plan – One Child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child poli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families can have one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ral families can hav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nese government acted forcefully to reduce the number of children in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 1,321,851,888 (est. July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Population Pyramid for China: 2000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431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228600"/>
            <a:ext cx="381024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One Child Policy is enacted in 19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Check out it’s initial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560" y="2209680"/>
            <a:ext cx="144756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52280"/>
            <a:ext cx="35812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Introduction of the Free Market System has also reduced the birth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2286000"/>
            <a:ext cx="3049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e Child Policy – Benefits, if you follow 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ension – money and financial subsid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Free education, better hou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amily benefits like lower health care co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21:03Z</dcterms:created>
  <dc:creator>Admin</dc:creator>
  <dc:description/>
  <dc:language>en-US</dc:language>
  <cp:lastModifiedBy>CFISD</cp:lastModifiedBy>
  <dcterms:modified xsi:type="dcterms:W3CDTF">2009-04-22T16:42:12Z</dcterms:modified>
  <cp:revision>68</cp:revision>
  <dc:subject/>
  <dc:title>Population comparisons</dc:title>
</cp:coreProperties>
</file>