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51A-B143-4360-924E-855FE77C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E674-AB60-4626-8385-08A9D7A8D0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EBAF-90C6-4882-8E58-D6F8E502F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EA5D-1A95-4B2C-B864-76BEAC144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825C-3D52-46E3-803B-83740EC37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2B9-60BC-4369-8AE9-67C62B1C13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80F2-BCC0-4159-BD31-193AF6594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17FF-8900-4C6A-B261-8D1F033F24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4BFC-5231-4DE2-8C80-6B5CFA1036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B33-AE50-406A-BD79-7B7885A19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6F6-1CEF-48E9-B1DA-F27434342F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5BE-925A-454B-AFFB-D0567041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73E-701B-4228-8C3B-A7C1AE58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FC7-2740-41F2-98F9-FBC9609D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BC3-D9CD-4D4F-AC6F-9850C59D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4FA-F22D-473C-98F7-888B1A2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4A2-84B2-44A0-8EA5-20C2D8F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155-0B61-4B1E-B3D3-5D4DEF3D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78A-3E7D-44C9-9993-E1C2442B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3D02-03CE-48F2-A8EF-3AB2E302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677-07CE-47E7-A289-7B9CDFB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765-35B1-4B11-A4A2-901D8224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854-C9FE-486E-BF36-BD7D94E5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B6BB-97C0-407D-A8C1-074E9C5BDD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bsnews.com/stories/2006/04/13/60minutes/main1496589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d.ecitizen.gov.s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opulation Growth in East and Southeast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MCj00787080000[1]"/>
          <p:cNvPicPr/>
          <p:nvPr/>
        </p:nvPicPr>
        <p:blipFill>
          <a:blip r:embed="rId2"/>
          <a:stretch/>
        </p:blipFill>
        <p:spPr>
          <a:xfrm>
            <a:off x="2286000" y="2286000"/>
            <a:ext cx="4280040" cy="401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254488"/>
          <p:cNvPicPr/>
          <p:nvPr/>
        </p:nvPicPr>
        <p:blipFill>
          <a:blip r:embed="rId3"/>
          <a:stretch/>
        </p:blipFill>
        <p:spPr>
          <a:xfrm>
            <a:off x="76320" y="228600"/>
            <a:ext cx="1069920" cy="153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254488"/>
          <p:cNvPicPr/>
          <p:nvPr/>
        </p:nvPicPr>
        <p:blipFill>
          <a:blip r:embed="rId4"/>
          <a:stretch/>
        </p:blipFill>
        <p:spPr>
          <a:xfrm>
            <a:off x="7997760" y="304920"/>
            <a:ext cx="10699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f you ignore the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9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nes can amount to 5%-10% of their income for up to ten yea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cr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also be denied job promotions and other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5791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lip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 – Effects of China’s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list of the positive and negative effects of China’s One Child Poli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7339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6483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o a Good Job in Family Planning to Promote Economic Development, 1986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4343400"/>
            <a:ext cx="9144000" cy="20224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a good job in family planning to promote economic development.  (19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One Child Policy helped China increase its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7002" t="22016" r="20937" b="13540"/>
          <a:stretch/>
        </p:blipFill>
        <p:spPr>
          <a:xfrm>
            <a:off x="30751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762120"/>
            <a:ext cx="266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pan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127,433,494 (est. July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opulation Pyramid for Japan: 2000"/>
          <p:cNvPicPr/>
          <p:nvPr/>
        </p:nvPicPr>
        <p:blipFill>
          <a:blip r:embed="rId2"/>
          <a:stretch/>
        </p:blipFill>
        <p:spPr>
          <a:xfrm>
            <a:off x="380880" y="2322360"/>
            <a:ext cx="8763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78440" y="762120"/>
            <a:ext cx="50655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609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36576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 of healthier diets and lifestyles, Japanese live longer than most of the world's peo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fact, combined with the trend towards families having fewer children means that Japan is "graying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2020, as the chart to the right shows, over one quarter of Japanese will be over age 6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4920" y="380880"/>
            <a:ext cx="83818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Japan’s Problem – population growth rate has sharply declined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7238880" cy="502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tegies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gel Pl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1994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Free health care until the child enters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Women receive $5,000 dollars for having their fourth ch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8229600" y="609480"/>
            <a:ext cx="0" cy="518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her Strateg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Government provides the following when the kids turn 3,5, and 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duced land and house pri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sh to par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22254" t="15627" r="10980" b="10420"/>
          <a:stretch/>
        </p:blipFill>
        <p:spPr>
          <a:xfrm>
            <a:off x="0" y="11635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APORE –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9144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gapore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4,553,009 (est. July, 2007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opulation Pyramid for Singapore: 2000"/>
          <p:cNvPicPr/>
          <p:nvPr/>
        </p:nvPicPr>
        <p:blipFill>
          <a:blip r:embed="rId2"/>
          <a:stretch/>
        </p:blipFill>
        <p:spPr>
          <a:xfrm>
            <a:off x="457200" y="1828800"/>
            <a:ext cx="7924680" cy="4665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481"/>
                </a:solidFill>
                <a:latin typeface="Arial"/>
              </a:rPr>
              <a:t>Problem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The birthrate in Singapore is extremely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able of Contents – SE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28112" t="29168" r="6882" b="15627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286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gapore is a tiny urban island with heavy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far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orts all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01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programs to increase the birthr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ograms that encourage marri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Provides tips on dating, how to act in a relations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ngapore’s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mplete the notes on your chart – Do Japan and Singap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omplete the box on your purple packet for “Popul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Finish your packet, it is due tomorrow.  Don’t do the conclusion par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3049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-up part 2: Why is overpopulation negati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43200" cy="21132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Record your answer on your Overpopulation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33520"/>
          <a:ext cx="8153280" cy="5790960"/>
        </p:xfrm>
        <a:graphic>
          <a:graphicData uri="http://schemas.openxmlformats.org/drawingml/2006/table">
            <a:tbl>
              <a:tblPr/>
              <a:tblGrid>
                <a:gridCol w="1841400"/>
                <a:gridCol w="2654280"/>
                <a:gridCol w="36576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 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ap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543800" y="228600"/>
            <a:ext cx="1600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Arial"/>
              </a:rPr>
              <a:t>COPY THIS CHART</a:t>
            </a: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- Overpopu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j0215093"/>
          <p:cNvPicPr/>
          <p:nvPr/>
        </p:nvPicPr>
        <p:blipFill>
          <a:blip r:embed="rId2"/>
          <a:stretch/>
        </p:blipFill>
        <p:spPr>
          <a:xfrm>
            <a:off x="228600" y="1676520"/>
            <a:ext cx="29034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324212"/>
          <p:cNvPicPr/>
          <p:nvPr/>
        </p:nvPicPr>
        <p:blipFill>
          <a:blip r:embed="rId3"/>
          <a:stretch/>
        </p:blipFill>
        <p:spPr>
          <a:xfrm>
            <a:off x="6934320" y="304920"/>
            <a:ext cx="163188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TR00518_0000[1]"/>
          <p:cNvPicPr/>
          <p:nvPr/>
        </p:nvPicPr>
        <p:blipFill>
          <a:blip r:embed="rId4"/>
          <a:stretch/>
        </p:blipFill>
        <p:spPr>
          <a:xfrm>
            <a:off x="5773680" y="4356000"/>
            <a:ext cx="1787760" cy="14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CFL00164_0000[1]"/>
          <p:cNvPicPr/>
          <p:nvPr/>
        </p:nvPicPr>
        <p:blipFill>
          <a:blip r:embed="rId5"/>
          <a:stretch/>
        </p:blipFill>
        <p:spPr>
          <a:xfrm>
            <a:off x="3505320" y="1828800"/>
            <a:ext cx="3205080" cy="226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MCj03644720000[1]"/>
          <p:cNvPicPr/>
          <p:nvPr/>
        </p:nvPicPr>
        <p:blipFill>
          <a:blip r:embed="rId6"/>
          <a:stretch/>
        </p:blipFill>
        <p:spPr>
          <a:xfrm>
            <a:off x="1563840" y="4371840"/>
            <a:ext cx="18237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114800" y="2971800"/>
            <a:ext cx="4495680" cy="25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Arial"/>
              </a:rPr>
              <a:t>Problem -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</a:rPr>
              <a:t>China has major overpopulation problem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8991720" y="533520"/>
            <a:ext cx="0" cy="5943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’s Plan – One Child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828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child poli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families can have one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ral families can hav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9051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nese government acted forcefully to reduce the number of children in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 1,321,851,888 (est. July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Population Pyramid for China: 2000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431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228600"/>
            <a:ext cx="3810240" cy="2297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One Child Policy is enacted in 197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Check out it’s initial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47560" y="2209680"/>
            <a:ext cx="144756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52280"/>
            <a:ext cx="3581280" cy="253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Introduction of the Free Market System has also reduced the birth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2286000"/>
            <a:ext cx="30492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e Child Policy – Benefits, if you follow i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s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ension – money and financial subsid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Free education, better hou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amily benefits like lower health care co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21:03Z</dcterms:created>
  <dc:creator>Admin</dc:creator>
  <dc:description/>
  <dc:language>en-US</dc:language>
  <cp:lastModifiedBy>CFISD</cp:lastModifiedBy>
  <dcterms:modified xsi:type="dcterms:W3CDTF">2009-04-22T16:42:12Z</dcterms:modified>
  <cp:revision>68</cp:revision>
  <dc:subject/>
  <dc:title>Population comparisons</dc:title>
</cp:coreProperties>
</file>